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0B5-BA66-4198-AB40-4BA730DB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773-7205-43C7-A2C7-644B8287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D79-EAD0-4A3B-AE11-693FDBFC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C68-D101-4AE7-91CE-C15FBA6C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33B-12BB-4DB9-A115-F5A95D2B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BB0-811A-4E20-B14B-DC8019AD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808-9942-42C5-8C62-DACB8C3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C40-4E8D-4083-80ED-1FE3AD74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55D-9301-4E45-83BE-6BD6F0D3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30A-5923-44FA-8A04-87A537C3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F76-1583-4D5C-8138-C7A8FC7D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0F3-4444-4BD3-8AF9-7795356D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912F-BFEE-4437-99A4-4F6B87A99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07880" y="642960"/>
          <a:ext cx="86598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42960"/>
                    <a:ext cx="86598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1720" y="544680"/>
          <a:ext cx="83869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44680"/>
                    <a:ext cx="83869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53920" y="531720"/>
          <a:ext cx="752004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6520" y="581040"/>
          <a:ext cx="84121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81040"/>
                    <a:ext cx="84121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384120"/>
          <a:ext cx="839952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384120"/>
                    <a:ext cx="839952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619200"/>
          <a:ext cx="857268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19200"/>
                    <a:ext cx="857268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68160" y="619200"/>
          <a:ext cx="813924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19200"/>
                    <a:ext cx="813924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71520" y="333360"/>
          <a:ext cx="8683560" cy="69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333360"/>
                    <a:ext cx="8683560" cy="69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22200" y="506520"/>
          <a:ext cx="85838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506520"/>
                    <a:ext cx="85838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81040" y="531720"/>
          <a:ext cx="83502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44680" y="531720"/>
          <a:ext cx="859608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59608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581040"/>
          <a:ext cx="81882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1040"/>
                    <a:ext cx="81882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57280" y="420840"/>
          <a:ext cx="820080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20840"/>
                    <a:ext cx="820080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84120" y="420840"/>
          <a:ext cx="85964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20840"/>
                    <a:ext cx="85964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44680" y="568440"/>
          <a:ext cx="843588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68440"/>
                    <a:ext cx="843588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1720" y="692280"/>
          <a:ext cx="8386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92280"/>
                    <a:ext cx="8386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33360" y="557280"/>
          <a:ext cx="86234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557280"/>
                    <a:ext cx="86234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03240" y="70488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70488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3040" y="655560"/>
          <a:ext cx="798984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55560"/>
                    <a:ext cx="798984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6600" y="606600"/>
          <a:ext cx="83502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3502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04880" y="557280"/>
          <a:ext cx="8226360" cy="597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57280"/>
                    <a:ext cx="822636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6520" y="309600"/>
          <a:ext cx="828828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309600"/>
                    <a:ext cx="82882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766800"/>
          <a:ext cx="749628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66800"/>
                    <a:ext cx="749628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68160" y="531720"/>
          <a:ext cx="813924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31720"/>
                    <a:ext cx="81392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29T17:14:56Z</cp:lastPrinted>
  <dcterms:modified xsi:type="dcterms:W3CDTF">2005-04-29T17:40:00Z</dcterms:modified>
  <cp:revision>30</cp:revision>
  <dc:subject/>
  <dc:title>Sin título de diapositiva</dc:title>
</cp:coreProperties>
</file>