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8818-F0B2-4B40-ADF1-507DAD3E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836E-43A3-45FE-922B-ED3CAC48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F83-EDC5-4738-8F09-6DE4C6DF8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392-CABC-4A50-A4E3-08CF748E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9F3-62A9-4AC8-AA53-DB67E82C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63D-4DF9-4184-A2DE-93AF39BC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0274-5213-4C48-8C65-61931FD8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DEA-C242-4A46-8D1C-B451E79E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B676-18CB-4C5D-8E94-C04737F5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CE9-E9B6-4D11-8B3F-405BCB3D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8E2E-FB7F-4767-B701-1E99960E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7E23-9DAA-4913-93C8-00BE66FD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DE32-8610-44E7-A3B8-E1F464756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07880" y="642960"/>
          <a:ext cx="865980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642960"/>
                    <a:ext cx="865980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1720" y="544680"/>
          <a:ext cx="838692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44680"/>
                    <a:ext cx="838692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53920" y="531720"/>
          <a:ext cx="752004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6520" y="581040"/>
          <a:ext cx="8412120" cy="62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81040"/>
                    <a:ext cx="8412120" cy="62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384120"/>
          <a:ext cx="839952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384120"/>
                    <a:ext cx="839952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619200"/>
          <a:ext cx="857268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19200"/>
                    <a:ext cx="857268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68160" y="619200"/>
          <a:ext cx="8139240" cy="60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19200"/>
                    <a:ext cx="8139240" cy="60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71520" y="333360"/>
          <a:ext cx="8683560" cy="694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333360"/>
                    <a:ext cx="8683560" cy="69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22200" y="506520"/>
          <a:ext cx="858384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506520"/>
                    <a:ext cx="85838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81040" y="531720"/>
          <a:ext cx="83502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531720"/>
                    <a:ext cx="83502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44680" y="531720"/>
          <a:ext cx="8596080" cy="608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31720"/>
                    <a:ext cx="8596080" cy="60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581040"/>
          <a:ext cx="818820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1040"/>
                    <a:ext cx="818820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57280" y="420840"/>
          <a:ext cx="820080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20840"/>
                    <a:ext cx="820080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84120" y="420840"/>
          <a:ext cx="859644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20840"/>
                    <a:ext cx="859644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44680" y="568440"/>
          <a:ext cx="843588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68440"/>
                    <a:ext cx="843588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1720" y="692280"/>
          <a:ext cx="8386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692280"/>
                    <a:ext cx="8386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33360" y="557280"/>
          <a:ext cx="862344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557280"/>
                    <a:ext cx="862344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03240" y="704880"/>
          <a:ext cx="76201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704880"/>
                    <a:ext cx="76201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3040" y="655560"/>
          <a:ext cx="798984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655560"/>
                    <a:ext cx="798984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06600" y="606600"/>
          <a:ext cx="835020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06600"/>
                    <a:ext cx="835020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04880" y="557280"/>
          <a:ext cx="8226360" cy="597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57280"/>
                    <a:ext cx="8226360" cy="59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06520" y="309600"/>
          <a:ext cx="828828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309600"/>
                    <a:ext cx="828828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766800"/>
          <a:ext cx="749628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766800"/>
                    <a:ext cx="749628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68160" y="531720"/>
          <a:ext cx="8139240" cy="597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531720"/>
                    <a:ext cx="81392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29T17:14:56Z</cp:lastPrinted>
  <dcterms:modified xsi:type="dcterms:W3CDTF">2005-04-29T17:40:00Z</dcterms:modified>
  <cp:revision>30</cp:revision>
  <dc:subject/>
  <dc:title>Sin título de diapositiva</dc:title>
</cp:coreProperties>
</file>