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DA2B-02C6-4FEC-AB3D-B43EF4105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725D-DAA9-42C5-BAE3-9F521766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B309-315B-4074-9229-2BF143E8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1D55-2A4E-42C7-8702-36C11153D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1CCD-81E3-44CE-AA29-8E93E947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00B7-A4EF-4AF5-9A16-BA98E676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D3B6-7C15-4F21-A790-387BE30D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CD96-E238-4872-8683-57753DC1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2C67-FF4A-4501-BF25-1B15B866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6592-F788-4398-A21C-019E63E6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AA90-C98D-49EA-BEDA-6D505B4F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A799-9664-4675-BB94-83852BAB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8E14-E6A3-4C4E-810D-8E9C5113C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6600" y="619200"/>
          <a:ext cx="8040600" cy="598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19200"/>
                    <a:ext cx="804060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8280" y="630360"/>
          <a:ext cx="8969400" cy="59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" y="630360"/>
                    <a:ext cx="8969400" cy="59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20840" y="717480"/>
          <a:ext cx="860904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717480"/>
                    <a:ext cx="860904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33440" y="630360"/>
          <a:ext cx="813924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630360"/>
                    <a:ext cx="813924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84120" y="557280"/>
          <a:ext cx="8596440" cy="62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557280"/>
                    <a:ext cx="8596440" cy="62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30080" y="630360"/>
          <a:ext cx="8250480" cy="57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30360"/>
                    <a:ext cx="825048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09520" y="681120"/>
          <a:ext cx="8832960" cy="57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681120"/>
                    <a:ext cx="8832960" cy="57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9120" y="606600"/>
          <a:ext cx="8474040" cy="60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606600"/>
                    <a:ext cx="8474040" cy="60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97000" y="593640"/>
          <a:ext cx="8621640" cy="690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593640"/>
                    <a:ext cx="8621640" cy="690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95280" y="606600"/>
          <a:ext cx="847404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06600"/>
                    <a:ext cx="84740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49400" y="630360"/>
          <a:ext cx="8893080" cy="743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" y="630360"/>
                    <a:ext cx="8893080" cy="743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9:31:00Z</dcterms:created>
  <dc:creator>jalvarez</dc:creator>
  <dc:description/>
  <dc:language>en-US</dc:language>
  <cp:lastModifiedBy>jalvarez</cp:lastModifiedBy>
  <cp:lastPrinted>2005-05-03T21:14:16Z</cp:lastPrinted>
  <dcterms:modified xsi:type="dcterms:W3CDTF">2005-05-04T17:04:15Z</dcterms:modified>
  <cp:revision>13</cp:revision>
  <dc:subject/>
  <dc:title>Sin título de diapositiva</dc:title>
</cp:coreProperties>
</file>