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14CD-775B-40C0-8AFE-79ACA20E1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2F6A-CD97-414E-8971-3D00C86DF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2182-E461-4D0E-82CF-01DAD35AF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A4AD-158D-4C46-B4C8-9FD0C63A4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95BA-6C2E-4496-8231-7EA64A78D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6785-CA70-4BAA-A5FA-A29B1FBCE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B704-02CE-4D48-819D-7FEE568EE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4538-B8D5-47EB-A414-2EC189258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9546-4F2A-4CF8-9D4A-723A01A4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EF51-CCC8-421C-B267-2054E2B6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A8E8-695B-4251-B416-22BB4175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6223-615A-40D6-A315-82E94DA7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110CD-AEDA-41E9-915F-7002BABB43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06600" y="619200"/>
          <a:ext cx="8040600" cy="598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619200"/>
                    <a:ext cx="8040600" cy="59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98280" y="630360"/>
          <a:ext cx="8969400" cy="593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280" y="630360"/>
                    <a:ext cx="8969400" cy="59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20840" y="717480"/>
          <a:ext cx="860904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717480"/>
                    <a:ext cx="860904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33440" y="630360"/>
          <a:ext cx="8139240" cy="582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630360"/>
                    <a:ext cx="813924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84120" y="557280"/>
          <a:ext cx="8596440" cy="628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557280"/>
                    <a:ext cx="8596440" cy="62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730080" y="630360"/>
          <a:ext cx="8250480" cy="570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080" y="630360"/>
                    <a:ext cx="8250480" cy="57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209520" y="681120"/>
          <a:ext cx="8832960" cy="570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681120"/>
                    <a:ext cx="8832960" cy="57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19120" y="606600"/>
          <a:ext cx="8474040" cy="601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606600"/>
                    <a:ext cx="8474040" cy="60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97000" y="593640"/>
          <a:ext cx="8621640" cy="6902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000" y="593640"/>
                    <a:ext cx="8621640" cy="690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95280" y="606600"/>
          <a:ext cx="847404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606600"/>
                    <a:ext cx="847404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49400" y="630360"/>
          <a:ext cx="8893080" cy="743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400" y="630360"/>
                    <a:ext cx="8893080" cy="743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3T19:31:00Z</dcterms:created>
  <dc:creator>jalvarez</dc:creator>
  <dc:description/>
  <dc:language>en-US</dc:language>
  <cp:lastModifiedBy>jalvarez</cp:lastModifiedBy>
  <cp:lastPrinted>2005-05-03T21:14:16Z</cp:lastPrinted>
  <dcterms:modified xsi:type="dcterms:W3CDTF">2005-05-04T17:04:15Z</dcterms:modified>
  <cp:revision>13</cp:revision>
  <dc:subject/>
  <dc:title>Sin título de diapositiva</dc:title>
</cp:coreProperties>
</file>