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6A0-9717-474D-93AD-48FF7B1B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574-74B2-47AA-9EDE-D34834D5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122-FCC2-4B30-AD66-AF03C8ED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549-0BD5-46AE-9541-F4D3AEDA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672-7E79-48A9-B1EE-F7F6CBE9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075-8D57-495D-B5AD-35E66811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29B-CCDF-4FE6-9C64-9A0DBF21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AF9-927E-44FC-8828-370B7E1B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8F4-B9CC-4A3D-8155-6D3E679A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22B-5D1F-47AF-A776-1DCB491C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40E-D7C3-44C2-BA92-EFFD8E9C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A0D-0B9B-4D25-8DD2-0FEEE013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4807-CD33-4B31-B535-608541B69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5560" y="557280"/>
          <a:ext cx="826308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57280"/>
                    <a:ext cx="826308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46040" y="593640"/>
          <a:ext cx="8534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93640"/>
                    <a:ext cx="8534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506520"/>
          <a:ext cx="85359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5359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92000" y="506520"/>
          <a:ext cx="78296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06520"/>
                    <a:ext cx="78296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54200" y="581040"/>
          <a:ext cx="812772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812772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581040"/>
          <a:ext cx="812772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81277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15840" y="655560"/>
          <a:ext cx="786636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8663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557280"/>
          <a:ext cx="794196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57280"/>
                    <a:ext cx="794196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419720" y="243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0080" y="619200"/>
          <a:ext cx="78170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19200"/>
                    <a:ext cx="78170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04880" y="544680"/>
          <a:ext cx="813924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44680"/>
                    <a:ext cx="813924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681120"/>
          <a:ext cx="806580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81120"/>
                    <a:ext cx="806580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19120"/>
          <a:ext cx="825156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19120"/>
                    <a:ext cx="825156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92000" y="655560"/>
          <a:ext cx="80647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55560"/>
                    <a:ext cx="80647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495360"/>
          <a:ext cx="8412120" cy="76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95360"/>
                    <a:ext cx="8412120" cy="76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5:49:18Z</dcterms:created>
  <dc:creator>jalvarez</dc:creator>
  <dc:description/>
  <dc:language>en-US</dc:language>
  <cp:lastModifiedBy>jalvarez</cp:lastModifiedBy>
  <cp:lastPrinted>2005-05-08T21:29:46Z</cp:lastPrinted>
  <dcterms:modified xsi:type="dcterms:W3CDTF">2005-05-12T14:38:39Z</dcterms:modified>
  <cp:revision>9</cp:revision>
  <dc:subject/>
  <dc:title>Sin título de diapositiva</dc:title>
</cp:coreProperties>
</file>