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B12-9AE9-4431-B0D7-25FD15B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975-4A9F-464F-B6DC-E2B8BA5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4DF-2A54-4154-B263-5C3FA8E7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B13-7565-4C13-B41E-BD6AB936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F85-9E68-4DA6-A86A-4ED00931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538-84B6-496F-B57E-264D5B11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5B6-60D4-4613-ABDB-7F18A220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0CE-1CE4-44D7-80D7-1B83110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DF9-DD41-4DBE-87F1-D37DE355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A58-9163-47D4-B795-A7B1617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5E8-C015-47D5-B7A1-19DA391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D95-4E8B-47B9-BCAA-911C020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49A-8E9D-4B58-ADE9-65ED0009A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1748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606600"/>
          <a:ext cx="85233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6600"/>
                    <a:ext cx="85233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2560" y="630360"/>
          <a:ext cx="764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64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606600"/>
          <a:ext cx="8091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91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3640" y="593640"/>
          <a:ext cx="83502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93640"/>
                    <a:ext cx="83502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386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386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06520"/>
          <a:ext cx="8324640" cy="63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06520"/>
                    <a:ext cx="832464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5-05-10T16:27:20Z</cp:lastPrinted>
  <dcterms:modified xsi:type="dcterms:W3CDTF">2005-05-10T17:16:04Z</dcterms:modified>
  <cp:revision>3</cp:revision>
  <dc:subject/>
  <dc:title>Sin título de diapositiva</dc:title>
</cp:coreProperties>
</file>