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AEFB-117C-4790-8064-4184CB29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6A2-014B-4A9B-9959-6EA0F6EB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BBC-6525-4E47-8C3D-8EE984B4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4F0-481D-403F-BF48-46946CCD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B3E6-C4F6-4C57-A473-64FEBC42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2EE-7D8D-4BA4-9CFD-419F8131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3184-FEC8-4BDC-993A-2B12697A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0BE-ECE3-4D41-8156-010149B1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F47-EB3D-4953-9410-471BAFCD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95F-3AC4-45F8-B555-CDF88F81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F1F-0254-4C58-A521-DE9353B1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A6D4-CDA4-488E-A21A-9AA4534E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F393-0B49-413A-8016-BC748302F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17480" y="544680"/>
          <a:ext cx="813924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44680"/>
                    <a:ext cx="813924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57200" y="606600"/>
          <a:ext cx="8523360" cy="513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6600"/>
                    <a:ext cx="85233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952560" y="630360"/>
          <a:ext cx="764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30360"/>
                    <a:ext cx="764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82760" y="593640"/>
          <a:ext cx="849780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93640"/>
                    <a:ext cx="849780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803160" y="606600"/>
          <a:ext cx="80917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06600"/>
                    <a:ext cx="80917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93640" y="593640"/>
          <a:ext cx="8350200" cy="601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93640"/>
                    <a:ext cx="835020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557280"/>
          <a:ext cx="83869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3869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506520"/>
          <a:ext cx="8324640" cy="639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06520"/>
                    <a:ext cx="8324640" cy="63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jalvarez</cp:lastModifiedBy>
  <cp:lastPrinted>2005-05-10T16:27:20Z</cp:lastPrinted>
  <dcterms:modified xsi:type="dcterms:W3CDTF">2005-05-10T17:16:04Z</dcterms:modified>
  <cp:revision>3</cp:revision>
  <dc:subject/>
  <dc:title>Sin título de diapositiva</dc:title>
</cp:coreProperties>
</file>