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0FE-C749-4DB9-A78B-B5C42F63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0AC-1BE0-4276-B33C-2B22BA84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4BA-CC2C-4FC7-BBB6-D95E344B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763-1366-4980-B3C0-ADC48311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D8EB-F22E-447B-B702-14CF4273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54B-D36D-4BDF-9E3F-C47DE9AF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E7A-8C69-43C5-96CB-B15BAE69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533-029A-4614-BC4C-C3D77DFF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691-2B07-4596-BA02-CB2EB818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6BC-A048-4A36-813A-70D03F70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B59-400F-4781-A5BF-C8089D73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C2D-B40F-4857-B836-C0C4D615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E3C3-E8C6-4DD1-8287-C1535C1E7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78040" y="642960"/>
          <a:ext cx="758340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42960"/>
                    <a:ext cx="758340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06520" y="681120"/>
          <a:ext cx="851220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681120"/>
                    <a:ext cx="851220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33440" y="519120"/>
          <a:ext cx="8596440" cy="65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519120"/>
                    <a:ext cx="859644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82760" y="619200"/>
          <a:ext cx="844848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19200"/>
                    <a:ext cx="844848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57280" y="557280"/>
          <a:ext cx="841068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57280"/>
                    <a:ext cx="841068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55560" y="568440"/>
          <a:ext cx="828828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68440"/>
                    <a:ext cx="828828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9120" y="619200"/>
          <a:ext cx="853596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19200"/>
                    <a:ext cx="853596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7880" y="668160"/>
          <a:ext cx="8597880" cy="57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668160"/>
                    <a:ext cx="8597880" cy="57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55560" y="568440"/>
          <a:ext cx="828828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68440"/>
                    <a:ext cx="828828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95280" y="544680"/>
          <a:ext cx="8721720" cy="65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4680"/>
                    <a:ext cx="8721720" cy="65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28720" y="630360"/>
          <a:ext cx="789300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30360"/>
                    <a:ext cx="789300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30360" y="606600"/>
          <a:ext cx="80168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06600"/>
                    <a:ext cx="80168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655560"/>
          <a:ext cx="822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55560"/>
                    <a:ext cx="822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53920" y="482760"/>
          <a:ext cx="7805880" cy="622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82760"/>
                    <a:ext cx="7805880" cy="62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1720" y="482760"/>
          <a:ext cx="8474040" cy="65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82760"/>
                    <a:ext cx="847404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6600" y="642960"/>
          <a:ext cx="8324640" cy="57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324640" cy="57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81120"/>
          <a:ext cx="80406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81120"/>
                    <a:ext cx="80406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4200" y="681120"/>
          <a:ext cx="785484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785484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5-05-13T18:29:46Z</cp:lastPrinted>
  <dcterms:modified xsi:type="dcterms:W3CDTF">2005-05-16T17:13:05Z</dcterms:modified>
  <cp:revision>8</cp:revision>
  <dc:subject/>
  <dc:title>Sin título de diapositiva</dc:title>
</cp:coreProperties>
</file>