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5D73-5FD3-4A38-8801-EABF9646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7F3C-80D0-44BE-A031-2E7F56DD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0A7-D7C5-45CA-ACF1-02B99CE34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20F3-8CC1-4B2F-B2FB-A48FFB128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F97-CFF4-4422-8555-0E0503CC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A10-B206-488B-A271-D1FE84BC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A5E8-D195-4751-A66A-5DDAE65A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8E0-39DD-430F-A17C-0145F325D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78DC-CA37-4DD2-A41E-3C0A6EC6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BC6-0A87-44FE-9574-5A0F3D1B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0E8A-13C5-4696-8E2B-05484016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5D2B-4A5F-4EAC-A6B0-698E3072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32B4A-97F4-4AC2-9EA0-FF893365C3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16120" y="668160"/>
          <a:ext cx="80038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68160"/>
                    <a:ext cx="80038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446040"/>
          <a:ext cx="8175600" cy="759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46040"/>
                    <a:ext cx="8175600" cy="75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8440" y="446040"/>
          <a:ext cx="83376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46040"/>
                    <a:ext cx="83376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53172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6520" y="557280"/>
          <a:ext cx="847404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57280"/>
                    <a:ext cx="847404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433440"/>
          <a:ext cx="853596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3596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065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065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93640" y="446040"/>
          <a:ext cx="828828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28828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52560" y="630360"/>
          <a:ext cx="77436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30360"/>
                    <a:ext cx="77436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78040" y="544680"/>
          <a:ext cx="790416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90416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92280" y="568440"/>
          <a:ext cx="8078760" cy="591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68440"/>
                    <a:ext cx="80787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469800"/>
          <a:ext cx="838656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8656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6400" y="506520"/>
          <a:ext cx="847728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506520"/>
                    <a:ext cx="84772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35:53Z</dcterms:created>
  <dc:creator>jalvarez</dc:creator>
  <dc:description/>
  <dc:language>en-US</dc:language>
  <cp:lastModifiedBy>jalvarez</cp:lastModifiedBy>
  <cp:lastPrinted>2005-05-17T20:41:41Z</cp:lastPrinted>
  <dcterms:modified xsi:type="dcterms:W3CDTF">2005-05-17T20:46:17Z</dcterms:modified>
  <cp:revision>3</cp:revision>
  <dc:subject/>
  <dc:title>Sin título de diapositiva</dc:title>
</cp:coreProperties>
</file>