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85EC-555F-4565-A233-21D08D15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1D2-94E2-45B4-9A37-DF118172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A717-3D1E-41C7-98E1-9DC7474CE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1C7F-3DAF-4B7F-9BA8-65BE34498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3A12-1C3F-4233-AAF6-4F33E194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FB1-D77B-4D4E-8F6B-CCAFBF2B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CBE8-F2E1-4DC9-8254-E225D4AE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7109-0603-470D-9D48-8BC25AEE0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1E03-3D58-45E0-9701-A5E37DA4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7F7-3D57-4EA9-87F4-1AFB8540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D06C-0C2A-4FB0-96FB-CFBFD7C5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A3AD-AA86-40AE-B9A3-957265A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6C44-1CED-4158-A79A-D77FD86005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16120" y="668160"/>
          <a:ext cx="800388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120" y="668160"/>
                    <a:ext cx="800388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43040" y="446040"/>
          <a:ext cx="8175600" cy="759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446040"/>
                    <a:ext cx="8175600" cy="759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8440" y="446040"/>
          <a:ext cx="833760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8440" y="446040"/>
                    <a:ext cx="833760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606600" y="53172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3172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06520" y="557280"/>
          <a:ext cx="8474040" cy="56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57280"/>
                    <a:ext cx="847404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33440"/>
          <a:ext cx="853596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33440"/>
                    <a:ext cx="853596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06520"/>
          <a:ext cx="791676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06520"/>
                    <a:ext cx="791676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288280" cy="620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288280" cy="620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52560" y="630360"/>
          <a:ext cx="7743600" cy="58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630360"/>
                    <a:ext cx="7743600" cy="58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904160" cy="59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904160" cy="59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92280" y="568440"/>
          <a:ext cx="8078760" cy="5913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2280" y="568440"/>
                    <a:ext cx="80787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69800"/>
          <a:ext cx="8386560" cy="58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69800"/>
                    <a:ext cx="838656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6400" y="506520"/>
          <a:ext cx="847728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506520"/>
                    <a:ext cx="847728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8:35:53Z</dcterms:created>
  <dc:creator>jalvarez</dc:creator>
  <dc:description/>
  <dc:language>en-US</dc:language>
  <cp:lastModifiedBy>jalvarez</cp:lastModifiedBy>
  <cp:lastPrinted>2005-05-17T20:41:41Z</cp:lastPrinted>
  <dcterms:modified xsi:type="dcterms:W3CDTF">2005-05-17T20:46:17Z</dcterms:modified>
  <cp:revision>3</cp:revision>
  <dc:subject/>
  <dc:title>Sin título de diapositiva</dc:title>
</cp:coreProperties>
</file>