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A7E-2FD3-4887-981F-AF8DE96F8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DED-ABB2-4F4A-9815-0DDF4AEE3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A4FF-E04F-40C2-9400-21D8ADFB5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0CC-129B-4241-B1E7-7DEFABF36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5FD9-9AB7-45C9-B51A-9EBBDC3F4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380B-CF59-46FA-90BC-46287075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CBF1-EA5C-418F-96E2-E61F8788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9096-A42C-498F-8A44-5229650B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DD49-4669-4817-9EE1-0810B34B8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6716-9DF1-4082-9B86-89DE3989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F749-0B85-4182-A365-0203478A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089-D2F6-456C-835E-F43871A2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1CD1-EC1B-4C3D-8C73-157067016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" y="531720"/>
          <a:ext cx="8647200" cy="6259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1720"/>
                    <a:ext cx="8647200" cy="62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81120" y="495360"/>
          <a:ext cx="8028000" cy="7867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495360"/>
                    <a:ext cx="8028000" cy="78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828720" y="630360"/>
          <a:ext cx="8015400" cy="57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30360"/>
                    <a:ext cx="801540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03160" y="606600"/>
          <a:ext cx="8053560" cy="508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606600"/>
                    <a:ext cx="8053560" cy="50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495360"/>
          <a:ext cx="816444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495360"/>
                    <a:ext cx="8164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68160" y="606600"/>
          <a:ext cx="8350560" cy="588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06600"/>
                    <a:ext cx="8350560" cy="58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15840" y="655560"/>
          <a:ext cx="7829640" cy="5875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829640" cy="587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50720" y="608040"/>
          <a:ext cx="8501040" cy="620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720" y="608040"/>
                    <a:ext cx="8501040" cy="620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93640" y="630360"/>
          <a:ext cx="833760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30360"/>
                    <a:ext cx="833760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19200" y="581040"/>
          <a:ext cx="823752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81040"/>
                    <a:ext cx="823752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90640" y="433440"/>
          <a:ext cx="779292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0640" y="433440"/>
                    <a:ext cx="779292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44680" y="581040"/>
          <a:ext cx="8262720" cy="588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581040"/>
                    <a:ext cx="8262720" cy="588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5-06-01T12:47:04Z</cp:lastPrinted>
  <dcterms:modified xsi:type="dcterms:W3CDTF">2005-06-02T13:57:45Z</dcterms:modified>
  <cp:revision>3</cp:revision>
  <dc:subject/>
  <dc:title>Sin título de diapositiva</dc:title>
</cp:coreProperties>
</file>