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147-C0F8-4698-A8B7-9B26B75C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93A-97DA-4EE8-A9FF-91920BE6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2D6-9154-4D99-A76E-B8134CBA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2D1-3C62-408F-939B-19A82173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9D3-EED2-45B5-BA88-B4921DF0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182-A193-4292-904F-7A2C745F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C09-77D2-4772-AD4D-465347FC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3F0-A0D0-43F8-BA04-372F2712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AD8-B75D-40C3-A642-EBBBAAD7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D38-9058-42DE-AF8C-5305B108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4E0-9C1D-4117-9EAE-85DFE3DC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AC39-5262-4F8C-B64D-1A17EACE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9D86-3F6D-42FE-B1A6-F06F9A628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46040" y="531720"/>
          <a:ext cx="859644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31720"/>
                    <a:ext cx="859644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0840" y="482760"/>
          <a:ext cx="860904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82760"/>
                    <a:ext cx="860904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0840" y="531720"/>
          <a:ext cx="8646840" cy="646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31720"/>
                    <a:ext cx="8646840" cy="646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581040"/>
          <a:ext cx="8326440" cy="64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81040"/>
                    <a:ext cx="832644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46040" y="606600"/>
          <a:ext cx="857268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606600"/>
                    <a:ext cx="857268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84120" y="222120"/>
          <a:ext cx="8572680" cy="66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222120"/>
                    <a:ext cx="8572680" cy="66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5840" y="593640"/>
          <a:ext cx="804096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593640"/>
                    <a:ext cx="804096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81040" y="544680"/>
          <a:ext cx="841212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44680"/>
                    <a:ext cx="841212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81040" y="469800"/>
          <a:ext cx="8424720" cy="762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69800"/>
                    <a:ext cx="8424720" cy="762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04880" y="506520"/>
          <a:ext cx="81518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06520"/>
                    <a:ext cx="81518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4120" y="420840"/>
          <a:ext cx="8596440" cy="63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20840"/>
                    <a:ext cx="8596440" cy="63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44680" y="568440"/>
          <a:ext cx="842328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68440"/>
                    <a:ext cx="842328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31720" y="692280"/>
          <a:ext cx="8386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692280"/>
                    <a:ext cx="8386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33360" y="557280"/>
          <a:ext cx="8659800" cy="66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557280"/>
                    <a:ext cx="8659800" cy="66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07880" y="457200"/>
          <a:ext cx="8498160" cy="68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80" y="457200"/>
                    <a:ext cx="849816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841320" y="531720"/>
          <a:ext cx="8164440" cy="5986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1320" y="531720"/>
                    <a:ext cx="816444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30360" y="593640"/>
          <a:ext cx="836280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93640"/>
                    <a:ext cx="836280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1720" y="309600"/>
          <a:ext cx="836316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309600"/>
                    <a:ext cx="836316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13:09:49Z</dcterms:created>
  <dc:creator>jalvarez</dc:creator>
  <dc:description/>
  <dc:language>en-US</dc:language>
  <cp:lastModifiedBy>jalvarez</cp:lastModifiedBy>
  <cp:lastPrinted>2005-06-03T20:11:37Z</cp:lastPrinted>
  <dcterms:modified xsi:type="dcterms:W3CDTF">2005-06-06T17:34:59Z</dcterms:modified>
  <cp:revision>7</cp:revision>
  <dc:subject/>
  <dc:title>Sin título de diapositiva</dc:title>
</cp:coreProperties>
</file>