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1D89-8112-4DB0-812B-C65ED88C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89C-A1A8-41CF-83FA-52DBDC87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019-89A2-406D-8B64-14D9B75A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690C-7523-429E-9619-9AEEB879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93B-B0DA-4847-8BF4-A02792D2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E242-3485-4C95-A948-6D995D8C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477-69FB-4898-9CCD-3921F61D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3CE5-4CA8-489F-A54D-1D01007E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9593-FEC8-44D3-A8A4-16288243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2DD-5A3A-47B5-AE40-DDE6D8BB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E63-44E3-4337-8190-58AFE647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9D2-D3D3-4911-B520-A94467AA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3EC0-47C9-48BC-8251-5092C9D1B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6040" y="531720"/>
          <a:ext cx="859644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31720"/>
                    <a:ext cx="859644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0840" y="482760"/>
          <a:ext cx="860904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82760"/>
                    <a:ext cx="860904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20840" y="531720"/>
          <a:ext cx="8646840" cy="646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31720"/>
                    <a:ext cx="8646840" cy="646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581040"/>
          <a:ext cx="8326440" cy="64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81040"/>
                    <a:ext cx="832644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46040" y="606600"/>
          <a:ext cx="857268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606600"/>
                    <a:ext cx="857268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84120" y="222120"/>
          <a:ext cx="8572680" cy="66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222120"/>
                    <a:ext cx="8572680" cy="66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5840" y="593640"/>
          <a:ext cx="804096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93640"/>
                    <a:ext cx="804096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81040" y="544680"/>
          <a:ext cx="841212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44680"/>
                    <a:ext cx="841212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81040" y="469800"/>
          <a:ext cx="8424720" cy="762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69800"/>
                    <a:ext cx="842472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04880" y="506520"/>
          <a:ext cx="815184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06520"/>
                    <a:ext cx="81518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4120" y="420840"/>
          <a:ext cx="8596440" cy="63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20840"/>
                    <a:ext cx="8596440" cy="63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44680" y="568440"/>
          <a:ext cx="842328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68440"/>
                    <a:ext cx="842328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31720" y="692280"/>
          <a:ext cx="8386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692280"/>
                    <a:ext cx="8386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33360" y="557280"/>
          <a:ext cx="8659800" cy="66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557280"/>
                    <a:ext cx="8659800" cy="66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28720" y="593640"/>
          <a:ext cx="82011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93640"/>
                    <a:ext cx="8201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07880" y="457200"/>
          <a:ext cx="8498160" cy="68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880" y="457200"/>
                    <a:ext cx="849816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841320" y="531720"/>
          <a:ext cx="8164440" cy="5986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1320" y="531720"/>
                    <a:ext cx="816444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30360" y="593640"/>
          <a:ext cx="836280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36280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1720" y="309600"/>
          <a:ext cx="836316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309600"/>
                    <a:ext cx="836316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13:09:49Z</dcterms:created>
  <dc:creator>jalvarez</dc:creator>
  <dc:description/>
  <dc:language>en-US</dc:language>
  <cp:lastModifiedBy>jalvarez</cp:lastModifiedBy>
  <cp:lastPrinted>2005-06-03T20:11:37Z</cp:lastPrinted>
  <dcterms:modified xsi:type="dcterms:W3CDTF">2005-06-06T17:34:59Z</dcterms:modified>
  <cp:revision>7</cp:revision>
  <dc:subject/>
  <dc:title>Sin título de diapositiva</dc:title>
</cp:coreProperties>
</file>