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4365-E76D-4F9A-91B8-92714ACC9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820A-119E-48A1-985B-0DF7861DF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B77E-5AF4-4EBB-B4A5-AFAC1620B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2A37-97C3-43E6-BDED-7047D1C17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E31E8-09A6-4169-8DE7-298F47659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D69A4-61E7-48C5-A8D6-35287EC3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7C3C8-B8AD-4183-8E29-5EAF170B4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AE4E3-3B68-4F8B-9207-57E2B0E10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61E3D-97F1-403B-A64C-327C4F048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A308E-79A4-4488-924D-BAD545BDE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ECAAD-799A-4227-8486-A86558A5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9B6E-34EA-4C32-B2C1-A3075616E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23BF7-C1E2-405C-A6C2-BCA5FFBA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DBDD6-1A0D-433B-BA7B-93466B33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E4048-7821-4512-B17A-33B2FF74F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8EE28-5F33-442B-87D7-189D2418D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0571B-CD0D-4806-90FB-8F7F399B4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D495-A4EB-4E23-909A-0E57FCA18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0AB5-2C78-468D-A663-7E100ABDA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1582-CEF2-4271-BF4C-B0D9A5974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986A-9546-48AF-904F-7BBBD7EA4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E188-C70B-4AC9-9F37-AD2A5E58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171C-516C-4ED8-A6F6-4A55AC7B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6959-56E9-4E04-9AD8-B8AF019C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467B2-2EEE-44B2-8091-232BA323E17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7ECC1-6EA4-4363-AC6D-08548362F8B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66"/>
                </a:solidFill>
                <a:latin typeface="Arial"/>
              </a:rPr>
              <a:t>FI33A</a:t>
            </a:r>
            <a:br>
              <a:rPr sz="3600"/>
            </a:br>
            <a:r>
              <a:rPr b="1" lang="es-MX" sz="3600" spc="-1" strike="noStrike">
                <a:solidFill>
                  <a:srgbClr val="003366"/>
                </a:solidFill>
                <a:latin typeface="Arial"/>
              </a:rPr>
              <a:t>Electromagnetismo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Onda Electromagnétic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Desde las ecuaciones de Maxwell en el vacío (</a:t>
            </a:r>
            <a:r>
              <a:rPr b="0" lang="es-MX" sz="2800" spc="-1" strike="noStrike">
                <a:solidFill>
                  <a:srgbClr val="003366"/>
                </a:solidFill>
                <a:latin typeface="Symbol"/>
                <a:ea typeface="Symbol"/>
              </a:rPr>
              <a:t></a:t>
            </a:r>
            <a:r>
              <a:rPr b="0" lang="es-MX" sz="2800" spc="-1" strike="noStrike">
                <a:solidFill>
                  <a:srgbClr val="003366"/>
                </a:solidFill>
                <a:latin typeface="Times New Roman"/>
              </a:rPr>
              <a:t>J=0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627280" y="3429000"/>
                <a:ext cx="4432320" cy="316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∇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∇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∇</m:t>
                        </m:r>
                        <m:r>
                          <m:t xml:space="preserve">×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f>
                          <m:num>
                            <m:r>
                              <m:t xml:space="preserve">∂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</m:e>
                      <m:e>
                        <m:r>
                          <m:t xml:space="preserve">∇</m:t>
                        </m:r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Onda Electromagnétic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Para la 3° ecuación de Maxwell se llega 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3059280" y="2798640"/>
                <a:ext cx="302544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E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γ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468360" y="3976560"/>
            <a:ext cx="82296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Don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835280" y="3978360"/>
                <a:ext cx="13683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γ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468360" y="4724280"/>
            <a:ext cx="867564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Esto es la ecuación de una onda de velocidad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3295800" y="5137200"/>
                <a:ext cx="262548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γ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Onda Electromagnétic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De forma análoga, con la 4° ecuación de Maxwell se llega 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987640" y="3068640"/>
                <a:ext cx="319896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H</m:t>
                        </m:r>
                      </m:e>
                    </m:acc>
                    <m:r>
                      <m:t xml:space="preserve">−</m:t>
                    </m:r>
                    <m:sSup>
                      <m:e>
                        <m:r>
                          <m:t xml:space="preserve">γ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179280" y="4221000"/>
            <a:ext cx="867564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Rockwell Extra Bold"/>
              </a:rPr>
              <a:t>Por lo tanto los campos son ondas que en el vacío viajan a la velocidad de la luz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Todo se repite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3076560" y="2362320"/>
          <a:ext cx="321480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76560" y="2362320"/>
                    <a:ext cx="321480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Ecuaciones de Maxwel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847800" y="2505240"/>
          <a:ext cx="3579840" cy="23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7800" y="2505240"/>
                    <a:ext cx="3579840" cy="23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2050920" y="5373720"/>
          <a:ext cx="5329440" cy="84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0920" y="5373720"/>
                    <a:ext cx="532944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4788000" y="2637000"/>
            <a:ext cx="3744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Times New Roman"/>
              </a:rPr>
              <a:t>Fuent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Symbol"/>
                <a:ea typeface="Symbol"/>
              </a:rPr>
              <a:t></a:t>
            </a:r>
            <a:r>
              <a:rPr b="0" lang="es-MX" sz="2800" spc="-1" strike="noStrike">
                <a:solidFill>
                  <a:srgbClr val="003366"/>
                </a:solidFill>
                <a:latin typeface="Times New Roman"/>
              </a:rPr>
              <a:t>: Densidad de carga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Times New Roman"/>
              </a:rPr>
              <a:t>J: Densidad de corrien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Primera Ecuación de Maxwel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4508280"/>
            <a:ext cx="7693200" cy="15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Las cargas eléctricas son fuentes de campo eléctric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El flujo se conserva si la carga es nul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847880" y="2557440"/>
          <a:ext cx="5448240" cy="174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7880" y="2557440"/>
                    <a:ext cx="5448240" cy="17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Segunda Ecuación de Maxwel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38080" y="4365720"/>
            <a:ext cx="7693200" cy="17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No existen las “cargas magnéticas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El flujo magnético SIEMPRE se conserv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Si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871640" y="2567160"/>
          <a:ext cx="5400720" cy="172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1640" y="2567160"/>
                    <a:ext cx="5400720" cy="172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835280" y="5445000"/>
                <a:ext cx="2881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∃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|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∇</m:t>
                    </m:r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Tercera Ecuación de Maxwel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838080" y="4437000"/>
            <a:ext cx="769320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Si existe B(t), INDUCE circulación de 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Electrostática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Ecuación de Poisson y Lapla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461960" y="2523960"/>
          <a:ext cx="6220080" cy="18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1960" y="2523960"/>
                    <a:ext cx="6220080" cy="18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2700360" y="4508640"/>
            <a:ext cx="2872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237440" y="4508640"/>
            <a:ext cx="2872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5076720" y="5013360"/>
                <a:ext cx="29037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∃</m:t>
                    </m:r>
                    <m:r>
                      <m:t xml:space="preserve">φ</m:t>
                    </m:r>
                    <m:r>
                      <m:t xml:space="preserve">|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∇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3635280" y="4869000"/>
                <a:ext cx="79236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4500720" y="5229360"/>
            <a:ext cx="431640" cy="0"/>
          </a:xfrm>
          <a:prstGeom prst="line">
            <a:avLst/>
          </a:prstGeom>
          <a:ln w="572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6372360" y="5373720"/>
                <a:ext cx="1224000" cy="11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∇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φ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ρ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∇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φ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Cuarta Ecuación de Maxwel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838080" y="4437000"/>
            <a:ext cx="769320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Existencia de J            Circulación de 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Campo E variable en t        Circulación de 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Magnetostática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663480" y="2538360"/>
          <a:ext cx="7818480" cy="17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3480" y="2538360"/>
                    <a:ext cx="7818480" cy="17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3492360" y="4508640"/>
            <a:ext cx="2160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236000" y="4508640"/>
            <a:ext cx="21564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851280" y="4724280"/>
            <a:ext cx="865080" cy="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556000" y="5013360"/>
            <a:ext cx="21564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956720" y="5013360"/>
            <a:ext cx="21564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859280" y="5229360"/>
            <a:ext cx="576360" cy="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851280" y="5373720"/>
                <a:ext cx="108108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Inductanc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En cualquier circuito se puede encontrar una relación entre el flujo enlazado y la corrien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755640" y="3789360"/>
          <a:ext cx="5064120" cy="206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3789360"/>
                    <a:ext cx="5064120" cy="20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6012000" y="3860640"/>
                <a:ext cx="14396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Φ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5148360" y="4941720"/>
            <a:ext cx="33112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66"/>
                </a:solidFill>
                <a:latin typeface="Arial"/>
              </a:rPr>
              <a:t>Depende exclusivamente de la geometría del sistem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66"/>
                </a:solidFill>
                <a:latin typeface="Arial"/>
              </a:rPr>
              <a:t>Se mide en Henry [H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Inductanc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Si tenemos N circuitos, el circuito j poseerá una inductancia PROPIA y N-1 inducatncias mutua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332000" y="3895560"/>
                <a:ext cx="2463840" cy="145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067280" y="3933720"/>
            <a:ext cx="3240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66"/>
                </a:solidFill>
                <a:latin typeface="Arial"/>
              </a:rPr>
              <a:t>i: Sobre el circuito que actua el fluj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66"/>
                </a:solidFill>
                <a:latin typeface="Arial"/>
              </a:rPr>
              <a:t>J: El circuito que </a:t>
            </a: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genera </a:t>
            </a:r>
            <a:r>
              <a:rPr b="0" lang="es-MX" sz="1800" spc="-1" strike="noStrike">
                <a:solidFill>
                  <a:srgbClr val="003366"/>
                </a:solidFill>
                <a:latin typeface="Arial"/>
              </a:rPr>
              <a:t>el fluj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788000" y="5516640"/>
                <a:ext cx="22320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Ejercic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971640" y="3213000"/>
          <a:ext cx="7294320" cy="125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3213000"/>
                    <a:ext cx="729432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042920" y="2637000"/>
            <a:ext cx="46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Inductancia de un sistema distribuid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116000" y="4508640"/>
          <a:ext cx="4248000" cy="212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6000" y="4508640"/>
                    <a:ext cx="4248000" cy="21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5148360" y="4581360"/>
          <a:ext cx="3240000" cy="184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48360" y="4581360"/>
                    <a:ext cx="324000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Energía Electromagnétic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733840" y="2739960"/>
          <a:ext cx="3903480" cy="113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33840" y="2739960"/>
                    <a:ext cx="3903480" cy="11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684360" y="1916280"/>
            <a:ext cx="273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00000" y="242100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66"/>
                </a:solidFill>
                <a:latin typeface="Arial"/>
              </a:rPr>
              <a:t>A partir de las 3° y 4° Ecuaciones de Maxwel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6360" y="386064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66"/>
                </a:solidFill>
                <a:latin typeface="Arial"/>
              </a:rPr>
              <a:t>Desarrollando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463840" y="4838760"/>
                <a:ext cx="4710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∭"/>
                        <m:supHide m:val="1"/>
                      </m:naryPr>
                      <m:sub>
                        <m:r>
                          <m:t xml:space="preserve">Ω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  <m:r>
                      <m:t xml:space="preserve">+</m:t>
                    </m:r>
                    <m:nary>
                      <m:naryPr>
                        <m:chr m:val="∭"/>
                        <m:supHide m:val="1"/>
                      </m:naryPr>
                      <m:sub>
                        <m:r>
                          <m:t xml:space="preserve">Ω</m:t>
                        </m:r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1258920" y="595008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66"/>
                </a:solidFill>
                <a:latin typeface="Arial"/>
              </a:rPr>
              <a:t>Energía del Sistema Electromagnétic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4437000"/>
            <a:ext cx="1368360" cy="115272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6372360" y="5229360"/>
            <a:ext cx="287280" cy="79200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75640" y="5950080"/>
            <a:ext cx="180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66"/>
                </a:solidFill>
                <a:latin typeface="Arial"/>
              </a:rPr>
              <a:t>Potencia consumida por efecto Joul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843280" y="4292640"/>
            <a:ext cx="2448000" cy="144144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276720" y="5300280"/>
            <a:ext cx="574560" cy="57636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Energía Electromagnétic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987640" y="3213000"/>
                <a:ext cx="326232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∭"/>
                        <m:supHide m:val="1"/>
                      </m:naryPr>
                      <m:sub>
                        <m:r>
                          <m:t xml:space="preserve">Ω</m:t>
                        </m:r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  <m:r>
                      <m:t xml:space="preserve">⇔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684360" y="1916280"/>
            <a:ext cx="273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58920" y="249228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66"/>
                </a:solidFill>
                <a:latin typeface="Arial"/>
              </a:rPr>
              <a:t>a) Si solo hay campo Magnétic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987640" y="4724280"/>
                <a:ext cx="33004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∭"/>
                        <m:supHide m:val="1"/>
                      </m:naryPr>
                      <m:sub>
                        <m:r>
                          <m:t xml:space="preserve">Ω</m:t>
                        </m:r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  <m:r>
                      <m:t xml:space="preserve">⇔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258920" y="400536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66"/>
                </a:solidFill>
                <a:latin typeface="Arial"/>
              </a:rPr>
              <a:t>b) Si solo hay campo Eléctric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Fuerza Electromagnétic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4249800" cy="5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En general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3492360" y="5092560"/>
                <a:ext cx="222264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∇</m:t>
                    </m:r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846520" y="3645000"/>
                <a:ext cx="351468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l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U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Ejercic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042920" y="2349360"/>
          <a:ext cx="6380280" cy="384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349360"/>
                    <a:ext cx="6380280" cy="384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Ejercic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763560" y="2421000"/>
          <a:ext cx="8345520" cy="112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2421000"/>
                    <a:ext cx="834552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2340000" y="3548160"/>
          <a:ext cx="4824360" cy="304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3548160"/>
                    <a:ext cx="4824360" cy="30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2T02:19:06Z</dcterms:created>
  <dc:creator>Mauricio Riveros</dc:creator>
  <dc:description/>
  <dc:language>en-US</dc:language>
  <cp:lastModifiedBy>CEIE</cp:lastModifiedBy>
  <dcterms:modified xsi:type="dcterms:W3CDTF">2006-06-22T18:18:27Z</dcterms:modified>
  <cp:revision>11</cp:revision>
  <dc:subject/>
  <dc:title>Diapositiva 1</dc:title>
</cp:coreProperties>
</file>