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3D6-C25A-4BE5-9AD9-D1BE44BB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404-4FA6-41C7-AE29-2476F1C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2E9-8259-47AE-8C7D-4A1D9C26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CA3-338C-4EDD-941D-947E5215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2BD-E6F3-46ED-86D8-08ACFC09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7E4D-B475-4E53-87A4-0A13244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C967-2939-421E-AB15-FB2DB7A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C97F-4434-4E01-80D6-8645B8A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19AA-098F-4487-8D18-308AC58B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9A2-0FD4-452E-B6FC-479BD3DF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E4BE-5624-48F1-94D9-2119EE27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559-4E19-487A-9C2B-E649BFE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693-A06A-4AFE-A3AE-5E60C52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C6BB-9ED5-4256-8720-C0168A1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6360-3DE0-4E7E-9400-9E98E5FA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663A-F98F-48A6-9B9D-664B6BB4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0127-7AF5-4D25-9EB5-CD338EAF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1C2-35AE-4103-8A8A-541D70F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98E-B8CE-4543-8564-A72FB30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E67-F363-47F0-9C28-0BB6023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431-751E-4A9C-A44D-D47096A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ED0-6AC0-4253-B028-62324592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F51-A842-41B0-8E5C-C6CFB03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68-133D-4218-A69E-F2853AC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B570-F83F-40FC-891E-8E424CE49E5B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862-7A0A-42C6-AE31-B228A6A19BAB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gún esta hipótesis ningún inversionista podrá conseguir 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ndimiento superior al del promedio del mercado analizan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clusivamente la información pasada (la serie histórica de preci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si lo logra será sólo por az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ora bien, si el mercado se ajusta a esta hipótesis, un inversor s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rá “ganarle al mercado" utilizando la información hecha públ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la información privilegi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gún esta hipótesis un mercado es eficiente en form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emi fuert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do los precios reflejan, no sólo toda la información pasada, sino también toda la información pública acerca de la empresa o de su entorno, que pueda afectar a cada título en particular (informe de resultados, anuncios de dividendos, balances anuales, trimestrales, variación del tipo de interé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do que una gran parte de la información utilizada por los analistas financieros está ampliamente disponible para el público, esta hipótesis desafía fuertemente la profesión de analista financi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o es, si la eficiencia del mercado se ajusta a dicha hipótesis, la persona que emplee 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nálisis fundament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 intentar lograr un rendimiento superior a la media del mercado está perdiendo el tiempo, puesto que la cotización de los títulos ya refleja exactamente su valor teórico o intrínse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única forma de lograr un rendimiento superior al promedio, que no sea por medio del azar, es a través de la utilización de la información privilegi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La hipótesis fuerte del mercado efici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pótesis fuer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e del supuesto de que los precios reflejan absolutamente toda la información ya sea pasada, pública o priva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ún ella, ningún inversor podrá “ganarle al mercado" sólo porr az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 es una hipótesis extrema que es prácticamente imposible de cumplir en ningún mercado, pues ello implicaría que dicho mercado sería perfecto y eso es una quim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rolario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necesario hacer hincapié en que para que un mercado sea eficiente es necesario que los participantes realicen análisis de la información a fin de que la competencia entre ellos, asegure que los precios de los títulos reflejan toda la información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Tipos de Análisi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técnic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busca patrones recurrentes en las series históricas de precios y, por tanto, predec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fundament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utiliza las predicciones de beneficios y dividendos de la empresa, las expectativas sobre los tipos de interés y la valoración del riesgo de la compañía para determinar el precio intrínseco de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os analistas pensaran que el mercado es eficiente y renunciaran a realizar sus análisis entonces es seguro que el mercado llegaría a ser rápida y completamente in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sumen, los mercados se aproximan a la eficiencia cuando los participantes en los mismos creen que no son eficientes y compiten buscando esa ineficiencia que les hará ganar una mayor rentabilidad que el promedio de los inversionist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mayoría de los estudios que se han realizado sobre la distribución de las cotizaciones bursátiles llevan a conclusiones muy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endall (1953) realizó un estudio sobre los cambios semanales de los precios de las acciones industriales británicas y llega a la conclusión de que la distribución de los rendimientos se aproximaba a una de tipo normal. Los precios parecían moverse aleatoriamente y no existían patrones predecibles sobre su compor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ore (1962), por su parte, analiza las primeras diferencias de los logaritmos de los precios de ocho acciones del NYSE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New York Stock Exchang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y también se inclina por la hipótesis de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gene Fama (1965) anali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 secuencias en los precios de la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ó que ni los retornos positivos ni los negativos persistían en una forma que contradijera la hipótesis de mercados efi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 encontró una correlación débil en los retornos de muy corto plazo. Sin embargo, no lo suficientemente grande como para contrarrestar los costos de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evidencia empírica apoya a la eficienci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mi-fuert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razón para esperar que los mercados sean eficientes en una forma débil es que es simple y barato encontrar patrones en los precios de los activos. Si, en realidad, estos existieran, la gente los explotaría. Pero, en ese proceso tales patrones desaparecí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semi-fuerte utiliza, en tanto, información y un razonamiento mucho más complejo que la eficiencia déb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fuerte es difícil de justificar. La evidencia empírica muestra que el uso de información interna de las empresas ha llevado a rendimientos anormalmente altos. (Jaffe,1974; Finnerty, 1976; Seyhun, 198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es eficiente si los precios de los activos reflejan completamente toda la información dispon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 anterior implica que los inversionistas deben esperar sólo una rentabilidad nor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empresas deben esperar recibir un valor justo por los activos financieros que venden.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Just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significa que el precio es el valor presente de los flujos futur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s activos financieros estarán valorados para proporcionar un rendimiento acorde con su nivel de riesg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llos inversionistas que creen que los mercados financieros son eficientes se dedicarán a realizar una gestión pasiva de sus carteras puesto que pensarán que todo análisis de la información pasada y actual es una pérdida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hay suficientes anomalías en dichos mercados que justifican la búsqueda de activos financieros infravalo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bien es cierto, que toda estrategia de inversión que inicialmente comience “ganándole al mercado” será rápidamente contrarrestada por el resto de los inversionistas debido a la fuerte competencia existente en el mer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ólo la consecución de una mejor información que el resto de los competidores (información privilegiada incluida) puede dar una ligera superioridad a la gestión de las carteras realizada por profes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 los mercados financieros existen una serie de operadores que persiguen la adquisición de un activo en un mercado determinado para venderlo inmediatamente en otro mercado a un precio sup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e les conoce como arbitrajistas porque a la operación antedicha se la denomina </a:t>
            </a: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arbitraje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cha operación no acarrea ningún riesgo puesto que la compra y venta del activo tienen lugar de forma instantán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arbitrajistas que compiten entre sí, aseguran que el precio de un activo determinado sea prácticamente Igual en todos los mercados financieros en los que se coti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 esto se le conoce como la "ley del precio único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pequeñas diferencias observadas entre los mismos se deben a los costos de transacción que no hacen rentable aprovecharse de las mismas y que actúan como un límite para la realización del arbitr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la competencia entre arbitrajistas es fundamental para que el mercado llegue a ser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un mercado en el que no existan oportunidades de arbitraje se puede decir que es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Reacción de los precios ante nuev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7480" y="19242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6200" y="5505480"/>
            <a:ext cx="550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8400" y="41529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62240" y="2914560"/>
            <a:ext cx="0" cy="127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3160" y="2895480"/>
            <a:ext cx="354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43160" y="41529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1040" y="2895480"/>
            <a:ext cx="1676520" cy="125748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0" y="792"/>
                </a:moveTo>
                <a:cubicBezTo>
                  <a:pt x="224" y="726"/>
                  <a:pt x="448" y="660"/>
                  <a:pt x="624" y="528"/>
                </a:cubicBezTo>
                <a:cubicBezTo>
                  <a:pt x="800" y="396"/>
                  <a:pt x="928" y="198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2240" y="2133720"/>
            <a:ext cx="0" cy="81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62240" y="1819440"/>
            <a:ext cx="3505320" cy="1076040"/>
          </a:xfrm>
          <a:custGeom>
            <a:avLst/>
            <a:gdLst/>
            <a:ahLst/>
            <a:rect l="l" t="t" r="r" b="b"/>
            <a:pathLst>
              <a:path w="2208" h="678">
                <a:moveTo>
                  <a:pt x="0" y="210"/>
                </a:moveTo>
                <a:cubicBezTo>
                  <a:pt x="92" y="105"/>
                  <a:pt x="184" y="0"/>
                  <a:pt x="552" y="78"/>
                </a:cubicBezTo>
                <a:cubicBezTo>
                  <a:pt x="920" y="156"/>
                  <a:pt x="1564" y="417"/>
                  <a:pt x="2208" y="6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4800" y="5391000"/>
            <a:ext cx="201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Días anteriores y posteriores al anun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43160" y="4172040"/>
            <a:ext cx="0" cy="1409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57760"/>
            <a:ext cx="1733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0 (día del anunc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1720" y="3448080"/>
            <a:ext cx="552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3867120"/>
            <a:ext cx="188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38760" y="1942920"/>
            <a:ext cx="1181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771560"/>
            <a:ext cx="219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Sobrereacción y reversión (burbu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34604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6633"/>
                </a:solidFill>
                <a:latin typeface="Arial"/>
              </a:rPr>
              <a:t>Precio a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514600" y="2914560"/>
            <a:ext cx="59040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0680" y="22669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mcdo.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38420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uso anteriormente que un mercado eficiente responde de manera inmediata a toda la información disponib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realidad, determinada información puede afectar a los precios de los activos más rápidamente que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a manejar tasas de respuesta diferenciales, la información se divide en tres tipo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de precios histó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públicamente dispon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oda la inform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finen tres niveles de eficiencia de los mercados de valores donde cada nivel refleja la clase de información que es rápidamente reflejada en el prec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os niveles se denominan: débil, intermedio y fue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hipótesis débil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one que cada título refleja totalment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Información contenida en la serie histórica de precios, es decir, t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información pas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inversionistas, por lo tanto,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no pueden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obtener rentabil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uperiores analizando dichas series, puesto que todos 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ticipantes del mercado habrán aprendido ya a explotar 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ñales que dichas series de precios pueden mostrar, y actuar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consecue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nálisis técnic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, se basa en el estudio de los gráficos d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olución pasada del precio de un títu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1:14Z</dcterms:created>
  <dc:creator>IVAN ALVAREZ VALDES</dc:creator>
  <dc:description/>
  <dc:language>en-US</dc:language>
  <cp:lastModifiedBy>ivan.alvarez</cp:lastModifiedBy>
  <dcterms:modified xsi:type="dcterms:W3CDTF">2006-05-17T16:00:51Z</dcterms:modified>
  <cp:revision>10</cp:revision>
  <dc:subject/>
  <dc:title>Eficiencia de Mercado</dc:title>
</cp:coreProperties>
</file>