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 SEGMENTACIÓN Y CICLO DE VIDA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la fase de incertidumb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ta la información sobre el consumidor, los canales y la competenc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dialéctica principal se establece entre el producto innovador y los sustitu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ducto suele ser el principal protagonista de la fase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Tendrá futur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os en las motivaciones del consum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mbios sociales  o económicos que favorecen nuevos usos d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evos grupos de consumidores que se empiezan a incorporar al consumo del produc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asa de fracasos muy elevada ¿Por qué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úblico no acepta la 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 consigue distribución (en los canales tradicionales o nuev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líderes (de los productos a sustituir) dominan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rece otra tecnología que si es acep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1. FASE DE INTRODU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puesta a punto del producto y la producció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orientación del público innovad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ar a conocer el producto y convencer al públic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laboración de la distribución o la creación de nuevos can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omento (tiempo) y forma de entra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rotección por patentes, barreras arancelari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mpetencia de los productos sustitut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istinguir entre prueba y repetición en la compra del produ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recimiento lento, faltan consumidores/usuarios y distribució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sh-flow negat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Hay que soportar inversiones en  producción e I + 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 usuario acepta el producto (incorporación de los primeros adoptadores y de la primera mayorí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 distribución se amplía rápidam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 éxito atrae a muchos competidores que conjuntamente contribuyen a desarrollar el merc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líderes de la industria entran en juego y marcan su hegemoní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 tasa de fracasos es ba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unas empresas tienen dificultades para financiar el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íderes futuros suelen crecer por encima  de la media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2. FASE DE CRECIMI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tener participación de Merc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bajar en el desarrollo de la Imagen de marca (fidelidad futur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jan los costos (efecto volumen y aprendizaj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usión de la tecnologí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bertura de la distribu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mente comienza el aprendizaje por parte del merc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ararse para bajadas de precios hacia el final de la f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perfila la definición de roles: líder, seguidor, retador, especiali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tención de recursos financie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flujos de caja  son positivos y crecen rápid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ortización de la inversión inic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roduce desaceleración del crecimiento  como consecuencia de la saturación del merc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ele tomar  a los desprevenidos con ampliaciones de capacidad y endeudamiento financie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ventas totales crecen a tasas más bajas pero mayores aún que el promedio de la Econom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y una inflexión brusca en la tasa de crecimi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 distribución encaja con dificultades y traslada la crisis a los fabrican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erte caída de preci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la de conservadurism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bando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 produce un abandono masivo de los competidores más débiles que no consiguen aguantar el cambio de veloci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arecen los “nicheros” o especialist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fuertes se reestructuran y se preparan para afrontar la madurez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3. FASE DE TURBUL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cionalización de todos los procesos. Hay que bajar cos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unos competidores aguantan por reputación, activos especializados, barreras de salida y ... Se incrementa la rivalidad competit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pliar la línea de productos con diferentes tamaños, sabores y variantes. Buscar satisfacer a segmentos y necesidades “aledaña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ansión geográfica e internacion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guantan los más fuertes (preparados en la etapa de crecimiento) y preparan la madurez (reestructuració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stión de la imagen versus promociones continuad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no se puede hacer lo anterior, hay que buscar nich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durez se caracteriza por la estabilidad y por ser la más larga del ciclo y en la que se encuentran la mayoría de los merc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líderes de mercado empiezan a imponer su hegemonía y se instaura un relativo oligopolio que favorece mantener un “statuo quo” de hech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Concentración de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anar cuota es caro y se tiende a mantener las posicio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e tiende a cumplir la llamada ley de Henderson (3*4). Tres competidores importantes con  un reparto de cuotas de 4 a 1 entre el primero y el últim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4. FASE DE MADUREZ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tasa de penetración es máxima: el consumidor es experto (última mayor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ersificar al máximo la línea de produc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s de reposición de bienes dur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tabilización tecnológica y estandarización de produc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crecer en mercados madur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Gaps de us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más cantidad, más frecuente, nuevos us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arrollo de periféricos de servic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¿Cómo mantener la rentabilid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lección de los segmentos ren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star más en Fidelizar cliente que en Penetra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e caracterizada  p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censo de la demand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ertidumbre respecto la decadencia 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ncertidumbre respecto a su dura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 una etapa que discrimina los competido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desinvierte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osechan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se especializan en mercados residua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ntables e invierten para segu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¿Cómo empiez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recen productos sustitu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consumidores (mayorías) cambian de hábitos y abandonan 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que quedan rezagados y el entorno en general apuntan a la obsolescencia del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167652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et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VP: 5. FASE DE DECLIVE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a tasa de abando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ctores crí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s barreras de salida y la calidad del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lítica de precios (pueden subir) y fidelidad del clien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ción selectiva o marketing direc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ntabilidad de nichos de merca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inio del mercado por un competidor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(ABSOLUT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7640" y="152388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RCADO POTENCIAL  (ACTUAL)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25748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 (ACTUAL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6002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ASO    POUPARI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Ñ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 POTENCIAL (ABSOLUT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4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o alcanzamos el Potenci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US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21142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UMIDORES POTENCIALES QUE NO SON USUA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CA FRECUENCIA DE U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JA CANT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DISTRIBU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219060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BERTURA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NSIDAD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OSICIÓN IN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FICIENCIA DE PRODUC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219060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- DEFINI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- OBSERVA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-  Cuidado con cual es el MP de refere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-  A veces algunas marcas incluyen ventas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de otros 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ortante control de preci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-  Análisis en el tiempo (mejor Promedios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Móviles para observar tendenci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- DESCOMPOSICIÓN DE LA PARTICIPACIÓ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ERC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Penetración * Lealtad * Int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LTA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abilidad que tiene u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ona promedio de comprar l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a X cuando va a comprar 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CIÓ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centaje del mercado Potenci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onsume alguna vez la marca 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SIDA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 uso) Número de veces en u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íodo de tiempo que el consumid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edio compra (consume) 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jemplo: Mercado de Café Soluble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ción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ción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ltad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sidad relativa de Nescafé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ción = Penetración * Lealtad * Intensi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6      =       0,65      *   0,86   *     1,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7520" y="582480"/>
            <a:ext cx="73130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ERCADOS Y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S DIMENSIONES PARA DEFINI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FUN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QUÉ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GRUPO DE COMPRADO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QUIÉN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TECNOLOGÍ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¿CÓM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 (Personas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n café, y algunas veces al menos,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café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umo promedio de 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4952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6760" y="4800600"/>
            <a:ext cx="67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nsidad relativa de consumo de café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600200"/>
          <a:ext cx="86868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café comprado por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café en un período de ti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café (cualquier marca) comprada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los 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de Nescafé comprada por l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radores de Nescafé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RTICIPACIÓN DE 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/Qcc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5988142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netr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x/Nc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6451612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ealt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Qxx/Qcx =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,8632478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tensidad rel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Qcx/Nx)/(Qcc/Nc)  =  1.0751976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MENSIONES DEL MERCADO DE REFERENCI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4040" y="28440"/>
            <a:ext cx="7253280" cy="63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 CICLO DE VID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clo de Vid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rco conceptu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es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acteriz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ractivo y evolución de un mercado-produc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os: Mayonesa, Productos Dietét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 CICLO DE VID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terminantes del Ciclo de V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nología (productos sustitutiv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cado (nuevos hábitos, variaciones de la població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fuerzo de Marketing de las empresas (no es neutr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bre la unidad de anális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o/mercado   versus   marca o produc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ICLO DE VIDA PRODUCTO/MERCAD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60020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.............</cp:lastModifiedBy>
  <dcterms:modified xsi:type="dcterms:W3CDTF">2006-05-18T21:20:13Z</dcterms:modified>
  <cp:revision>117</cp:revision>
  <dc:subject/>
  <dc:title>Sin título de diapositiva</dc:title>
</cp:coreProperties>
</file>