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985-8D13-4B85-8EC2-77CB2DA6DF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1EE89-55E4-4A72-86EB-92795CCE48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8DEB8-A0BF-40C0-961B-EB08C74B84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0473-B7FA-410A-B421-267D179F3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A9E1F-1258-4D44-AF3D-ECD51DFD4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AA1A7-DB29-4FFB-9B3D-9919EE0BB0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F772F-10F8-42FC-A052-76CE4E0E7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DEA53-BFAB-4A4E-A4C0-1BEC1E894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8C36-EAE3-4DC7-8607-0EAEA7894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5C4A5-A815-4492-8699-71BB0B6AB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211E-C3FA-42ED-B561-789BFCD41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FADE8-F73E-4281-96E7-64E25FF4D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AB516E-17E7-49B4-A4D4-E044B15EA630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8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0" y="1052640"/>
            <a:ext cx="9144000" cy="424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 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os planetas giran en torno al Sol con órbitas que son elipses con el Sol en un foco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la línea que une el Sol y un planeta barre áreas iguales en tiempos igual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1" lang="es-MX" sz="32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  Ley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el cuadrado del período orbital es proporcional al cubo de su semieje mayor :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3735000" y="5373720"/>
            <a:ext cx="165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l-G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α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a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es-MX" sz="3200" spc="-1" strike="noStrike" baseline="30000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2770920" y="260280"/>
            <a:ext cx="3707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eclipsantes</a:t>
            </a: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52360" y="1125360"/>
            <a:ext cx="8634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Una binaria eclipsante está compuesta por dos estrella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uya órbita esta en el plano de la visua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324000" y="2387520"/>
            <a:ext cx="8569080" cy="447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836640"/>
            <a:ext cx="91440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ejemplo más conocido de binaria eclipsante es Algol (en la constelación de Perseo)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gol se hace 3 veces más débil por unas poc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oras cada 3 días, cuando la componente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rillante del sistema es eclipsada por su compañe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ás débil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982160" y="209520"/>
            <a:ext cx="5170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Binarias espectroscópica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244440" y="907920"/>
            <a:ext cx="8701560" cy="643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on sistemas en que sólo podemos detectar 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ariaciones de velocidades radiales de amb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trellas debido a su movimiento en torno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mún. En este caso vemos dos sistemas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spectrales que se mueven periódicamente haci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azul y el rojo, con distintas velocidad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muchos casos sólo vemos un sistema de líne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bido a que la otra estrella es muy débil, en es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so sólo podemos dar una masa mínima pa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estrella que no se detecta (Función de Masa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2121480" y="189000"/>
            <a:ext cx="443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Determina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" name=""/>
              <p:cNvSpPr txBox="1"/>
              <p:nvPr/>
            </p:nvSpPr>
            <p:spPr>
              <a:xfrm>
                <a:off x="250920" y="1052640"/>
                <a:ext cx="475272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5" name=""/>
              <p:cNvSpPr txBox="1"/>
              <p:nvPr/>
            </p:nvSpPr>
            <p:spPr>
              <a:xfrm>
                <a:off x="6443640" y="1268280"/>
                <a:ext cx="2160720" cy="1440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r>
                          <m:t xml:space="preserve">a</m:t>
                        </m:r>
                      </m:num>
                      <m:den>
                        <m:r>
                          <m:t xml:space="preserve">v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86" name=""/>
          <p:cNvSpPr/>
          <p:nvPr/>
        </p:nvSpPr>
        <p:spPr>
          <a:xfrm>
            <a:off x="611280" y="4241880"/>
            <a:ext cx="32241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 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período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emieje may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4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orbit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7" name=""/>
              <p:cNvSpPr txBox="1"/>
              <p:nvPr/>
            </p:nvSpPr>
            <p:spPr>
              <a:xfrm>
                <a:off x="5003640" y="2924280"/>
                <a:ext cx="2376720" cy="181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den>
                    </m:f>
                    <m:r>
                      <m:t xml:space="preserve">=</m:t>
                    </m:r>
                    <m:f>
                      <m:num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1097280" y="347760"/>
            <a:ext cx="198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emplo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1341360"/>
            <a:ext cx="914400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s líneas del espectro de dos estrellas que forma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na binaria eclipsante se mueven con un períod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2 años (p = 6.2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s). Las líneas de un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1) se desplazan el doble que las de la otr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estrella 2). El desplazamiento Doppler indic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la estrella 1 tiene una velocidad radi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 = 100000 m/s (suponer que ambas estrell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ienen órbitas circularesen torno a su 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alcular amba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380520" y="517680"/>
            <a:ext cx="84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omo tenemos el período orbital, podemos determin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l semieje mayor  dado qu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1" name=""/>
              <p:cNvSpPr txBox="1"/>
              <p:nvPr/>
            </p:nvSpPr>
            <p:spPr>
              <a:xfrm>
                <a:off x="0" y="1773360"/>
                <a:ext cx="9144000" cy="122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  <m:r>
                          <m:t xml:space="preserve">×</m:t>
                        </m:r>
                        <m:r>
                          <m:t xml:space="preserve">v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r>
                          <m:t xml:space="preserve">6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62</m:t>
                        </m:r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10</m:t>
                            </m:r>
                          </m:e>
                          <m:sup>
                            <m:r>
                              <m:t xml:space="preserve">7</m:t>
                            </m:r>
                          </m:sup>
                        </m:sSup>
                        <m:r>
                          <m:t xml:space="preserve">s</m:t>
                        </m:r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(</m:t>
                        </m:r>
                        <m:r>
                          <m:rPr>
                            <m:lit/>
                            <m:nor/>
                          </m:rPr>
                          <m:t xml:space="preserve">100000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s</m:t>
                            </m:r>
                          </m:den>
                        </m:f>
                        <m:r>
                          <m:t xml:space="preserve">)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  <m:r>
                      <m:t xml:space="preserve">=</m:t>
                    </m:r>
                    <m:r>
                      <m:t xml:space="preserve">9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9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11</m:t>
                        </m:r>
                      </m:sup>
                    </m:sSup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2" name=""/>
          <p:cNvSpPr/>
          <p:nvPr/>
        </p:nvSpPr>
        <p:spPr>
          <a:xfrm>
            <a:off x="160920" y="3543480"/>
            <a:ext cx="1535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3" name=""/>
              <p:cNvSpPr txBox="1"/>
              <p:nvPr/>
            </p:nvSpPr>
            <p:spPr>
              <a:xfrm>
                <a:off x="1835280" y="3213000"/>
                <a:ext cx="6624360" cy="12448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sSup>
                          <m:e>
                            <m:r>
                              <m:t xml:space="preserve">a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sSup>
                          <m:e>
                            <m:r>
                              <m:t xml:space="preserve">p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  <m:r>
                      <m:t xml:space="preserve">=</m:t>
                    </m:r>
                    <m:r>
                      <m:t xml:space="preserve">1</m:t>
                    </m:r>
                    <m:r>
                      <m:rPr>
                        <m:lit/>
                        <m:nor/>
                      </m:rPr>
                      <m:t xml:space="preserve">.</m:t>
                    </m:r>
                    <m:r>
                      <m:t xml:space="preserve">5</m:t>
                    </m:r>
                    <m:r>
                      <m:t xml:space="preserve">×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10</m:t>
                        </m:r>
                      </m:e>
                      <m:sup>
                        <m:r>
                          <m:rPr>
                            <m:lit/>
                            <m:nor/>
                          </m:rPr>
                          <m:t xml:space="preserve">3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kg</m:t>
                    </m:r>
                  </m:oMath>
                </a14:m>
              </a:p>
            </p:txBody>
          </p:sp>
        </mc:Choice>
        <mc:Fallback/>
      </mc:AlternateContent>
      <p:sp>
        <p:nvSpPr>
          <p:cNvPr id="94" name=""/>
          <p:cNvSpPr/>
          <p:nvPr/>
        </p:nvSpPr>
        <p:spPr>
          <a:xfrm>
            <a:off x="0" y="4767120"/>
            <a:ext cx="9144000" cy="14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 la líneas de la estrella 1 se desplazan el doble que 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2, esto implica que su velocidad es el doble (Doppler) , y su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sa la mitad,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2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1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  ;  M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= 0.5 × 10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32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k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69360" y="469800"/>
            <a:ext cx="738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n el caso que la estrella 2 no sea visible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97" name=""/>
          <p:cNvSpPr/>
          <p:nvPr/>
        </p:nvSpPr>
        <p:spPr>
          <a:xfrm>
            <a:off x="5147280" y="314172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v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476280"/>
            <a:ext cx="8459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66"/>
                </a:solidFill>
                <a:latin typeface="Times New Roman"/>
              </a:rPr>
              <a:t>Planetas extra-solares (exo-planetas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90360" y="1716120"/>
            <a:ext cx="944388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Métodos de detec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irecto (aún en el futuro ??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movimiento propio en torno al CM  (poco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ffff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or variación de velocidad radial (método má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   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usado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547640" y="620640"/>
            <a:ext cx="6048720" cy="568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000760" y="3860640"/>
            <a:ext cx="237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al az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111680" y="3716280"/>
            <a:ext cx="3082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luz corrida hacia el roj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119480" y="6041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995640" y="6400800"/>
            <a:ext cx="93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Tier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839120" y="2513160"/>
            <a:ext cx="1114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Estrell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772240" y="712800"/>
            <a:ext cx="246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00"/>
                </a:solidFill>
                <a:latin typeface="Times New Roman"/>
              </a:rPr>
              <a:t>Planeta extra-sol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5797800" y="11970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*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0" y="476280"/>
            <a:ext cx="9144000" cy="5948280"/>
          </a:xfrm>
          <a:prstGeom prst="rect">
            <a:avLst/>
          </a:prstGeom>
          <a:ln w="0">
            <a:noFill/>
          </a:ln>
        </p:spPr>
      </p:pic>
      <p:sp>
        <p:nvSpPr>
          <p:cNvPr id="110" name=""/>
          <p:cNvSpPr/>
          <p:nvPr/>
        </p:nvSpPr>
        <p:spPr>
          <a:xfrm>
            <a:off x="250920" y="2133720"/>
            <a:ext cx="1839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4000" y="2060640"/>
            <a:ext cx="470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azu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32920" y="4334040"/>
            <a:ext cx="469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pectro corrido hacia el roj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095840" y="3398760"/>
            <a:ext cx="314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hacia el observad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6137640" y="1093680"/>
            <a:ext cx="2586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cerc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444720" y="6093000"/>
            <a:ext cx="2334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objeto se ale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55640" y="-360"/>
            <a:ext cx="77724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es de Newton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0" y="1386000"/>
            <a:ext cx="91440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n ausencia de una fuerza externa un objeto se mueve con velocidad constante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s-MX" sz="28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2800" spc="-1" strike="noStrike">
                <a:solidFill>
                  <a:srgbClr val="ff0000"/>
                </a:solidFill>
                <a:latin typeface="Times New Roman"/>
              </a:rPr>
              <a:t>  Ley de Newton</a:t>
            </a:r>
            <a:r>
              <a:rPr b="1" lang="es-MX" sz="2800" spc="-1" strike="noStrike">
                <a:solidFill>
                  <a:srgbClr val="ffff66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: fuerza = masa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acelera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en-US" sz="2800" spc="-1" strike="noStrike" baseline="30000">
                <a:solidFill>
                  <a:srgbClr val="ff0000"/>
                </a:solidFill>
                <a:latin typeface="Times New Roman"/>
                <a:ea typeface="Times New Roman"/>
              </a:rPr>
              <a:t>a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Ley de Newton</a:t>
            </a:r>
            <a:r>
              <a:rPr b="1" lang="en-US" sz="2800" spc="-1" strike="noStrike">
                <a:solidFill>
                  <a:srgbClr val="ffff66"/>
                </a:solidFill>
                <a:latin typeface="Times New Roman"/>
                <a:ea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para cualquier fuerza existe u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fuerza de reacción de igual magnitud y direc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puesta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55640" y="0"/>
            <a:ext cx="7772400" cy="65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000" spc="-1" strike="noStrike">
                <a:solidFill>
                  <a:srgbClr val="ffff00"/>
                </a:solidFill>
                <a:latin typeface="Times New Roman"/>
              </a:rPr>
              <a:t>Curva de velocidad radial de 51 Peg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258920" y="1052640"/>
            <a:ext cx="7056360" cy="489888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3759480" y="6184800"/>
            <a:ext cx="1986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Tiempo (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39640" y="1268280"/>
            <a:ext cx="5446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v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4360" y="4724280"/>
            <a:ext cx="84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(m/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2880" y="1628640"/>
            <a:ext cx="89665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l planeta de 51 Peg tiene 60% de la masa 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Júpiter,  pero gira en torno a su estrell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en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~ 4 días, su temperatura sería de ~ 1000 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0" y="1341360"/>
            <a:ext cx="9144000" cy="551664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248040" y="260280"/>
            <a:ext cx="368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en el plano del cie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211640" y="260280"/>
            <a:ext cx="4932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Orbita perpendicular al plano del      cielo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280" y="765000"/>
            <a:ext cx="392688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No se detecta variación de v</a:t>
            </a:r>
            <a:r>
              <a:rPr b="1" lang="es-MX" sz="2400" spc="-1" strike="noStrike" baseline="-25000">
                <a:solidFill>
                  <a:srgbClr val="ffff00"/>
                </a:solidFill>
                <a:latin typeface="Times New Roman"/>
              </a:rPr>
              <a:t>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76960" y="1766880"/>
            <a:ext cx="4219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Inclinación de la órbi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del planeta extra-sol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826920" y="404640"/>
            <a:ext cx="8317080" cy="576108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4068720" y="6021360"/>
            <a:ext cx="1955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mpo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34000" y="2678040"/>
            <a:ext cx="476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52000" y="1989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↑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185280" y="354348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7072920" y="4191120"/>
            <a:ext cx="1166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eclip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62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Tránsito de HD209458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1"/>
          <a:stretch/>
        </p:blipFill>
        <p:spPr>
          <a:xfrm>
            <a:off x="0" y="765000"/>
            <a:ext cx="5113440" cy="5832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5212800" y="620640"/>
            <a:ext cx="392832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en este caso el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 tapa el 1.7%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 la luz de la estrell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urante el tránsito, es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ermite estimar el ra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del planeta conociend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de la estrella</a:t>
            </a:r>
            <a:r>
              <a:rPr b="1" lang="es-MX" sz="24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484240" y="3776760"/>
            <a:ext cx="365688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omo la órbita está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l plano de la línea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la visual, podemo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calcular su masa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Resultó ser un planet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ecido a Júpit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4360" y="0"/>
            <a:ext cx="7772400" cy="8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Cálculo de masas de exo-planet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0" y="836640"/>
            <a:ext cx="9144000" cy="602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 la estrella (se conoce por el espectr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M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masa del exo-plane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 la estrella c/r  al centro de masas (CM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v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velocidad orbital del exo-planeta c/r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1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 la estrella al CM (normalmente muy pequeñ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r</a:t>
            </a:r>
            <a:r>
              <a:rPr b="0" lang="es-MX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s-MX" sz="3200" spc="-1" strike="noStrike">
                <a:solidFill>
                  <a:srgbClr val="ffff00"/>
                </a:solidFill>
                <a:latin typeface="Times New Roman"/>
              </a:rPr>
              <a:t> : distancia del exo-planeta al C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826920" y="-6375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0" name=""/>
              <p:cNvSpPr txBox="1"/>
              <p:nvPr/>
            </p:nvSpPr>
            <p:spPr>
              <a:xfrm>
                <a:off x="468360" y="333360"/>
                <a:ext cx="2558880" cy="1657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1" name=""/>
              <p:cNvSpPr txBox="1"/>
              <p:nvPr/>
            </p:nvSpPr>
            <p:spPr>
              <a:xfrm>
                <a:off x="5651640" y="260280"/>
                <a:ext cx="266364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2</m:t>
                        </m:r>
                        <m:r>
                          <m:t xml:space="preserve">π</m:t>
                        </m:r>
                        <m:r>
                          <m:t xml:space="preserve">×</m:t>
                        </m:r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r>
                          <m:t xml:space="preserve">p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42" name=""/>
              <p:cNvSpPr txBox="1"/>
              <p:nvPr/>
            </p:nvSpPr>
            <p:spPr>
              <a:xfrm>
                <a:off x="250920" y="1916280"/>
                <a:ext cx="4033800" cy="1582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v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  <m:r>
                          <m:t xml:space="preserve">×</m:t>
                        </m:r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3" name=""/>
          <p:cNvSpPr/>
          <p:nvPr/>
        </p:nvSpPr>
        <p:spPr>
          <a:xfrm>
            <a:off x="5888520" y="2276640"/>
            <a:ext cx="2421000" cy="85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+ r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= 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15720" y="4138560"/>
            <a:ext cx="664848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1 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: velocidad orbital de objeto 1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4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: velocidad orbital de objeto 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 : semieje mayor de la órbit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380160" y="469800"/>
            <a:ext cx="550404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La expresión final para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e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46" name=""/>
              <p:cNvSpPr txBox="1"/>
              <p:nvPr/>
            </p:nvSpPr>
            <p:spPr>
              <a:xfrm>
                <a:off x="395280" y="1268280"/>
                <a:ext cx="8280360" cy="210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</m:t>
                    </m:r>
                    <m:r>
                      <m:t xml:space="preserve">)</m:t>
                    </m:r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sSubSup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  <m:sup>
                            <m:r>
                              <m:t xml:space="preserve">3</m:t>
                            </m:r>
                          </m:sup>
                        </m:sSubSup>
                        <m:r>
                          <m:t xml:space="preserve">×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sin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  <m:r>
                          <m:t xml:space="preserve">i</m:t>
                        </m:r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147" name=""/>
          <p:cNvSpPr/>
          <p:nvPr/>
        </p:nvSpPr>
        <p:spPr>
          <a:xfrm>
            <a:off x="5507640" y="3525840"/>
            <a:ext cx="3278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unción de mas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4076640"/>
            <a:ext cx="914400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obs) = velocidad radial med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in i = 1  si la órbita está en el plano de la visu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es la masa de la estrella que se puede estim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11280" y="-31212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-360" y="259920"/>
            <a:ext cx="3809880" cy="655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Usando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"/>
              <p:cNvSpPr txBox="1"/>
              <p:nvPr/>
            </p:nvSpPr>
            <p:spPr>
              <a:xfrm>
                <a:off x="2843280" y="0"/>
                <a:ext cx="5257800" cy="1366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152" name=""/>
          <p:cNvSpPr/>
          <p:nvPr/>
        </p:nvSpPr>
        <p:spPr>
          <a:xfrm>
            <a:off x="5067360" y="4114800"/>
            <a:ext cx="297180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3" name=""/>
              <p:cNvSpPr txBox="1"/>
              <p:nvPr/>
            </p:nvSpPr>
            <p:spPr>
              <a:xfrm>
                <a:off x="250920" y="1557360"/>
                <a:ext cx="6697440" cy="1297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)</m:t>
                    </m:r>
                    <m:r>
                      <m:t xml:space="preserve">=</m:t>
                    </m:r>
                    <m:f>
                      <m:num>
                        <m:r>
                          <m:t xml:space="preserve">p</m:t>
                        </m:r>
                      </m:num>
                      <m:den>
                        <m:r>
                          <m:t xml:space="preserve">2</m:t>
                        </m:r>
                        <m:r>
                          <m:t xml:space="preserve">πG</m:t>
                        </m:r>
                      </m:den>
                    </m:f>
                    <m:r>
                      <m:t xml:space="preserve">×</m:t>
                    </m:r>
                    <m:r>
                      <m:t xml:space="preserve">(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4" name=""/>
              <p:cNvSpPr txBox="1"/>
              <p:nvPr/>
            </p:nvSpPr>
            <p:spPr>
              <a:xfrm>
                <a:off x="1042920" y="371628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5" name=""/>
              <p:cNvSpPr txBox="1"/>
              <p:nvPr/>
            </p:nvSpPr>
            <p:spPr>
              <a:xfrm>
                <a:off x="2843280" y="4149720"/>
                <a:ext cx="2971800" cy="1800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56" name=""/>
              <p:cNvSpPr txBox="1"/>
              <p:nvPr/>
            </p:nvSpPr>
            <p:spPr>
              <a:xfrm>
                <a:off x="2411280" y="3933720"/>
                <a:ext cx="2971800" cy="70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v</m:t>
                    </m:r>
                    <m:r>
                      <m:t xml:space="preserve">=</m:t>
                    </m:r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t xml:space="preserve">r</m:t>
                        </m:r>
                      </m:sub>
                    </m:sSub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observada</m:t>
                    </m:r>
                    <m:r>
                      <m:t xml:space="preserve">)</m:t>
                    </m:r>
                    <m:r>
                      <m:t xml:space="preserve">×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sin</m:t>
                    </m:r>
                    <m:r>
                      <m:t xml:space="preserve">i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57" name=""/>
          <p:cNvSpPr/>
          <p:nvPr/>
        </p:nvSpPr>
        <p:spPr>
          <a:xfrm>
            <a:off x="0" y="4941720"/>
            <a:ext cx="9144000" cy="113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Para el caso de exo-planetas la masa de la estrella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conoce, v</a:t>
            </a:r>
            <a:r>
              <a:rPr b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se mide, y   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= v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 / 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3141720"/>
            <a:ext cx="9144000" cy="17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 v = v</a:t>
            </a:r>
            <a:r>
              <a:rPr b="1" i="1" lang="es-MX" sz="3600" spc="-1" strike="noStrike" baseline="-25000">
                <a:solidFill>
                  <a:srgbClr val="000000"/>
                </a:solidFill>
                <a:latin typeface="Times New Roman"/>
              </a:rPr>
              <a:t>r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observada</a:t>
            </a:r>
            <a:r>
              <a:rPr b="1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×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in 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 :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clinación de la órbita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; i ~ 90°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uando hay un eclips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436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ff66"/>
                </a:solidFill>
                <a:latin typeface="Times New Roman"/>
              </a:rPr>
              <a:t>Espectro Sol - Tierr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684360" y="1484280"/>
            <a:ext cx="7920000" cy="511344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4264920" y="4070520"/>
            <a:ext cx="131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849280" y="1695600"/>
            <a:ext cx="723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74872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Ley de gravitación universal (Newton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-360" y="980640"/>
            <a:ext cx="4716360" cy="58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materia atrae a la materia por la fuerza  de grave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objetos es directamente proporcional al producto de sus mas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a fuerza de atracción entre dos cuerpos es inversamente proporcional al cuadrado de la distancia entre sus centro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5067000" y="4114440"/>
            <a:ext cx="2971800" cy="198108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49" name=""/>
              <p:cNvSpPr txBox="1"/>
              <p:nvPr/>
            </p:nvSpPr>
            <p:spPr>
              <a:xfrm>
                <a:off x="4932360" y="1197000"/>
                <a:ext cx="3960720" cy="1781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F</m:t>
                        </m:r>
                      </m:e>
                      <m:sub>
                        <m:r>
                          <m:t xml:space="preserve">g</m:t>
                        </m:r>
                      </m:sub>
                    </m:sSub>
                    <m:r>
                      <m:t xml:space="preserve">=</m:t>
                    </m:r>
                    <m:r>
                      <m:t xml:space="preserve">G</m:t>
                    </m:r>
                    <m:f>
                      <m:num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×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num>
                      <m:den>
                        <m:sSup>
                          <m:e>
                            <m:r>
                              <m:t xml:space="preserve">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50" name=""/>
          <p:cNvSpPr/>
          <p:nvPr/>
        </p:nvSpPr>
        <p:spPr>
          <a:xfrm>
            <a:off x="4893840" y="3645000"/>
            <a:ext cx="392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= 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/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732960" y="1986120"/>
            <a:ext cx="233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Detección indirecta</a:t>
            </a:r>
            <a:r>
              <a:rPr b="1" lang="es-MX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3781080" y="3357720"/>
            <a:ext cx="103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800" spc="-1" strike="noStrike">
                <a:solidFill>
                  <a:srgbClr val="000000"/>
                </a:solidFill>
                <a:latin typeface="Times New Roman"/>
              </a:rPr>
              <a:t>Jupiter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926040" y="2994120"/>
            <a:ext cx="1765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000000"/>
                </a:solidFill>
                <a:latin typeface="Times New Roman"/>
              </a:rPr>
              <a:t>espectroscopí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948360" cy="6453360"/>
          </a:xfrm>
          <a:prstGeom prst="rect">
            <a:avLst/>
          </a:prstGeom>
          <a:ln w="0">
            <a:noFill/>
          </a:ln>
        </p:spPr>
      </p:pic>
      <p:sp>
        <p:nvSpPr>
          <p:cNvPr id="169" name=""/>
          <p:cNvSpPr/>
          <p:nvPr/>
        </p:nvSpPr>
        <p:spPr>
          <a:xfrm>
            <a:off x="1547640" y="6461280"/>
            <a:ext cx="1030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1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83672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501080" y="6461280"/>
            <a:ext cx="74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00"/>
                </a:solidFill>
                <a:latin typeface="Times New Roman"/>
              </a:rPr>
              <a:t>4 U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789440" y="5950080"/>
            <a:ext cx="24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Times New Roman"/>
              </a:rPr>
              <a:t>|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56360" y="2276640"/>
            <a:ext cx="20876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rimeros 77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lanetas descubiert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755640" y="836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¿Está esto de acuerdo con lo que sabemos de la formación del Sistema Solar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501120" y="3860280"/>
            <a:ext cx="8642520" cy="23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podemos explicar la forma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lanetas jovianos tan cerca de la estrell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331080" y="2171880"/>
            <a:ext cx="1532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¡ NO !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4032360" cy="6858000"/>
          </a:xfrm>
          <a:prstGeom prst="rect">
            <a:avLst/>
          </a:prstGeom>
          <a:ln w="0">
            <a:noFill/>
          </a:ln>
        </p:spPr>
      </p:pic>
      <p:sp>
        <p:nvSpPr>
          <p:cNvPr id="178" name=""/>
          <p:cNvSpPr/>
          <p:nvPr/>
        </p:nvSpPr>
        <p:spPr>
          <a:xfrm>
            <a:off x="4356000" y="692280"/>
            <a:ext cx="4788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olapso de una nebulos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ara formar una estrell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y su sistema planetari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11828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684360" y="6021360"/>
            <a:ext cx="7934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ímite de formación de planetas rocosos y gaseos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36960" y="326880"/>
            <a:ext cx="414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Formación de planeta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11280" y="-401760"/>
            <a:ext cx="77724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E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84" name=""/>
              <p:cNvSpPr txBox="1"/>
              <p:nvPr/>
            </p:nvSpPr>
            <p:spPr>
              <a:xfrm>
                <a:off x="0" y="3716280"/>
                <a:ext cx="39243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escape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G</m:t>
                            </m:r>
                            <m:r>
                              <m:t xml:space="preserve">×</m:t>
                            </m:r>
                            <m:r>
                              <m:t xml:space="preserve">M</m:t>
                            </m:r>
                          </m:num>
                          <m:den>
                            <m:r>
                              <m:t xml:space="preserve">R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85" name=""/>
              <p:cNvSpPr txBox="1"/>
              <p:nvPr/>
            </p:nvSpPr>
            <p:spPr>
              <a:xfrm>
                <a:off x="0" y="692280"/>
                <a:ext cx="3816360" cy="20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v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érmica</m:t>
                        </m:r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r>
                              <m:t xml:space="preserve">2</m:t>
                            </m:r>
                            <m:r>
                              <m:t xml:space="preserve">×</m:t>
                            </m:r>
                            <m:r>
                              <m:t xml:space="preserve">k</m:t>
                            </m:r>
                            <m:r>
                              <m:t xml:space="preserve">×</m:t>
                            </m:r>
                            <m:r>
                              <m:t xml:space="preserve">T</m:t>
                            </m:r>
                          </m:num>
                          <m:den>
                            <m:r>
                              <m:t xml:space="preserve">m</m:t>
                            </m:r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186" name=""/>
          <p:cNvSpPr/>
          <p:nvPr/>
        </p:nvSpPr>
        <p:spPr>
          <a:xfrm>
            <a:off x="4423320" y="981000"/>
            <a:ext cx="4356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temperatur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 la partícul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de Boltzma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20960" y="3573360"/>
            <a:ext cx="45057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cuerp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distancia (radio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 : const. de gravitació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060880" y="2565360"/>
            <a:ext cx="184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021280" y="2444760"/>
            <a:ext cx="3381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1.38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2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joule/K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335920" y="5084640"/>
            <a:ext cx="377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(6.67 10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-1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m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/ kg s</a:t>
            </a:r>
            <a:r>
              <a:rPr b="1" lang="es-MX" sz="32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547640" y="812880"/>
            <a:ext cx="7596360" cy="523692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3350520" y="6338880"/>
            <a:ext cx="296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en km/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240" y="1125360"/>
            <a:ext cx="18662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Número d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77080" y="333360"/>
            <a:ext cx="4182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áximo de la distribució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911920" y="5877000"/>
            <a:ext cx="3230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locidad de escap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273280" y="-130320"/>
            <a:ext cx="25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átomos de sodi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93600" y="5559480"/>
            <a:ext cx="1658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= 400 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68360" y="260280"/>
            <a:ext cx="835164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Para el caso de la Luna se pued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determinar que su velocidad de escap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que es de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≈ 2.4 km/s,  su temperatu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el día es  T = 400 K. A esa temperatura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los átomos de sodio tienen una velocidad térmica de 0.5 km/s , por lo tanto l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átomos de sodio son retenido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y constituyen la delgada atmósfer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la Luna.  La masa del sodio es 23 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veces mayor que la del hidrogeno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(que es de 1.6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6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27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kg)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/>
          </p:nvPr>
        </p:nvSpPr>
        <p:spPr>
          <a:xfrm>
            <a:off x="0" y="259920"/>
            <a:ext cx="9144000" cy="659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terrestre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rocosos) se forman más cerc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l Sol, donde está más caliente.  El hidrógeno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helio y algunos otros elementos están en form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as que se escapan del planeta el cual se queda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principalmente con minerales y rocas que tienen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emperaturas de condensación más alt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Planetas jovianos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(gaseosos), más lejanos al Sol,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odo está congelado son capaces de retener t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material de la nube inicial finalizando c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randes masa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2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¿ Por qué los exo-planetas son distintos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501120" y="907560"/>
            <a:ext cx="8642520" cy="475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Posible explicación 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igración de planetas hacia la estrella p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viscosidad con el gas y polvo que no ha si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barrido por la estrella 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¿ Efecto de selección 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536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ff00"/>
                </a:solidFill>
                <a:latin typeface="Times New Roman"/>
              </a:rPr>
              <a:t>Gravitación universal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762120" y="2711520"/>
            <a:ext cx="7619760" cy="2654280"/>
          </a:xfrm>
          <a:prstGeom prst="rect">
            <a:avLst/>
          </a:prstGeom>
          <a:ln w="0">
            <a:noFill/>
          </a:ln>
        </p:spPr>
      </p:pic>
      <p:sp>
        <p:nvSpPr>
          <p:cNvPr id="53" name=""/>
          <p:cNvSpPr/>
          <p:nvPr/>
        </p:nvSpPr>
        <p:spPr>
          <a:xfrm>
            <a:off x="240192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5642280" y="3782880"/>
            <a:ext cx="45648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r</a:t>
            </a:r>
            <a:r>
              <a:rPr b="0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57080" y="364500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*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40360" y="3860640"/>
            <a:ext cx="86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C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0" y="1773360"/>
            <a:ext cx="914400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n el caso del sistema Sol – Júpiter, amb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giran en torno a su centro de masa con un perío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de 5.2 años.  La órbita de Júpier tiene un semiej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yor de 7.78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×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8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km, mientras que la del So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s de 742000 km, cómo el Sol tiene un radio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696000 km, éste lentamente se bambolea en torno a un punto (CM) que está no muy lej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e su superficie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203040"/>
            <a:ext cx="598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0000"/>
                </a:solidFill>
                <a:latin typeface="Times New Roman"/>
              </a:rPr>
              <a:t>Ej :          Sistema Sol -Júpit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439200" y="254160"/>
            <a:ext cx="7729200" cy="30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a  velocidad con que el Sol orbita en tor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al CM (Júpiter – Sol) es de 12.5 m/s, es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significa que , por ejemplo, la línea de H</a:t>
            </a:r>
            <a:r>
              <a:rPr b="1" lang="el-GR" sz="3200" spc="-1" strike="noStrike" baseline="-25000">
                <a:solidFill>
                  <a:srgbClr val="ffff00"/>
                </a:solidFill>
                <a:latin typeface="Times New Roman"/>
                <a:ea typeface="Times New Roman"/>
              </a:rPr>
              <a:t>α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en 6563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Å se desplazaría 2.6 10</a:t>
            </a:r>
            <a:r>
              <a:rPr b="1" lang="en-US" sz="3200" spc="-1" strike="noStrike" baseline="30000">
                <a:solidFill>
                  <a:srgbClr val="ffff00"/>
                </a:solidFill>
                <a:latin typeface="Times New Roman"/>
                <a:ea typeface="Times New Roman"/>
              </a:rPr>
              <a:t>-4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 Å, val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que está en el límite de lo que se pue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edir actualmente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41000" y="3567240"/>
            <a:ext cx="7799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Es más fácil detectar planetas masivos 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cercanos a su estrella ya que estos produc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mayores variaciones en las velocidad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radiales observadas</a:t>
            </a: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197440" y="5734080"/>
            <a:ext cx="419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00"/>
                </a:solidFill>
                <a:latin typeface="Times New Roman"/>
              </a:rPr>
              <a:t>¿ Será la respuesta 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7" name="" descr=""/>
          <p:cNvPicPr/>
          <p:nvPr/>
        </p:nvPicPr>
        <p:blipFill>
          <a:blip r:embed="rId1"/>
          <a:stretch/>
        </p:blipFill>
        <p:spPr>
          <a:xfrm>
            <a:off x="-252360" y="0"/>
            <a:ext cx="9396360" cy="68580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>
            <a:off x="2561400" y="0"/>
            <a:ext cx="6580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600" spc="-1" strike="noStrike">
                <a:solidFill>
                  <a:srgbClr val="ffffff"/>
                </a:solidFill>
                <a:latin typeface="Times New Roman"/>
              </a:rPr>
              <a:t>Búsqueda de vida extraterrestre.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762120" y="1035000"/>
            <a:ext cx="7619760" cy="4788000"/>
          </a:xfrm>
          <a:prstGeom prst="rect">
            <a:avLst/>
          </a:prstGeom>
          <a:ln w="0">
            <a:noFill/>
          </a:ln>
        </p:spPr>
      </p:pic>
      <p:sp>
        <p:nvSpPr>
          <p:cNvPr id="210" name=""/>
          <p:cNvSpPr/>
          <p:nvPr/>
        </p:nvSpPr>
        <p:spPr>
          <a:xfrm>
            <a:off x="7290720" y="1382760"/>
            <a:ext cx="1128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Ven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434000" y="2822400"/>
            <a:ext cx="116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576920" y="4262400"/>
            <a:ext cx="1127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Mar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35080" y="5846760"/>
            <a:ext cx="478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Longitud de onda en micron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117800" y="189000"/>
            <a:ext cx="726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Agua y oxígeno sólo se encuentran en la Tierr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1549440"/>
            <a:ext cx="9144000" cy="447192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803520" y="111240"/>
            <a:ext cx="531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Zona habitable : agua líqui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260360" y="6021360"/>
            <a:ext cx="226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Sistema Sol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213800" y="5199120"/>
            <a:ext cx="30960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000000"/>
                </a:solidFill>
                <a:latin typeface="Times New Roman"/>
              </a:rPr>
              <a:t>Estrella con  ½ M</a:t>
            </a:r>
            <a:r>
              <a:rPr b="1" lang="es-MX" sz="28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Versión de Newton de la 3</a:t>
            </a:r>
            <a:r>
              <a:rPr b="1" lang="es-MX" sz="4000" spc="-1" strike="noStrike" baseline="30000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s-MX" sz="4000" spc="-1" strike="noStrike">
                <a:solidFill>
                  <a:srgbClr val="ff0000"/>
                </a:solidFill>
                <a:latin typeface="Times New Roman"/>
              </a:rPr>
              <a:t> ley de  Kepler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"/>
              <p:cNvSpPr txBox="1"/>
              <p:nvPr/>
            </p:nvSpPr>
            <p:spPr>
              <a:xfrm>
                <a:off x="1042920" y="1989000"/>
                <a:ext cx="7058160" cy="1871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p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sSup>
                      <m:e>
                        <m:r>
                          <m:t xml:space="preserve">a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59" name=""/>
          <p:cNvSpPr/>
          <p:nvPr/>
        </p:nvSpPr>
        <p:spPr>
          <a:xfrm>
            <a:off x="676800" y="4221000"/>
            <a:ext cx="7152840" cy="26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período de la órbita en segun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semieje mayor de la órbita en metr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primer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M</a:t>
            </a:r>
            <a:r>
              <a:rPr b="1" i="1" lang="es-MX" sz="32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masa del segundo objeto en kil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3200" spc="-1" strike="noStrike">
                <a:solidFill>
                  <a:srgbClr val="000000"/>
                </a:solidFill>
                <a:latin typeface="Times New Roman"/>
              </a:rPr>
              <a:t>G</a:t>
            </a:r>
            <a:r>
              <a:rPr b="1" lang="es-MX" sz="3200" spc="-1" strike="noStrike">
                <a:solidFill>
                  <a:srgbClr val="000000"/>
                </a:solidFill>
                <a:latin typeface="Times New Roman"/>
              </a:rPr>
              <a:t> : const. Gravitación universa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ff0000"/>
                </a:solidFill>
                <a:latin typeface="Times New Roman"/>
              </a:rPr>
              <a:t>Ejemplo:   cálculo de la masa del So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964720" y="333360"/>
            <a:ext cx="179280" cy="71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2" name=""/>
              <p:cNvSpPr txBox="1"/>
              <p:nvPr/>
            </p:nvSpPr>
            <p:spPr>
              <a:xfrm>
                <a:off x="250920" y="981000"/>
                <a:ext cx="8066160" cy="1584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(</m:t>
                    </m:r>
                    <m:sSub>
                      <m:e>
                        <m:r>
                          <m:t xml:space="preserve">p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  <m:r>
                          <m:t xml:space="preserve">(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sol</m:t>
                            </m:r>
                          </m:sub>
                        </m:sSub>
                        <m:r>
                          <m:t xml:space="preserve">+</m:t>
                        </m:r>
                        <m:sSub>
                          <m:e>
                            <m:r>
                              <m:t xml:space="preserve">M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r>
                          <m:t xml:space="preserve">)</m:t>
                        </m:r>
                      </m:den>
                    </m:f>
                    <m:r>
                      <m:t xml:space="preserve">(</m:t>
                    </m:r>
                    <m:sSub>
                      <m:e>
                        <m:r>
                          <m:t xml:space="preserve">a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tierra</m:t>
                        </m:r>
                      </m:sub>
                    </m:sSub>
                    <m:sSup>
                      <m:e>
                        <m:r>
                          <m:t xml:space="preserve">)</m:t>
                        </m:r>
                      </m:e>
                      <m:sup>
                        <m:r>
                          <m:t xml:space="preserve">3</m:t>
                        </m:r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63" name=""/>
          <p:cNvSpPr/>
          <p:nvPr/>
        </p:nvSpPr>
        <p:spPr>
          <a:xfrm>
            <a:off x="395280" y="2997360"/>
            <a:ext cx="676908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600" spc="-1" strike="noStrike">
                <a:solidFill>
                  <a:srgbClr val="000000"/>
                </a:solidFill>
                <a:latin typeface="Times New Roman"/>
              </a:rPr>
              <a:t>como : 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(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sol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 + M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 </a:t>
            </a: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~ M</a:t>
            </a:r>
            <a:r>
              <a:rPr b="0" i="1" lang="en-US" sz="36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o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250920" y="4221000"/>
                <a:ext cx="5111640" cy="165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sol</m:t>
                        </m:r>
                      </m:sub>
                    </m:sSub>
                    <m:r>
                      <m:t xml:space="preserve">=</m:t>
                    </m:r>
                    <m:f>
                      <m:num>
                        <m:r>
                          <m:t xml:space="preserve">4</m:t>
                        </m:r>
                        <m:sSup>
                          <m:e>
                            <m:r>
                              <m:t xml:space="preserve">π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r>
                          <m:t xml:space="preserve">G</m:t>
                        </m:r>
                      </m:den>
                    </m:f>
                    <m:r>
                      <m:t xml:space="preserve">×</m:t>
                    </m:r>
                    <m:f>
                      <m:num>
                        <m:r>
                          <m:t xml:space="preserve">(</m:t>
                        </m:r>
                        <m:sSub>
                          <m:e>
                            <m:r>
                              <m:t xml:space="preserve">a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3</m:t>
                            </m:r>
                          </m:sup>
                        </m:sSup>
                      </m:num>
                      <m:den>
                        <m:r>
                          <m:t xml:space="preserve">(</m:t>
                        </m:r>
                        <m:sSub>
                          <m:e>
                            <m:r>
                              <m:t xml:space="preserve">p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ierra</m:t>
                            </m:r>
                          </m:sub>
                        </m:sSub>
                        <m:sSup>
                          <m:e>
                            <m:r>
                              <m:t xml:space="preserve">)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6253920" y="4379760"/>
            <a:ext cx="2385720" cy="13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i="1" lang="es-MX" sz="3200" spc="-1" strike="noStrike">
                <a:solidFill>
                  <a:srgbClr val="000000"/>
                </a:solidFill>
                <a:latin typeface="Times New Roman"/>
              </a:rPr>
              <a:t> =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1 U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3600" spc="-1" strike="noStrike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es-MX" sz="3600" spc="-1" strike="noStrike" baseline="-25000">
                <a:solidFill>
                  <a:srgbClr val="000000"/>
                </a:solidFill>
                <a:latin typeface="Times New Roman"/>
              </a:rPr>
              <a:t>tierra</a:t>
            </a:r>
            <a:r>
              <a:rPr b="0" lang="es-MX" sz="32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MX" sz="3200" spc="-1" strike="noStrike">
                <a:solidFill>
                  <a:srgbClr val="000000"/>
                </a:solidFill>
                <a:latin typeface="Times New Roman"/>
              </a:rPr>
              <a:t>= 1 añ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1255680" y="260280"/>
            <a:ext cx="654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4400" spc="-1" strike="noStrike">
                <a:solidFill>
                  <a:srgbClr val="ff0000"/>
                </a:solidFill>
                <a:latin typeface="Times New Roman"/>
              </a:rPr>
              <a:t>Estrellas dobles (binarias)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69720" y="1622520"/>
            <a:ext cx="8350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El 70 % de las estrellas forman sistemas dob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 múltip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94480" y="3135240"/>
            <a:ext cx="87807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Los sistemas binarios permiten medir la masa d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cada una de las estrellas (o bien su función d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masas en caso de que la inclinación de la órbita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i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no se conozca)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699280" y="0"/>
            <a:ext cx="342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Tipos de binarias 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600" y="1484280"/>
            <a:ext cx="804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cc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par de estrellas que se ven claramente orbitando 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torno a su centro de masas común (C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" descr=""/>
          <p:cNvPicPr/>
          <p:nvPr/>
        </p:nvPicPr>
        <p:blipFill>
          <a:blip r:embed="rId1"/>
          <a:stretch/>
        </p:blipFill>
        <p:spPr>
          <a:xfrm>
            <a:off x="0" y="2781360"/>
            <a:ext cx="9144000" cy="284004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666720" y="5950080"/>
            <a:ext cx="8475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En este caso, tant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cómo </a:t>
            </a: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Mizar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son binaria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67280" y="907920"/>
            <a:ext cx="3246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0000"/>
                </a:solidFill>
                <a:latin typeface="Times New Roman"/>
              </a:rPr>
              <a:t>Binarias visual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-7920" y="357120"/>
            <a:ext cx="882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Otro ejemplo de binaria visual es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3200" spc="-1" strike="noStrike">
                <a:solidFill>
                  <a:srgbClr val="ffff00"/>
                </a:solidFill>
                <a:latin typeface="Times New Roman"/>
              </a:rPr>
              <a:t> y </a:t>
            </a:r>
            <a:r>
              <a:rPr b="1" i="1" lang="es-MX" sz="32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0" y="1413000"/>
            <a:ext cx="9144000" cy="18716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60200" y="3686040"/>
            <a:ext cx="885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A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strella de tipo espectral A1 con una masa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aproximada de 2 veces la masa del Sol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>
                <a:solidFill>
                  <a:srgbClr val="ffff00"/>
                </a:solidFill>
                <a:latin typeface="Times New Roman"/>
              </a:rPr>
              <a:t>Sirio B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es una enana blanca con una masa similar a la 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s-MX" sz="2800" spc="-1" strike="noStrike">
                <a:solidFill>
                  <a:srgbClr val="ffff00"/>
                </a:solidFill>
                <a:latin typeface="Times New Roman"/>
              </a:rPr>
              <a:t>So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ria Teresa Ruiz</cp:lastModifiedBy>
  <dcterms:modified xsi:type="dcterms:W3CDTF">2006-08-21T20:41:37Z</dcterms:modified>
  <cp:revision>54</cp:revision>
  <dc:subject/>
  <dc:title>PowerPoint Presentation</dc:title>
</cp:coreProperties>
</file>