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C62-A4A6-42BC-B8D3-37864F37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0CF-FFE9-4624-ADC7-980C91DF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6DF-89D3-4165-A771-89E43396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E15-A89D-4E7F-B314-205C80A7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0C7-7F39-4B2D-99C9-672C02F8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8E7-9DDD-42CD-AB9E-FF511B6C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6B0-99C0-408C-8C67-694F74B8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3C8-795A-469A-9B55-45CDA460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E33-1D19-4687-8810-C77FBD19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FD1-185B-4F9C-922F-1E9C5AA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C48-1C45-49A2-99C2-1335CD75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009-A8A6-449D-A8CA-E382A5A6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2B3B-4B61-4A92-88CA-857C45FC485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56600" y="2541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¿ Dónde estam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8920" y="3543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08360" y="580536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censión 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ora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180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2360" y="2637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rado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1036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60" y="3357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0" y="4724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5280" y="37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90360" y="5394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3640" y="3089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76640"/>
            <a:ext cx="906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Ascensión Rect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RA  ó 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l equinoccio de primavera ( Mar 2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 se mide en horas, minutos y segundos, el círculo completo de 36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rresponde a 24 h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8280" y="260280"/>
            <a:ext cx="85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eclinación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 del 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0 ) en grados, minutos (de arco),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e arc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120" y="4862520"/>
            <a:ext cx="855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21 de Marzo (equinoccio de primavera) 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 ascensión recta 0 y declinació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82000" y="85680"/>
            <a:ext cx="796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La rotación de la Tierra se refleja en el 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e las estrellas en el c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31840" y="2009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lo Sur ce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02000" y="4025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ruz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78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94160" y="33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vis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93280" y="903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4160" y="836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1080" y="54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5440" y="551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43840" y="186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6560" y="488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05080" y="1989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Times New Roman"/>
              </a:rPr>
              <a:t>Eclip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619760" cy="293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1840" y="4262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7280" y="3975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7440" y="191628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parci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4720" y="422100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tot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30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Eclipse total de Luna, la Tierra se interpone entre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 y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5280" y="33336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fera cel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273280" y="3747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tot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01640" y="267804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parci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4920" y="548640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anular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órbita de la Luna tiene una inclin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n respecto a la eclíptica, sólo se producen ecli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ando los nodos de la órbita de la Luna están alin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la Tierra y el Sol , lo que ocurre 2 veces al añ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ante Luna llena (eclipse de Luna) y Lun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clipse de S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920" y="2822400"/>
            <a:ext cx="844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 el eclipse ocurre cuando la Luna está más lejo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, la umbra no llega a la Tierra y se produc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solar an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360" y="4478400"/>
            <a:ext cx="885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os nodos de la órbita de la Luna se mu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producen eclipses cad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173 dás. Combinado co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las fases de la Luna de 29.5, si hoy tenemo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habrá otro en 18 años 11.33 días, este períod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lama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clo de Sar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29280" y="14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4980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2160" y="278136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6360" y="3135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14440"/>
            <a:ext cx="7619760" cy="582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20920" y="13096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344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90000" y="28940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4200" y="505476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619760" cy="485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20400" y="33336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recesión  del ej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79680" y="60213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eríodo es de 26000 añ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7800" y="270828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7280" y="29242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r>
              <a:rPr b="1" lang="es-MX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23.5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primavera (punto Vernal)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punto en que el Sol cruza el  ecuador cele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Sur hacia el Norte (21 de Marzo). 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otoño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el 21 de Septiembre, marca el momento en que el Sol cruza el ecuador celeste  desde el Norte hacia el Sur.  En esos puntos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ía y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la noche tienen igual d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9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están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vera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 21 de junio, cuando 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ás largo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l día más corto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invier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21 de Diciembre cuando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 más cort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la noche más larga (lo opuesto ocurre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4365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1840" y="26028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Solsticios y equinoc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45080" y="1989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Dic.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4880" y="2133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Jun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0360" y="19162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Ma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8520" y="4149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Sep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280" y="5486400"/>
            <a:ext cx="75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 la inclinación del eje terrestre lo que caus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111320"/>
            <a:ext cx="8057880" cy="463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1840" y="1793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80200" y="641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" y="2728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horiz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3280" y="2441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93640" y="5394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720" y="450864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9880" y="18446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17280" y="687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58:10Z</dcterms:modified>
  <cp:revision>33</cp:revision>
  <dc:subject/>
  <dc:title>PowerPoint Presentation</dc:title>
</cp:coreProperties>
</file>