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E3D-A3E1-4E3F-B157-1C37041A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174-99C8-4E8F-878D-340FB5C8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DAD-488C-468B-8D0D-794C9D1C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341-4471-4DE8-A4CD-BEB5C59D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6A7-7CCB-40E2-BEF0-AAC2A64E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69E-CC74-4840-9FB8-B8CCF619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729-1EC7-4352-BCEB-933BE20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033-2735-44F1-B8A3-0F222B9D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DEF-EE5E-4A22-B78A-4693B3C5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AA3-7DB0-4B52-AD06-D015766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70A-FE1D-4EA5-9DCE-ED36767A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1C5-C10B-4C0A-B46D-2D09F211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CBEA-7ED6-4FCC-9CA0-DAD2536C407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0520" y="836640"/>
            <a:ext cx="58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20" y="0"/>
            <a:ext cx="8751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0560" y="446040"/>
            <a:ext cx="859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0600" y="-47520"/>
            <a:ext cx="50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0" y="620640"/>
            <a:ext cx="9195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0" y="260280"/>
            <a:ext cx="85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10160" y="1844640"/>
            <a:ext cx="53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" y="54936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1520" y="692280"/>
            <a:ext cx="82562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uena teoría de la formación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lar debe ser capaz de explic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racterísticas de est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6000" y="15876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2280" y="1413000"/>
            <a:ext cx="484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5800" y="3645000"/>
            <a:ext cx="429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2520" y="4797360"/>
            <a:ext cx="48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8040" y="-982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4560" y="13176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Abundancia de los ele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0" y="260280"/>
            <a:ext cx="9236160" cy="7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(150 K), se llama la línea de congelación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7440" y="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9840" y="878040"/>
            <a:ext cx="909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simulación parte con 100 planetesimales, en 3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años hay 22 protoplanetas, después de 150 millon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ños se forman los 4 planetas i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31T14:18:05Z</dcterms:modified>
  <cp:revision>38</cp:revision>
  <dc:subject/>
  <dc:title>PowerPoint Presentation</dc:title>
</cp:coreProperties>
</file>