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driveby.wav" ContentType="audio/x-wav"/>
  <Override PartName="/ppt/media/cashreg.wav" ContentType="audio/x-wav"/>
  <Override PartName="/ppt/media/image7.wmf" ContentType="image/x-wmf"/>
  <Override PartName="/ppt/media/image8.png" ContentType="image/png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B4A5-3D7D-41CA-A0F0-8BF82E4EE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46F2-C1ED-4DDA-A264-0C7CB108B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45E9-E2BA-4741-8D87-666B9FAA6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34A8-7BAE-4BE2-9A28-ACCD5AF4F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0CA9-3EBA-4907-98AC-27AF800E5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F834-3950-4363-9B64-B6B2494B9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4E31-1C21-4537-974B-7C903399C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8AAE-ADFC-4888-A8C1-597F2BC28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70F9-D438-438F-8BC9-7956D0D95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F870-FD45-4A62-BA96-20D2B13DD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6255-0856-45B5-972D-4E16693B0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A528-DD9D-47B2-9B12-A878B7A25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2ED5E-D57E-4807-B91F-3028A0B7CB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driveby.wav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8.png"/><Relationship Id="rId7" Type="http://schemas.openxmlformats.org/officeDocument/2006/relationships/image" Target="../media/image9.wmf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troducción al Trabajo de Título</a:t>
            </a:r>
            <a:br>
              <a:rPr sz="4000"/>
            </a:br>
            <a:br>
              <a:rPr sz="4000"/>
            </a:br>
            <a:r>
              <a:rPr b="1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T-IQ 69E</a:t>
            </a:r>
            <a:br>
              <a:rPr sz="2400"/>
            </a:br>
            <a:r>
              <a:rPr b="1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04 UD</a:t>
            </a:r>
            <a:br>
              <a:rPr sz="2400"/>
            </a:br>
            <a:r>
              <a:rPr b="1" lang="es-ES_tradnl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aller sobre Presentaciones</a:t>
            </a:r>
            <a:r>
              <a:rPr b="1" lang="es-ES_tradnl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14400" y="4757760"/>
            <a:ext cx="72388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Dpto. Ingeniería Química y Biotecnolog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Universidad de  Ch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Times New Roman"/>
              </a:rPr>
              <a:t>Claves en una buena present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6629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1752480"/>
            <a:ext cx="77724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y un antes, durante y después de la present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914400" y="3809880"/>
            <a:ext cx="2438280" cy="914400"/>
            <a:chOff x="914400" y="3809880"/>
            <a:chExt cx="2438280" cy="914400"/>
          </a:xfrm>
        </p:grpSpPr>
        <p:sp>
          <p:nvSpPr>
            <p:cNvPr id="63" name=""/>
            <p:cNvSpPr/>
            <p:nvPr/>
          </p:nvSpPr>
          <p:spPr>
            <a:xfrm>
              <a:off x="914400" y="3809880"/>
              <a:ext cx="2438280" cy="914400"/>
            </a:xfrm>
            <a:prstGeom prst="rightArrowCallout">
              <a:avLst>
                <a:gd name="adj1" fmla="val 25002"/>
                <a:gd name="adj2" fmla="val 25000"/>
                <a:gd name="adj3" fmla="val 44442"/>
                <a:gd name="adj4" fmla="val 66667"/>
              </a:avLst>
            </a:prstGeom>
            <a:noFill/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4400" y="4038480"/>
              <a:ext cx="1523880" cy="36828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00"/>
                  </a:solidFill>
                  <a:latin typeface="Times New Roman"/>
                </a:rPr>
                <a:t>Prepar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3352680" y="3809880"/>
            <a:ext cx="2742840" cy="914400"/>
            <a:chOff x="3352680" y="3809880"/>
            <a:chExt cx="2742840" cy="914400"/>
          </a:xfrm>
        </p:grpSpPr>
        <p:sp>
          <p:nvSpPr>
            <p:cNvPr id="66" name=""/>
            <p:cNvSpPr/>
            <p:nvPr/>
          </p:nvSpPr>
          <p:spPr>
            <a:xfrm>
              <a:off x="3352680" y="3809880"/>
              <a:ext cx="2742840" cy="914400"/>
            </a:xfrm>
            <a:prstGeom prst="rightArrowCallout">
              <a:avLst>
                <a:gd name="adj1" fmla="val 25002"/>
                <a:gd name="adj2" fmla="val 25000"/>
                <a:gd name="adj3" fmla="val 49993"/>
                <a:gd name="adj4" fmla="val 66667"/>
              </a:avLst>
            </a:prstGeom>
            <a:noFill/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352680" y="4038480"/>
              <a:ext cx="1714320" cy="39888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00"/>
                  </a:solidFill>
                  <a:latin typeface="Times New Roman"/>
                </a:rPr>
                <a:t>Present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6248520" y="3733920"/>
            <a:ext cx="2286000" cy="1599840"/>
            <a:chOff x="6248520" y="3733920"/>
            <a:chExt cx="2286000" cy="1599840"/>
          </a:xfrm>
        </p:grpSpPr>
        <p:sp>
          <p:nvSpPr>
            <p:cNvPr id="69" name=""/>
            <p:cNvSpPr/>
            <p:nvPr/>
          </p:nvSpPr>
          <p:spPr>
            <a:xfrm>
              <a:off x="6248520" y="3733920"/>
              <a:ext cx="2209680" cy="1599840"/>
            </a:xfrm>
            <a:prstGeom prst="downArrowCallout">
              <a:avLst>
                <a:gd name="adj1" fmla="val 34533"/>
                <a:gd name="adj2" fmla="val 34530"/>
                <a:gd name="adj3" fmla="val 16667"/>
                <a:gd name="adj4" fmla="val 66667"/>
              </a:avLst>
            </a:prstGeom>
            <a:noFill/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248520" y="3986280"/>
              <a:ext cx="2286000" cy="39888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00"/>
                  </a:solidFill>
                  <a:latin typeface="Times New Roman"/>
                </a:rPr>
                <a:t>Retroaliment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1066680" y="4800600"/>
            <a:ext cx="1067040" cy="5335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5334120"/>
            <a:ext cx="6248520" cy="228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Antes de la Pres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3520" y="2057400"/>
            <a:ext cx="7619760" cy="29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aga todo lo posible para que su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audiencia y Ud. estén confortable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Revise la sal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y los equipos audiovisuales con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suficiente antelación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para evitar sorpres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Un buen análisis previo de las características de la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audienci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048120" y="5029200"/>
            <a:ext cx="1990440" cy="1631520"/>
            <a:chOff x="3048120" y="5029200"/>
            <a:chExt cx="1990440" cy="1631520"/>
          </a:xfrm>
        </p:grpSpPr>
        <p:grpSp>
          <p:nvGrpSpPr>
            <p:cNvPr id="77" name=""/>
            <p:cNvGrpSpPr/>
            <p:nvPr/>
          </p:nvGrpSpPr>
          <p:grpSpPr>
            <a:xfrm>
              <a:off x="3048120" y="5029200"/>
              <a:ext cx="1990440" cy="1631520"/>
              <a:chOff x="3048120" y="5029200"/>
              <a:chExt cx="1990440" cy="1631520"/>
            </a:xfrm>
          </p:grpSpPr>
          <p:pic>
            <p:nvPicPr>
              <p:cNvPr id="7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048120" y="5029200"/>
                <a:ext cx="1990440" cy="1483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" name=""/>
              <p:cNvSpPr/>
              <p:nvPr/>
            </p:nvSpPr>
            <p:spPr>
              <a:xfrm>
                <a:off x="3505320" y="5105160"/>
                <a:ext cx="1371600" cy="155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3505320" y="5257440"/>
              <a:ext cx="1218960" cy="1295280"/>
            </a:xfrm>
            <a:prstGeom prst="noSmoking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Audi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aga un detallado análisis de la audiencia antes de su presentación, los antecedentes de los auditores, y las necesidades de información que requieren.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943600" y="228600"/>
            <a:ext cx="320040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Elementos de la Pres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e deben utilizar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elementos visuale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que ayuden a enfocar la atención de los asistentes en las áreas important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os Informe se pueden volver a leer. En las presentaciones, si los auditores de pierden o se aburren,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la información se pierde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be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mantener la atención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de la audi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Poner atención en el tiempo de la exposición</a:t>
            </a:r>
            <a:r>
              <a:rPr b="0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Elementos de la Pres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Evite el nerviosism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nga cuidado de no incluir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mucha informació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porque no podrá ser leí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nuncie con cuidado y mantenga un tono de voz adecuado al tamaño de la sala.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Haga pausa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enfatice lo importante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Nerviosis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Una buena presentación requiere de un buen nivel de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auto-confianz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ntes de cualquier presentación, la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práctic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es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esencial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! Si puede, practique frente a una audiencia real – o use grabadoras de voz o vide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s recomendable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tener una guía escrit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de los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primeros minuto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 En ese período muchas veces se produce un nerviosismo natural que bloquea la memori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162920" y="0"/>
            <a:ext cx="16048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Nerviosismo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(co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Nunca mire a alguien en particular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mucho tiempo. Si ella pierde interés, puede ser devastador para U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i las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interrupcione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lo ponen nervioso,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pid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que estas se hagan una vez que termine la present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i comete un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error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de saltarse una parte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no vuelva atrá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 Cuando hayan preguntas tendrá la oportunidad de exponer esos pun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Otros detalles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cuerde, que solo Ud. tiene el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control de la present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Ud. es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responsable del ritmo y contenido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Haga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pausa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enfatice lo importa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epare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notas escrita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sobre sus transparencias.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Evite leerla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de corrido, ya que puede dar la impresión de que no domina lo que está presentan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tregue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material escrito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a la audi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Pregun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aga el esfuerzo de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escuchar bien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la pregunta y contestar lo que le piden,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no evadiendo la respuest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Reconozca de inmediato que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no sabe la respuest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, si es el ca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Después de la Pres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Converse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con amigos en otro lugar y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reciba los comentario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sugerencias.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egunte que estuvo bien, y que </a:t>
            </a:r>
            <a:r>
              <a:rPr b="1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estuvo mal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para mejorar sus presentaciones futur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Retroalimen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</a:t>
            </a:r>
            <a:br>
              <a:rPr sz="3200"/>
            </a:br>
            <a:r>
              <a:rPr b="1" lang="es-ES" sz="2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8/9 (7 semana)</a:t>
            </a:r>
            <a:br>
              <a:rPr sz="20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la selección del Tema y Prof. Guía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 formulario disponible en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tamarugo.cec.uchile.cl/~btcursos/titulo/index_E.html</a:t>
            </a:r>
            <a:r>
              <a:rPr b="1" lang="es-ES_tradnl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4/9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aller sobre presentaciones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8/9-5/10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de tema seleccionado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or Fijar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 Taller sobre preparación de entrevistas y CVs.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06.10.2006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olicitud de Cambio al 69H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0.11.2006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06.12.2006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Evaluación del Informe Final 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probado (T) o Reprobado (R).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 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924280" y="1693800"/>
            <a:ext cx="3294000" cy="34686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962520" y="1752480"/>
            <a:ext cx="2057400" cy="221004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2860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Nerviosis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1752480"/>
            <a:ext cx="77724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Una buena presentación requiere de un buen nivel de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auto-confianza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ntes de cualquier presentación, la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práctica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es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esencial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! Si puede, practique frente a una audiencia real – o use grabadoras de voz o vide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s recomendable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tener una guía escrita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de los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primeros minutos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. En ese período muchas veces se produce un nerviosismo natural que bloquea la memoria.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Nunca mire a alguien en particular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mucho tiempo. Si ella pierde interés, puede ser devastador para U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i las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interrupciones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lo ponen nervioso,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pida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que estas se hagan una vez que termine la present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i comete un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error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de saltarse una parte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no vuelva atrás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. Cuando hayan preguntas tendrá la oportunidad de exponer esos pun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924280" y="1693800"/>
            <a:ext cx="329400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8163000" y="5057640"/>
          <a:ext cx="981000" cy="8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63000" y="5057640"/>
                    <a:ext cx="98100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352440" y="856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Princi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3914640" y="-585720"/>
            <a:ext cx="1371600" cy="5715000"/>
          </a:xfrm>
          <a:prstGeom prst="can">
            <a:avLst>
              <a:gd name="adj" fmla="val 8106"/>
            </a:avLst>
          </a:prstGeom>
          <a:gradFill rotWithShape="0">
            <a:gsLst>
              <a:gs pos="0">
                <a:srgbClr val="001a00"/>
              </a:gs>
              <a:gs pos="50000">
                <a:srgbClr val="006600"/>
              </a:gs>
              <a:gs pos="100000">
                <a:srgbClr val="001a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3436200" y="1678680"/>
            <a:ext cx="1185840" cy="1067040"/>
          </a:xfrm>
          <a:custGeom>
            <a:avLst/>
            <a:gdLst/>
            <a:ahLst/>
            <a:rect l="l" t="t" r="r" b="b"/>
            <a:pathLst>
              <a:path w="628" h="464">
                <a:moveTo>
                  <a:pt x="3" y="0"/>
                </a:moveTo>
                <a:lnTo>
                  <a:pt x="9" y="19"/>
                </a:lnTo>
                <a:lnTo>
                  <a:pt x="24" y="43"/>
                </a:lnTo>
                <a:lnTo>
                  <a:pt x="81" y="72"/>
                </a:lnTo>
                <a:lnTo>
                  <a:pt x="177" y="101"/>
                </a:lnTo>
                <a:lnTo>
                  <a:pt x="312" y="116"/>
                </a:lnTo>
                <a:lnTo>
                  <a:pt x="438" y="130"/>
                </a:lnTo>
                <a:lnTo>
                  <a:pt x="525" y="150"/>
                </a:lnTo>
                <a:lnTo>
                  <a:pt x="588" y="183"/>
                </a:lnTo>
                <a:lnTo>
                  <a:pt x="615" y="203"/>
                </a:lnTo>
                <a:lnTo>
                  <a:pt x="627" y="222"/>
                </a:lnTo>
                <a:lnTo>
                  <a:pt x="621" y="251"/>
                </a:lnTo>
                <a:lnTo>
                  <a:pt x="597" y="275"/>
                </a:lnTo>
                <a:lnTo>
                  <a:pt x="537" y="304"/>
                </a:lnTo>
                <a:lnTo>
                  <a:pt x="444" y="328"/>
                </a:lnTo>
                <a:lnTo>
                  <a:pt x="312" y="347"/>
                </a:lnTo>
                <a:lnTo>
                  <a:pt x="174" y="357"/>
                </a:lnTo>
                <a:lnTo>
                  <a:pt x="66" y="395"/>
                </a:lnTo>
                <a:lnTo>
                  <a:pt x="24" y="424"/>
                </a:lnTo>
                <a:lnTo>
                  <a:pt x="9" y="444"/>
                </a:lnTo>
                <a:lnTo>
                  <a:pt x="0" y="463"/>
                </a:lnTo>
                <a:lnTo>
                  <a:pt x="3" y="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482360" y="1886760"/>
            <a:ext cx="998640" cy="838080"/>
          </a:xfrm>
          <a:custGeom>
            <a:avLst/>
            <a:gdLst/>
            <a:ahLst/>
            <a:rect l="l" t="t" r="r" b="b"/>
            <a:pathLst>
              <a:path w="529" h="530">
                <a:moveTo>
                  <a:pt x="3" y="0"/>
                </a:moveTo>
                <a:lnTo>
                  <a:pt x="8" y="22"/>
                </a:lnTo>
                <a:lnTo>
                  <a:pt x="20" y="50"/>
                </a:lnTo>
                <a:lnTo>
                  <a:pt x="68" y="82"/>
                </a:lnTo>
                <a:lnTo>
                  <a:pt x="149" y="116"/>
                </a:lnTo>
                <a:lnTo>
                  <a:pt x="263" y="133"/>
                </a:lnTo>
                <a:lnTo>
                  <a:pt x="369" y="149"/>
                </a:lnTo>
                <a:lnTo>
                  <a:pt x="442" y="171"/>
                </a:lnTo>
                <a:lnTo>
                  <a:pt x="495" y="210"/>
                </a:lnTo>
                <a:lnTo>
                  <a:pt x="518" y="232"/>
                </a:lnTo>
                <a:lnTo>
                  <a:pt x="528" y="254"/>
                </a:lnTo>
                <a:lnTo>
                  <a:pt x="523" y="287"/>
                </a:lnTo>
                <a:lnTo>
                  <a:pt x="503" y="314"/>
                </a:lnTo>
                <a:lnTo>
                  <a:pt x="452" y="348"/>
                </a:lnTo>
                <a:lnTo>
                  <a:pt x="374" y="374"/>
                </a:lnTo>
                <a:lnTo>
                  <a:pt x="263" y="396"/>
                </a:lnTo>
                <a:lnTo>
                  <a:pt x="147" y="408"/>
                </a:lnTo>
                <a:lnTo>
                  <a:pt x="56" y="452"/>
                </a:lnTo>
                <a:lnTo>
                  <a:pt x="20" y="485"/>
                </a:lnTo>
                <a:lnTo>
                  <a:pt x="8" y="507"/>
                </a:lnTo>
                <a:lnTo>
                  <a:pt x="0" y="529"/>
                </a:lnTo>
                <a:lnTo>
                  <a:pt x="3" y="0"/>
                </a:lnTo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6600" y="1814400"/>
            <a:ext cx="1600200" cy="99072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quid f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534440" y="1814400"/>
            <a:ext cx="1600200" cy="99072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2920" y="5022720"/>
            <a:ext cx="693720" cy="6922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74880" y="5022720"/>
            <a:ext cx="685800" cy="6858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12920" y="5022720"/>
            <a:ext cx="3047760" cy="68580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28480" y="5137200"/>
            <a:ext cx="458640" cy="460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2109145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2109145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4880" y="53150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86120" y="5133960"/>
            <a:ext cx="460080" cy="460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2109145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2109145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63960" y="53118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76640" y="3262320"/>
            <a:ext cx="487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3724200" y="3110040"/>
            <a:ext cx="685800" cy="3650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1176480" y="4657680"/>
            <a:ext cx="685800" cy="3650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 flipH="1">
            <a:off x="1479600" y="5175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74680" y="448956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014560" y="4489560"/>
            <a:ext cx="608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39240" y="3581280"/>
            <a:ext cx="307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Continuous 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46560" y="4994280"/>
            <a:ext cx="692280" cy="6922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508880" y="4994280"/>
            <a:ext cx="685800" cy="6858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146560" y="4994280"/>
            <a:ext cx="3048120" cy="68580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61040" y="5108400"/>
            <a:ext cx="460080" cy="460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2109145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2109145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440320" y="5286240"/>
            <a:ext cx="8748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5105520"/>
            <a:ext cx="461520" cy="45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2109145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2109145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797960" y="528336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6213240" y="51465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4343400" y="5334120"/>
          <a:ext cx="660240" cy="660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43400" y="5334120"/>
                    <a:ext cx="66024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4876920" y="4800600"/>
            <a:ext cx="374400" cy="434880"/>
          </a:xfrm>
          <a:custGeom>
            <a:avLst/>
            <a:gdLst/>
            <a:ahLst/>
            <a:rect l="l" t="t" r="r" b="b"/>
            <a:pathLst>
              <a:path w="236" h="274">
                <a:moveTo>
                  <a:pt x="236" y="0"/>
                </a:moveTo>
                <a:cubicBezTo>
                  <a:pt x="211" y="14"/>
                  <a:pt x="116" y="35"/>
                  <a:pt x="77" y="81"/>
                </a:cubicBezTo>
                <a:cubicBezTo>
                  <a:pt x="38" y="127"/>
                  <a:pt x="16" y="234"/>
                  <a:pt x="0" y="27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52880" y="4952880"/>
            <a:ext cx="374760" cy="435240"/>
          </a:xfrm>
          <a:custGeom>
            <a:avLst/>
            <a:gdLst/>
            <a:ahLst/>
            <a:rect l="l" t="t" r="r" b="b"/>
            <a:pathLst>
              <a:path w="236" h="274">
                <a:moveTo>
                  <a:pt x="236" y="0"/>
                </a:moveTo>
                <a:cubicBezTo>
                  <a:pt x="211" y="14"/>
                  <a:pt x="116" y="35"/>
                  <a:pt x="77" y="81"/>
                </a:cubicBezTo>
                <a:cubicBezTo>
                  <a:pt x="38" y="127"/>
                  <a:pt x="16" y="234"/>
                  <a:pt x="0" y="27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799200">
            <a:off x="8077320" y="4695840"/>
            <a:ext cx="664920" cy="355680"/>
          </a:xfrm>
          <a:custGeom>
            <a:avLst/>
            <a:gdLst/>
            <a:ahLst/>
            <a:rect l="l" t="t" r="r" b="b"/>
            <a:pathLst>
              <a:path w="960" h="496">
                <a:moveTo>
                  <a:pt x="0" y="0"/>
                </a:moveTo>
                <a:cubicBezTo>
                  <a:pt x="204" y="92"/>
                  <a:pt x="408" y="184"/>
                  <a:pt x="480" y="240"/>
                </a:cubicBezTo>
                <a:cubicBezTo>
                  <a:pt x="552" y="296"/>
                  <a:pt x="480" y="336"/>
                  <a:pt x="432" y="336"/>
                </a:cubicBezTo>
                <a:cubicBezTo>
                  <a:pt x="384" y="336"/>
                  <a:pt x="208" y="280"/>
                  <a:pt x="192" y="240"/>
                </a:cubicBezTo>
                <a:cubicBezTo>
                  <a:pt x="176" y="200"/>
                  <a:pt x="232" y="64"/>
                  <a:pt x="336" y="96"/>
                </a:cubicBezTo>
                <a:cubicBezTo>
                  <a:pt x="440" y="128"/>
                  <a:pt x="712" y="368"/>
                  <a:pt x="816" y="432"/>
                </a:cubicBezTo>
                <a:cubicBezTo>
                  <a:pt x="920" y="496"/>
                  <a:pt x="936" y="472"/>
                  <a:pt x="960" y="4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7"/>
          <a:stretch/>
        </p:blipFill>
        <p:spPr>
          <a:xfrm>
            <a:off x="4761000" y="3040200"/>
            <a:ext cx="1068480" cy="4413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8"/>
          <a:stretch/>
        </p:blipFill>
        <p:spPr>
          <a:xfrm>
            <a:off x="1933560" y="4600440"/>
            <a:ext cx="1068480" cy="4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228600"/>
            <a:ext cx="8991720" cy="67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es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Tiempo:    La presentación </a:t>
            </a: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NO DEBE DURAR MÁS DE 10 MINUTO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        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Se cuenta con PC y Datash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La presentación se debe centrar en los siguientes punto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Titulo de la memoria y profesor guí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Introducción a la problemática a abord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Objetivo general de la memor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etodología que se aplicará para lograr el objetiv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arta Gantt de la actividades a realizar durante el BT-IQ 69E (Recuerde que se deben considerar  las  4UD del curso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Resultados esperad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57200" y="457200"/>
            <a:ext cx="8229600" cy="59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untos a Considerar en una pres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NTREGUE MATERIAL DE LA PRESENTACIÓN A LA AUDIENC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ara 10 minutos de presentación no se deben presentar más de </a:t>
            </a: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7 TRANSPARENCIA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n el caso dar animación a la presentación siempre controle el tiemp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Lo que se escribe en las transparencias debe poder ser leído por el públic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n su presentación intente no leer lo que está en las transparencias, sino comentarl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Al exponer diríjase siempre hacia la audienci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SIEMPRE ENSAYE PREVIAMENTE SU EXPOSICIÓN.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457200" y="152280"/>
            <a:ext cx="8229600" cy="70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28 de Septiembre 16:15  Sala B1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BT69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BRUSADELLI ACUÑA, PAULINA</a:t>
            </a: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Prof Guía: Blanca Escob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ORTES MARIN, LUIS MARCELO </a:t>
            </a: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of Guía: Leandro Herr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OYANADEL MARTINEZ, GERMAN ENR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of Guía: Blanca Escobar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EÑA NUÑEZ, YORDI AND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of Guía: Jesús Casas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57200" y="152280"/>
            <a:ext cx="8229600" cy="89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5 de Octubre 16: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IQ 69E Sala B1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DIAZ ROZAS, PATRICIA CAROLI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of Guía: Tomas Var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SCOBAR GUTIERREZ, KARLA FABIO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ARTINEZ SAPERAS, VERONICA MARIA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of Guia: Leandro Herrera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LA ASISTENCIA ES OBLIGATORIA A TODAS LAS PRESEN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Avisar a los profesores guí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521080" y="1752480"/>
            <a:ext cx="4405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3520" y="0"/>
            <a:ext cx="8381880" cy="85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echas Important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06.10.2006: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Vence el plazo para solicitar cambio al 69H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on aceptables quienes cumplen alguna de las condiciones siguient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  </a:t>
            </a:r>
            <a:r>
              <a:rPr b="0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No haber reprobado ninguna asignatura desde que ingresaron a la Facult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  </a:t>
            </a:r>
            <a:r>
              <a:rPr b="0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Haber reprobado muy pocas asignaturas pero tener inscrito el curso XX69E en su undécimo semestre de permanencia en la     Facult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  </a:t>
            </a:r>
            <a:r>
              <a:rPr b="0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Haber figurado en los dos años anteriores al que se inscribe el XX69E, en la Lista de Alumnos Destacados de la Escue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33520" y="0"/>
            <a:ext cx="8381880" cy="81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entajas del IQ-BT 69H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alculo Nota Final  IQ-BT69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F = 2/3 Nota Carrera + 1/3 Nota Exam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alculo Nota Final  IQ-BT69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F = ½ Nota Carrera + ½  Nota Exam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i la Nota de Examen  &gt;&gt; 5.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F = Nota Exam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auta para</a:t>
            </a:r>
            <a:br>
              <a:rPr sz="4400"/>
            </a:br>
            <a:br>
              <a:rPr sz="4400"/>
            </a:b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</a:t>
            </a:r>
            <a:r>
              <a:rPr b="1" lang="es-ES_tradnl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NTACIONES ORALES</a:t>
            </a:r>
            <a:br>
              <a:rPr sz="4400"/>
            </a:br>
            <a:r>
              <a:rPr b="1" lang="es-ES_tradnl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4757760"/>
            <a:ext cx="72388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Dpto. Ingeniería Quím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Universidad de  Ch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0948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Tem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1752480"/>
            <a:ext cx="77724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 Unicode MS"/>
              </a:rPr>
              <a:t>Estructura de una Presentació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ontenidos de la Present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Justificación de la Presenta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laves para una buena Present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Estructura de una Presentación O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ítulo y datos de los aut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nido de la present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inición del problema y su solución- el marco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ultados del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ultados y su Discu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comendaciones del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¿  Por qué Presentaciones Orale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a comunicación oral es crucial en las actividades de la ingenierí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uando se hace bien, se puede comunicar  resultados e ideas más rápidos que en el lenguaje escri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934320" y="4800600"/>
            <a:ext cx="172080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Objetivos de las Presentación O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077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eñala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 la audiencia cuáles son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los resultados más important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y las conclusion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en el contexto genera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resenta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los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etalles del trabaj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de modo de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onvencer a la audiencia de la validez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de sus resultados y recomendacion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Mostra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 la audiencia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los planes de acciones a seguir,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basados en sus resultados y conclus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3581280"/>
            <a:ext cx="7848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5105520"/>
            <a:ext cx="7391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21:44:03Z</dcterms:created>
  <dc:creator>Ignacio Badilla</dc:creator>
  <dc:description/>
  <dc:language>en-US</dc:language>
  <cp:lastModifiedBy>Ing Quimica</cp:lastModifiedBy>
  <dcterms:modified xsi:type="dcterms:W3CDTF">2006-09-12T21:42:10Z</dcterms:modified>
  <cp:revision>74</cp:revision>
  <dc:subject/>
  <dc:title>El ingeniero, etica y sociedad</dc:title>
</cp:coreProperties>
</file>