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03B4-65EA-40F9-A003-18373C5B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7383-5601-4A90-AEE4-8943B438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C545-C7AA-4F89-B9EE-BE46FE34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6B2-3AD9-4F24-A2E1-921BF4559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21FC-FD38-421B-A016-B804D6C4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C25-5C6D-47BC-BFDD-20EC4A5DE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3C5-1CA2-483F-903F-82DE636B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58A-5C23-4A65-9FE6-650A3561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4A9-E392-4743-86D7-D078B7AE8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40B8-DEF2-4690-8456-B2CD24F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671A-3EDC-4506-AEDE-80B8B19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CDD-FE28-4E42-B9BE-59EDCCE4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C7562-5DC9-4BD3-B2DE-E07BB72D07BD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6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3520" y="1523880"/>
            <a:ext cx="373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2438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3581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472428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67080" y="15238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251460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11480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80060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057400" y="556272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76520" y="60958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9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2514600"/>
            <a:ext cx="4327560" cy="2448000"/>
          </a:xfrm>
          <a:custGeom>
            <a:avLst/>
            <a:gdLst/>
            <a:ahLst/>
            <a:rect l="l" t="t" r="r" b="b"/>
            <a:pathLst>
              <a:path w="2726" h="1542">
                <a:moveTo>
                  <a:pt x="612" y="184"/>
                </a:moveTo>
                <a:cubicBezTo>
                  <a:pt x="608" y="251"/>
                  <a:pt x="617" y="328"/>
                  <a:pt x="579" y="387"/>
                </a:cubicBezTo>
                <a:cubicBezTo>
                  <a:pt x="550" y="504"/>
                  <a:pt x="385" y="457"/>
                  <a:pt x="295" y="460"/>
                </a:cubicBezTo>
                <a:cubicBezTo>
                  <a:pt x="168" y="470"/>
                  <a:pt x="145" y="479"/>
                  <a:pt x="68" y="581"/>
                </a:cubicBezTo>
                <a:cubicBezTo>
                  <a:pt x="47" y="708"/>
                  <a:pt x="0" y="903"/>
                  <a:pt x="125" y="987"/>
                </a:cubicBezTo>
                <a:cubicBezTo>
                  <a:pt x="187" y="1029"/>
                  <a:pt x="296" y="1012"/>
                  <a:pt x="368" y="1019"/>
                </a:cubicBezTo>
                <a:cubicBezTo>
                  <a:pt x="558" y="1114"/>
                  <a:pt x="687" y="1197"/>
                  <a:pt x="887" y="1230"/>
                </a:cubicBezTo>
                <a:cubicBezTo>
                  <a:pt x="1154" y="1319"/>
                  <a:pt x="1381" y="1510"/>
                  <a:pt x="1666" y="1538"/>
                </a:cubicBezTo>
                <a:cubicBezTo>
                  <a:pt x="1712" y="1533"/>
                  <a:pt x="1762" y="1542"/>
                  <a:pt x="1804" y="1522"/>
                </a:cubicBezTo>
                <a:cubicBezTo>
                  <a:pt x="1813" y="1518"/>
                  <a:pt x="1827" y="1427"/>
                  <a:pt x="1828" y="1416"/>
                </a:cubicBezTo>
                <a:cubicBezTo>
                  <a:pt x="1834" y="1373"/>
                  <a:pt x="1844" y="1287"/>
                  <a:pt x="1844" y="1287"/>
                </a:cubicBezTo>
                <a:cubicBezTo>
                  <a:pt x="1847" y="1160"/>
                  <a:pt x="1736" y="957"/>
                  <a:pt x="1852" y="906"/>
                </a:cubicBezTo>
                <a:cubicBezTo>
                  <a:pt x="1954" y="861"/>
                  <a:pt x="2456" y="934"/>
                  <a:pt x="2712" y="970"/>
                </a:cubicBezTo>
                <a:cubicBezTo>
                  <a:pt x="2715" y="946"/>
                  <a:pt x="2726" y="921"/>
                  <a:pt x="2720" y="897"/>
                </a:cubicBezTo>
                <a:cubicBezTo>
                  <a:pt x="2712" y="867"/>
                  <a:pt x="2690" y="841"/>
                  <a:pt x="2671" y="816"/>
                </a:cubicBezTo>
                <a:cubicBezTo>
                  <a:pt x="2581" y="697"/>
                  <a:pt x="2502" y="648"/>
                  <a:pt x="2363" y="614"/>
                </a:cubicBezTo>
                <a:cubicBezTo>
                  <a:pt x="2341" y="598"/>
                  <a:pt x="2315" y="586"/>
                  <a:pt x="2298" y="565"/>
                </a:cubicBezTo>
                <a:cubicBezTo>
                  <a:pt x="2287" y="552"/>
                  <a:pt x="2292" y="530"/>
                  <a:pt x="2282" y="516"/>
                </a:cubicBezTo>
                <a:cubicBezTo>
                  <a:pt x="2265" y="493"/>
                  <a:pt x="2239" y="479"/>
                  <a:pt x="2217" y="460"/>
                </a:cubicBezTo>
                <a:cubicBezTo>
                  <a:pt x="2212" y="444"/>
                  <a:pt x="2214" y="422"/>
                  <a:pt x="2201" y="411"/>
                </a:cubicBezTo>
                <a:cubicBezTo>
                  <a:pt x="2189" y="400"/>
                  <a:pt x="2169" y="404"/>
                  <a:pt x="2152" y="403"/>
                </a:cubicBezTo>
                <a:cubicBezTo>
                  <a:pt x="2087" y="399"/>
                  <a:pt x="2023" y="398"/>
                  <a:pt x="1958" y="395"/>
                </a:cubicBezTo>
                <a:cubicBezTo>
                  <a:pt x="1936" y="392"/>
                  <a:pt x="1909" y="402"/>
                  <a:pt x="1893" y="387"/>
                </a:cubicBezTo>
                <a:cubicBezTo>
                  <a:pt x="1879" y="374"/>
                  <a:pt x="1893" y="347"/>
                  <a:pt x="1885" y="330"/>
                </a:cubicBezTo>
                <a:cubicBezTo>
                  <a:pt x="1881" y="321"/>
                  <a:pt x="1867" y="321"/>
                  <a:pt x="1860" y="314"/>
                </a:cubicBezTo>
                <a:cubicBezTo>
                  <a:pt x="1803" y="263"/>
                  <a:pt x="1757" y="224"/>
                  <a:pt x="1682" y="200"/>
                </a:cubicBezTo>
                <a:cubicBezTo>
                  <a:pt x="1553" y="50"/>
                  <a:pt x="1703" y="205"/>
                  <a:pt x="1585" y="127"/>
                </a:cubicBezTo>
                <a:cubicBezTo>
                  <a:pt x="1566" y="114"/>
                  <a:pt x="1556" y="90"/>
                  <a:pt x="1536" y="79"/>
                </a:cubicBezTo>
                <a:cubicBezTo>
                  <a:pt x="1504" y="61"/>
                  <a:pt x="1421" y="57"/>
                  <a:pt x="1390" y="54"/>
                </a:cubicBezTo>
                <a:cubicBezTo>
                  <a:pt x="1291" y="21"/>
                  <a:pt x="1156" y="0"/>
                  <a:pt x="1082" y="79"/>
                </a:cubicBezTo>
                <a:cubicBezTo>
                  <a:pt x="1054" y="246"/>
                  <a:pt x="1074" y="160"/>
                  <a:pt x="774" y="152"/>
                </a:cubicBezTo>
                <a:cubicBezTo>
                  <a:pt x="716" y="130"/>
                  <a:pt x="663" y="158"/>
                  <a:pt x="612" y="184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7" name="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8" name="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9" name="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5" name="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0" name="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0" name="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6" name="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8" name="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5" name="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715000" y="33526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895480" y="297180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77120" y="48006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762120" y="4786200"/>
              <a:ext cx="3643200" cy="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495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38480" y="56386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2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5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1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6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0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5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m</cp:lastModifiedBy>
  <dcterms:modified xsi:type="dcterms:W3CDTF">2006-08-02T14:06:04Z</dcterms:modified>
  <cp:revision>60</cp:revision>
  <dc:subject/>
  <dc:title>Sin título de diapositiva</dc:title>
</cp:coreProperties>
</file>