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17533-CD45-4360-81CD-72B35EA5A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7F458-8840-4BAF-B486-BF492EF73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6DEDA-38A3-4C4C-B27C-C84FEF902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644AA-34E6-404E-A70B-03B2D4A12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E748F-FD39-40B5-9B7C-BD109D656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D7670-AC57-4723-ACF8-99C25AD75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0DF4E-7475-4112-92F4-BD68FC754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8A4D1-6C27-486F-BBD3-67EF6CBB9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894EE-D175-4FA1-B7A5-D3226558C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7E92B-4315-49A8-B9AA-81F0DB6B7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DAA29-89EF-4C36-B706-1731AB409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55B25-CE07-426B-817F-EE235666E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DE6FA-E009-423B-A105-1F95352C9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2E026-5EF8-4379-AB45-28BCF9777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2B4DB-0958-4515-942B-0EB6667EC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CB4A7-5AC0-4B5A-8BDA-B7B9ED77B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F691E-4EEB-43A9-9F91-70B78668B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790F5-44EA-42C9-BAFF-9EB96FB8F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70C38-D86E-40C9-A990-2DEA4B1D1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8B5AE-20F5-4C22-B2ED-75B617FD9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4DC51-0B06-48A5-8659-BD852E788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EDD9A-31A1-4015-BCD3-9EFB79193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902E1-1D0F-4867-8420-48EC57894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5E154-31BE-45DD-9AC0-8DF5D487A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5B9EB-FC4D-415B-9B9F-77F2479592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A3C9C-988C-48C2-B5C5-CA17B9474C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I43A</a:t>
            </a:r>
            <a:br>
              <a:rPr sz="3000"/>
            </a:b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aller  II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295280" y="3962160"/>
            <a:ext cx="6400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Mercados Puntua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tallerci43a@gmail.co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Viernes 04 de agosto de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85800" y="510552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roblema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90360" y="1676520"/>
            <a:ext cx="7802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nsidere dos mercados inicialmente aislados, conectados a través de un sistema de transport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as curvas de oferta y demanda de un bien que se produce y consume en ambos mercados, son las sigui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1: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ferta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Q</a:t>
            </a:r>
            <a:r>
              <a:rPr b="0" lang="es-MX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es-MX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O 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= 2P</a:t>
            </a:r>
            <a:r>
              <a:rPr b="0" lang="es-MX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 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-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emanda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Q</a:t>
            </a:r>
            <a:r>
              <a:rPr b="0" lang="es-MX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es-MX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D 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= 1100 - 2P</a:t>
            </a:r>
            <a:r>
              <a:rPr b="0" lang="es-MX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: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ferta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Q</a:t>
            </a:r>
            <a:r>
              <a:rPr b="0" lang="es-MX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es-MX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O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= P</a:t>
            </a:r>
            <a:r>
              <a:rPr b="0" lang="es-MX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-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emanda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Q</a:t>
            </a:r>
            <a:r>
              <a:rPr b="0" lang="es-MX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es-MX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D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= 250 – P</a:t>
            </a:r>
            <a:r>
              <a:rPr b="0" lang="es-MX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Preguntas: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8026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Resolver y graficar el equilibrio en ambos mercad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Graficar las curvas de exceso de demanda y exceso de oferta según correspond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ncontrar la ecuación de demanda de transporte y graficar su curva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a)  ¿Cuál es la máxima cantidad a transportar si el transporte fuera gratuito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b)  ¿Cuál es la máxima tarifa para que exista transport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Arial"/>
              <a:buChar char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ibuje en el mismo gráfico anterior, la curva de oferta de transporte t=20+Q y encuentre el punto de equilibrio de este merca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Arial"/>
              <a:buChar char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Utilizando el resultado de la pregunta 4, indique cuáles serían los precios y las cantidades demandadas y consumidas en los mercados M1 y M2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8T21:18:51Z</dcterms:created>
  <dc:creator>F M</dc:creator>
  <dc:description/>
  <dc:language>en-US</dc:language>
  <cp:lastModifiedBy>Vargas Quezada</cp:lastModifiedBy>
  <dcterms:modified xsi:type="dcterms:W3CDTF">2006-08-03T23:46:49Z</dcterms:modified>
  <cp:revision>22</cp:revision>
  <dc:subject/>
  <dc:title>Taller  I</dc:title>
</cp:coreProperties>
</file>