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3240" y="61848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ACFD-C7ED-4AEA-A19F-77E5CCD292A4}" type="slidenum"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Times New Roman"/>
              </a:rPr>
              <a:t>INFORME DE RESULTADO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IAGRAMA DE BARR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69800" y="1093680"/>
            <a:ext cx="2873160" cy="2070000"/>
            <a:chOff x="1369800" y="1093680"/>
            <a:chExt cx="2873160" cy="2070000"/>
          </a:xfrm>
        </p:grpSpPr>
        <p:sp>
          <p:nvSpPr>
            <p:cNvPr id="43" name=""/>
            <p:cNvSpPr/>
            <p:nvPr/>
          </p:nvSpPr>
          <p:spPr>
            <a:xfrm>
              <a:off x="1382400" y="155808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6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748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936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480" y="260532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8,2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776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9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320" y="1906920"/>
              <a:ext cx="5742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5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164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.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4240" y="260532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7560" y="2954160"/>
              <a:ext cx="5760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040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24,3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916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6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41400" y="2256840"/>
              <a:ext cx="57600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6520" y="2605320"/>
              <a:ext cx="5742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8400" y="295416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32aa38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48280" y="1093680"/>
              <a:ext cx="716760" cy="210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OBRA</a:t>
              </a: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6032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2560" y="1447560"/>
              <a:ext cx="2106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160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84160" y="1304280"/>
              <a:ext cx="0" cy="25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6280" y="1775880"/>
              <a:ext cx="0" cy="92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88160" y="2712960"/>
              <a:ext cx="170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387800" y="2374920"/>
              <a:ext cx="157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69800" y="2026800"/>
              <a:ext cx="16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7760" y="1775880"/>
              <a:ext cx="0" cy="128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11640" y="3074040"/>
              <a:ext cx="209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425320" y="2725200"/>
              <a:ext cx="1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20640" y="2374920"/>
              <a:ext cx="175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20640" y="20376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786680"/>
              <a:ext cx="0" cy="127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3160" y="3074040"/>
              <a:ext cx="171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71480" y="2725200"/>
              <a:ext cx="20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471840" y="2374920"/>
              <a:ext cx="17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80840" y="2015640"/>
              <a:ext cx="152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1400" y="1573200"/>
            <a:ext cx="4201920" cy="1675080"/>
            <a:chOff x="4721400" y="1573200"/>
            <a:chExt cx="4201920" cy="1675080"/>
          </a:xfrm>
        </p:grpSpPr>
        <p:sp>
          <p:nvSpPr>
            <p:cNvPr id="77" name=""/>
            <p:cNvSpPr/>
            <p:nvPr/>
          </p:nvSpPr>
          <p:spPr>
            <a:xfrm>
              <a:off x="4722840" y="161604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284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2840" y="278748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400" y="1616040"/>
              <a:ext cx="4204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5400" y="2195280"/>
              <a:ext cx="4204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75400" y="2787480"/>
              <a:ext cx="4204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1616040"/>
              <a:ext cx="4096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87480"/>
              <a:ext cx="4096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080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1364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140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1400" y="2428920"/>
              <a:ext cx="0" cy="35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43680" y="174456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3680" y="231624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3680" y="28861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168120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31624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8612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9080" y="22525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1640" y="2316240"/>
              <a:ext cx="52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040" y="223668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040" y="237960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96040" y="1744200"/>
              <a:ext cx="0" cy="49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040" y="2379600"/>
              <a:ext cx="0" cy="50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1600" y="1784160"/>
              <a:ext cx="0" cy="53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1600" y="1784160"/>
              <a:ext cx="3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908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2379600"/>
              <a:ext cx="0" cy="40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9080" y="2886120"/>
              <a:ext cx="27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10520" y="2363400"/>
              <a:ext cx="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5400" y="2428920"/>
              <a:ext cx="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5400" y="2631960"/>
              <a:ext cx="420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2631960"/>
              <a:ext cx="0" cy="15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0520" y="2363760"/>
              <a:ext cx="2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2392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22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504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668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52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152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1480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96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224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46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4280" y="1782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1400" y="195084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9080" y="195876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520" y="2631960"/>
              <a:ext cx="95400" cy="1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456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264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52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2520" y="21542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0852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120" y="215424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12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136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640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688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804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5880" y="3772080"/>
            <a:ext cx="43084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OD. .  ACT..   OD..   I. PREV..   T. PRE..  I. LIM..   T. LIM ..      FLOT..  CRI..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1       2             0                2             7            11             7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2       4             2                6           11            15             9        4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3       6             8              14           15            21             7        7/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1        5             1                6            8             13            7         5/7  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2        3             1                4          10             13            9         3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3        1             4                6          15             16           10       1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4        4             8              12          18             22           10       4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1        2             6                8          13             15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2        3             8              15          18             22             7         3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3        2           15              17          22             24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4        1           17              18          24             25             7         1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0" y="376236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3933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09572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4267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800" y="4429080"/>
            <a:ext cx="408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800" y="4591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800" y="47530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" y="492444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800" y="5076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800" y="523872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800" y="5572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800" y="575316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256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44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700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4600" y="372420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4600" y="389556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2520" y="40672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3160" y="42577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3160" y="4448160"/>
            <a:ext cx="40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3160" y="462924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480060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3160" y="497196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3160" y="5162400"/>
            <a:ext cx="40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3160" y="53532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3160" y="55339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3160" y="57150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9560" y="372420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4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1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3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91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3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0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32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55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8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62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15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7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2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24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77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9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4320" y="369108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3   4   5  6  7   8  9 10 1112 1314 151617 1819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8960" y="3846600"/>
            <a:ext cx="3664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4880" y="3952800"/>
            <a:ext cx="1676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9800" y="413388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34200" y="431496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67160" y="450540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7160" y="46767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484812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43560" y="502920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9000" y="521964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43560" y="540072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0600" y="5591160"/>
            <a:ext cx="1380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15160" y="5772240"/>
            <a:ext cx="12193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395280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9800" y="4133880"/>
            <a:ext cx="609480" cy="6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4200" y="4314960"/>
            <a:ext cx="923760" cy="6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7160" y="4505400"/>
            <a:ext cx="77184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7160" y="4676760"/>
            <a:ext cx="457200" cy="7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4080" y="4848120"/>
            <a:ext cx="1620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3560" y="5029200"/>
            <a:ext cx="609840" cy="74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5229360"/>
            <a:ext cx="314280" cy="4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5400720"/>
            <a:ext cx="44748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9960" y="5600880"/>
            <a:ext cx="314280" cy="64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577224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600" y="907920"/>
            <a:ext cx="175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VISION JERARQUIZAD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cion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7680" y="9079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360" y="33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CRON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800" y="33656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720" y="347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Geneva"/>
              </a:rPr>
              <a:t>APLICAC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541656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TOS DE AVANCE  AL DÍA 5 </a:t>
            </a:r>
            <a:br>
              <a:rPr sz="28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(dicontinuas)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160" y="5086440"/>
            <a:ext cx="45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160" y="527688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16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2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95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9  10 111213 1415 16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91000" y="5695920"/>
            <a:ext cx="1429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132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876840"/>
            <a:ext cx="60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85880" y="3429000"/>
            <a:ext cx="152280" cy="2400480"/>
            <a:chOff x="1685880" y="3429000"/>
            <a:chExt cx="152280" cy="2400480"/>
          </a:xfrm>
        </p:grpSpPr>
        <p:sp>
          <p:nvSpPr>
            <p:cNvPr id="295" name=""/>
            <p:cNvSpPr/>
            <p:nvPr/>
          </p:nvSpPr>
          <p:spPr>
            <a:xfrm>
              <a:off x="16858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58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22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5280" y="404820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42908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6101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0800" y="3570120"/>
            <a:ext cx="61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2120" y="589932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:  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03848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4360" y="4048200"/>
            <a:ext cx="336600" cy="199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464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676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676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032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645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2016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124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124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8336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336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8336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900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464328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2284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284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2284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2284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644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440" y="418464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90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900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5644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4676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676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336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644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51600" y="4710240"/>
            <a:ext cx="26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2200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07960" y="4192560"/>
            <a:ext cx="2546280" cy="1289160"/>
            <a:chOff x="5907960" y="4192560"/>
            <a:chExt cx="2546280" cy="1289160"/>
          </a:xfrm>
        </p:grpSpPr>
        <p:sp>
          <p:nvSpPr>
            <p:cNvPr id="347" name=""/>
            <p:cNvSpPr/>
            <p:nvPr/>
          </p:nvSpPr>
          <p:spPr>
            <a:xfrm>
              <a:off x="669852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79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668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018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764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97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46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39000" y="433548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504036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44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00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200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62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62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158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94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55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360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64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8200" y="4038480"/>
            <a:ext cx="123840" cy="200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86440" y="4543560"/>
            <a:ext cx="123840" cy="199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6440" y="50482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2280" y="40194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9320" y="40291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93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000" y="5029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72120" y="3924360"/>
            <a:ext cx="836640" cy="1123920"/>
            <a:chOff x="5172120" y="3924360"/>
            <a:chExt cx="836640" cy="1123920"/>
          </a:xfrm>
        </p:grpSpPr>
        <p:grpSp>
          <p:nvGrpSpPr>
            <p:cNvPr id="376" name=""/>
            <p:cNvGrpSpPr/>
            <p:nvPr/>
          </p:nvGrpSpPr>
          <p:grpSpPr>
            <a:xfrm>
              <a:off x="5934240" y="3924360"/>
              <a:ext cx="74520" cy="104760"/>
              <a:chOff x="5934240" y="3924360"/>
              <a:chExt cx="74520" cy="104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4240" y="3924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2400" y="396252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72120" y="4429080"/>
              <a:ext cx="74520" cy="104760"/>
              <a:chOff x="5172120" y="4429080"/>
              <a:chExt cx="74520" cy="1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17212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1028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72120" y="4943520"/>
              <a:ext cx="74520" cy="104760"/>
              <a:chOff x="5172120" y="4943520"/>
              <a:chExt cx="74520" cy="104760"/>
            </a:xfrm>
          </p:grpSpPr>
          <p:sp>
            <p:nvSpPr>
              <p:cNvPr id="383" name=""/>
              <p:cNvSpPr/>
              <p:nvPr/>
            </p:nvSpPr>
            <p:spPr>
              <a:xfrm>
                <a:off x="517212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1028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105600" y="38577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3480" y="43718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5320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656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95920" y="436248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6520" y="436248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4960" y="486720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016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0160" y="3848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480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8644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43760" y="435276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53440" y="4343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67400" y="3581280"/>
            <a:ext cx="406440" cy="246240"/>
            <a:chOff x="6467400" y="3581280"/>
            <a:chExt cx="406440" cy="246240"/>
          </a:xfrm>
        </p:grpSpPr>
        <p:grpSp>
          <p:nvGrpSpPr>
            <p:cNvPr id="403" name=""/>
            <p:cNvGrpSpPr/>
            <p:nvPr/>
          </p:nvGrpSpPr>
          <p:grpSpPr>
            <a:xfrm>
              <a:off x="6467400" y="3657600"/>
              <a:ext cx="74520" cy="104760"/>
              <a:chOff x="6467400" y="3657600"/>
              <a:chExt cx="74520" cy="10476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400" y="3657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05560" y="36957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89360" y="3581280"/>
              <a:ext cx="3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 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752480"/>
            <a:ext cx="61070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17524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4920" y="19224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6440" y="19224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63200" y="19224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9560" y="1922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2880" y="19224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480" y="1922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32680" y="19224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9440" y="19224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040" y="2093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36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1448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23840" y="2093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532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792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8480" y="2093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456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0040" y="2255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836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8640" y="225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800" y="225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792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68480" y="225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4560" y="225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0040" y="24163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836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8640" y="2416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2980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792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8480" y="2416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4904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0040" y="25779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836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8640" y="257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9532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792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8480" y="2577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7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1456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49040" y="2757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25640" y="17622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1480" y="176220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5880" y="1752480"/>
            <a:ext cx="326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85880" y="1752480"/>
            <a:ext cx="3264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3884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2280" y="17524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840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272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5460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460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4196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58080" y="17524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58080" y="17524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85880" y="1914480"/>
            <a:ext cx="609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1914480"/>
            <a:ext cx="6097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1752480"/>
            <a:ext cx="1440" cy="162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1752480"/>
            <a:ext cx="111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175248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175248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9228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9228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0840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5460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5460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4196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4196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5808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5808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85880" y="2084400"/>
            <a:ext cx="60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85880" y="2084400"/>
            <a:ext cx="6086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922400"/>
            <a:ext cx="144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19224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22464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2464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33880" y="22464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33880" y="22464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0000" y="22464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0000" y="22464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2406600"/>
            <a:ext cx="24462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406600"/>
            <a:ext cx="24462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2406600"/>
            <a:ext cx="804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3880" y="2406600"/>
            <a:ext cx="8049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0000" y="2406600"/>
            <a:ext cx="2822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0000" y="2406600"/>
            <a:ext cx="28224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25686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5686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3880" y="25686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5686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25686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0000" y="25686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3852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73852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33880" y="273852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3880" y="273852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0000" y="2738520"/>
            <a:ext cx="20080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0000" y="2738520"/>
            <a:ext cx="20080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8080" y="272880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58080" y="272880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58080" y="274788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58080" y="274788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90988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90988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33880" y="290988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33880" y="290988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58080" y="2093760"/>
            <a:ext cx="1440" cy="635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8080" y="2093760"/>
            <a:ext cx="9360" cy="63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0000" y="290988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0000" y="290988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2093760"/>
            <a:ext cx="0" cy="773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9228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0840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2720" y="1922400"/>
            <a:ext cx="0" cy="9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1762200"/>
            <a:ext cx="0" cy="11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5460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2757600"/>
            <a:ext cx="0" cy="128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093760"/>
            <a:ext cx="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0000" y="1752480"/>
            <a:ext cx="2833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0000" y="1752480"/>
            <a:ext cx="2842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83560" y="19144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3560" y="19144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2400" y="2075040"/>
            <a:ext cx="205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83560" y="2246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3560" y="2246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83560" y="24066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83560" y="240660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83560" y="2568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83560" y="2568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560" y="27385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83560" y="27385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3560" y="29098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83560" y="290988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83560" y="30700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3926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83560" y="37148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3560" y="41990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83560" y="45212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83560" y="48434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83560" y="51656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83560" y="54878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83560" y="5810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81760" y="4054320"/>
            <a:ext cx="33624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Término el día 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4880" y="5591160"/>
            <a:ext cx="321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: tér.B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4048200"/>
            <a:ext cx="47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229280"/>
            <a:ext cx="93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4429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4610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477216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76600" y="4952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8760" y="51339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1472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0360" y="54957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5560" y="56865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5320" y="6483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5880" y="15238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6080" y="16938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2280" y="16938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3720" y="16938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3320" y="1693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6640" y="1693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14800" y="16938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5920" y="1693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47360" y="16938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41200" y="1865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00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64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4360" y="18651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2520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702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240" y="1865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92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41200" y="2027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1600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5640" y="202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5360" y="20271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024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65240" y="2027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3920" y="2027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1200" y="2187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60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64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2187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5536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702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5240" y="21877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5372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1200" y="23493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1600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15640" y="234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520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7024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5240" y="2349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2392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0640" y="25099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2240" y="250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5840" y="2509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520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0240" y="250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5240" y="2509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2392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3720" y="2690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15336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58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5600" y="1523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95600" y="1523880"/>
            <a:ext cx="32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64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05240" y="152388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256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5600" y="1685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5600" y="1685880"/>
            <a:ext cx="32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484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8484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3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62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62760" y="152388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75200" y="1685880"/>
            <a:ext cx="28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75200" y="168588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85880" y="1523880"/>
            <a:ext cx="180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85880" y="1523880"/>
            <a:ext cx="97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52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5240" y="1693800"/>
            <a:ext cx="1080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25680" y="16938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5680" y="16938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5600" y="18558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95600" y="1855800"/>
            <a:ext cx="32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48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484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3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4376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62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2760" y="169380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5200" y="185580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75200" y="185580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81760" y="1693800"/>
            <a:ext cx="180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81760" y="16938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85880" y="2017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5880" y="2017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6200" y="20178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6200" y="20178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200" y="20178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75200" y="20178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5880" y="21780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5880" y="21780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56200" y="21780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56200" y="21780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75200" y="217800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75200" y="217800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85880" y="23400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85880" y="23400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6200" y="23400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56200" y="23400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0" y="23400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5200" y="23400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5880" y="25002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85880" y="25002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25002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6200" y="25002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75200" y="2500200"/>
            <a:ext cx="28353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62760" y="1865160"/>
            <a:ext cx="1440" cy="978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85880" y="2671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85880" y="2671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56200" y="267192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56200" y="267192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267192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5200" y="267192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2760" y="26622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2760" y="26622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2760" y="2681280"/>
            <a:ext cx="81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62760" y="2681280"/>
            <a:ext cx="819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5880" y="284148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5880" y="284148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56200" y="284148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56200" y="284148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62760" y="2509920"/>
            <a:ext cx="1440" cy="152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2760" y="2509920"/>
            <a:ext cx="1116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5200" y="284148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5200" y="284148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583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 2  3  4  5   6  7  8  9  10 1112 13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168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1680" y="3819600"/>
            <a:ext cx="454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600" y="399096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9880" y="418140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9880" y="43718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9880" y="455292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9880" y="47242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4896000"/>
            <a:ext cx="45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9880" y="5086440"/>
            <a:ext cx="453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880" y="5276880"/>
            <a:ext cx="457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880" y="5457960"/>
            <a:ext cx="454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88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0476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66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19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1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3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6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8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81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33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6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83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06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43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955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78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00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52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5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09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2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1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67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19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56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980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1436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876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4429080"/>
            <a:ext cx="1819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6208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64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356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516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1008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1436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2876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6208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864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848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356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4796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488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10080" y="5695920"/>
            <a:ext cx="1807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040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09800" y="3876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7080" y="3429000"/>
            <a:ext cx="152280" cy="2400480"/>
            <a:chOff x="2467080" y="3429000"/>
            <a:chExt cx="152280" cy="2400480"/>
          </a:xfrm>
        </p:grpSpPr>
        <p:sp>
          <p:nvSpPr>
            <p:cNvPr id="758" name=""/>
            <p:cNvSpPr/>
            <p:nvPr/>
          </p:nvSpPr>
          <p:spPr>
            <a:xfrm>
              <a:off x="24670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670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434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314360" y="4048200"/>
            <a:ext cx="122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700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14360" y="44290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57280" y="461016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040" y="3570120"/>
            <a:ext cx="587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64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64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640" y="63435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272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28040" y="58993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      :      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04960" y="36482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04960" y="36482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04960" y="38084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04960" y="38084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04960" y="50976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04960" y="5581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04960" y="5581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588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0524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25680" y="1865160"/>
            <a:ext cx="0" cy="963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45040" y="1693800"/>
            <a:ext cx="0" cy="115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8484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75200" y="1523880"/>
            <a:ext cx="28274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92920" y="16858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92920" y="16858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81760" y="1846440"/>
            <a:ext cx="208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92920" y="2017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92920" y="2017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792920" y="21780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92920" y="21780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92920" y="23400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92920" y="23400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92920" y="2500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92920" y="2500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920" y="2671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92920" y="2671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92920" y="28414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2841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92920" y="3003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92920" y="33256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92920" y="36482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92920" y="3808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92920" y="4130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92920" y="4452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92920" y="4775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2920" y="5097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92920" y="5421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92920" y="3164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2920" y="3164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92920" y="33256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2800" y="403848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2280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2280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21360" y="421956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2136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452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24600" y="5048280"/>
            <a:ext cx="12384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8492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849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492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848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4848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4848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02680" y="4540320"/>
            <a:ext cx="33624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832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5940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5940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5940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152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152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2152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7716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38920" y="4643280"/>
            <a:ext cx="419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100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6100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66100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6100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4022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2240" y="4184640"/>
            <a:ext cx="246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7716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848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716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9460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492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492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152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9460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6016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64840" y="4697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964840" y="4192560"/>
            <a:ext cx="2527200" cy="1289160"/>
            <a:chOff x="5964840" y="4192560"/>
            <a:chExt cx="2527200" cy="1289160"/>
          </a:xfrm>
        </p:grpSpPr>
        <p:sp>
          <p:nvSpPr>
            <p:cNvPr id="853" name=""/>
            <p:cNvSpPr/>
            <p:nvPr/>
          </p:nvSpPr>
          <p:spPr>
            <a:xfrm>
              <a:off x="671760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48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396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1580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792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28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977160" y="4335480"/>
            <a:ext cx="7596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503064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264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426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078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8016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66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40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40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36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776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372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738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0580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86360" y="40384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89560" y="40291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5400" y="4019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0200" y="451476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8972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38760" y="3562200"/>
            <a:ext cx="473040" cy="246240"/>
            <a:chOff x="6638760" y="3562200"/>
            <a:chExt cx="473040" cy="246240"/>
          </a:xfrm>
        </p:grpSpPr>
        <p:grpSp>
          <p:nvGrpSpPr>
            <p:cNvPr id="879" name=""/>
            <p:cNvGrpSpPr/>
            <p:nvPr/>
          </p:nvGrpSpPr>
          <p:grpSpPr>
            <a:xfrm>
              <a:off x="6638760" y="3638520"/>
              <a:ext cx="86400" cy="104760"/>
              <a:chOff x="6638760" y="3638520"/>
              <a:chExt cx="86400" cy="104760"/>
            </a:xfrm>
          </p:grpSpPr>
          <p:sp>
            <p:nvSpPr>
              <p:cNvPr id="880" name=""/>
              <p:cNvSpPr/>
              <p:nvPr/>
            </p:nvSpPr>
            <p:spPr>
              <a:xfrm>
                <a:off x="6638760" y="3638520"/>
                <a:ext cx="8640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83040" y="3676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6664320" y="3562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210280" y="3933720"/>
            <a:ext cx="836280" cy="1114560"/>
            <a:chOff x="5210280" y="3933720"/>
            <a:chExt cx="836280" cy="1114560"/>
          </a:xfrm>
        </p:grpSpPr>
        <p:grpSp>
          <p:nvGrpSpPr>
            <p:cNvPr id="884" name=""/>
            <p:cNvGrpSpPr/>
            <p:nvPr/>
          </p:nvGrpSpPr>
          <p:grpSpPr>
            <a:xfrm>
              <a:off x="5210280" y="4943520"/>
              <a:ext cx="74520" cy="104760"/>
              <a:chOff x="5210280" y="4943520"/>
              <a:chExt cx="74520" cy="104760"/>
            </a:xfrm>
          </p:grpSpPr>
          <p:sp>
            <p:nvSpPr>
              <p:cNvPr id="885" name=""/>
              <p:cNvSpPr/>
              <p:nvPr/>
            </p:nvSpPr>
            <p:spPr>
              <a:xfrm>
                <a:off x="521028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4844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848200" y="4438800"/>
              <a:ext cx="74520" cy="104760"/>
              <a:chOff x="5848200" y="4438800"/>
              <a:chExt cx="74520" cy="1047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48200" y="4438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6360" y="44769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972040" y="3933720"/>
              <a:ext cx="74520" cy="104760"/>
              <a:chOff x="5972040" y="3933720"/>
              <a:chExt cx="74520" cy="104760"/>
            </a:xfrm>
          </p:grpSpPr>
          <p:sp>
            <p:nvSpPr>
              <p:cNvPr id="891" name=""/>
              <p:cNvSpPr/>
              <p:nvPr/>
            </p:nvSpPr>
            <p:spPr>
              <a:xfrm>
                <a:off x="5972040" y="3933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10200" y="39718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61437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27920" y="4381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48960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7684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10160" y="43909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62800" y="4543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8200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29240" y="38671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312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91440" y="48769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961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34320" y="436248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96160" y="48672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5828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43760" y="437184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0960" y="43624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92920" y="3648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92920" y="3808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92920" y="3970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92920" y="3970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2920" y="41306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92920" y="42926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92920" y="4292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2920" y="44528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92920" y="4614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92920" y="4614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92920" y="4775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92920" y="4937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92920" y="4937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92920" y="5097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92920" y="5259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92920" y="52592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792920" y="5421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2920" y="5581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2920" y="5581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91040" y="1504800"/>
            <a:ext cx="0" cy="131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91480" y="1676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72120" y="5657760"/>
            <a:ext cx="3352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.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y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440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43040" y="4048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16280" y="4229280"/>
            <a:ext cx="88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62120" y="46101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85960" y="4772160"/>
            <a:ext cx="16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52880" y="4943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52760" y="5143680"/>
            <a:ext cx="28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44808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4640" y="550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19560" y="56865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81400" y="514368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5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1160" y="5086440"/>
            <a:ext cx="450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1160" y="5276880"/>
            <a:ext cx="45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1160" y="56386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61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3924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 9 1011 1213 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1000" y="569592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0520" y="33368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3320" y="3876840"/>
            <a:ext cx="58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429000"/>
            <a:ext cx="152280" cy="2400480"/>
            <a:chOff x="3200400" y="3429000"/>
            <a:chExt cx="152280" cy="2400480"/>
          </a:xfrm>
        </p:grpSpPr>
        <p:sp>
          <p:nvSpPr>
            <p:cNvPr id="1010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040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672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308240" y="40482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8520" y="4429080"/>
            <a:ext cx="166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57280" y="460044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560" y="3579840"/>
            <a:ext cx="686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1040" y="589932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: 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7840" y="4213080"/>
            <a:ext cx="74304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57520" y="4772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81400" y="5153040"/>
            <a:ext cx="89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48960" y="154152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765520" y="15415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86960" y="1541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36560" y="15415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69880" y="1541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18040" y="15415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38800" y="1541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50240" y="154152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44440" y="1712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188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96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7600" y="171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2844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734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68480" y="1712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36992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44440" y="1874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88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14480" y="18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47600" y="1874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824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9734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68480" y="187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08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61720" y="2035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120" y="2035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18880" y="2035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58240" y="2035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8,18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73480" y="2035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68480" y="2035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69920" y="20350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1720" y="2197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188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14480" y="2197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7600" y="21970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5824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734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8480" y="2197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0008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61720" y="2357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188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14480" y="235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600" y="2357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34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68480" y="2357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6992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61720" y="2519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9512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1448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47600" y="2519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2844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480" y="251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68480" y="2519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6992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61720" y="267984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120" y="267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18880" y="2679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5824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7348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68480" y="267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08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3520" y="28414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5120" y="284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8880" y="2841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844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480" y="28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68480" y="284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6992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2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00080" y="30211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46520" y="138096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137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1371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98480" y="137160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6728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0812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28920" y="137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48280" y="137160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98480" y="1533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98480" y="1533600"/>
            <a:ext cx="325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8808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88080" y="1371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6640" y="1371600"/>
            <a:ext cx="180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6640" y="1371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6600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66000" y="137160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78440" y="1533600"/>
            <a:ext cx="28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78440" y="153360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89120" y="137160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89120" y="137160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081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812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289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892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98480" y="170352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98480" y="170352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8808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88080" y="154152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4664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4664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6600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6600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8440" y="170352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8440" y="170352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85000" y="154152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85000" y="1541520"/>
            <a:ext cx="1116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89120" y="186516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89120" y="186516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59080" y="186516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59080" y="186516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78440" y="186516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78440" y="186516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89120" y="2025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9120" y="2025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59080" y="2025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59080" y="2025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78440" y="2025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8440" y="2025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89120" y="2187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89120" y="2187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59080" y="2187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9080" y="2187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78440" y="2187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2187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89120" y="2347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89120" y="2347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59080" y="2347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59080" y="2347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8440" y="2347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8440" y="2347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89120" y="2509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89120" y="2509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59080" y="2509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59080" y="2509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78440" y="2509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78440" y="2509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9120" y="267012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89120" y="267012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59080" y="267012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59080" y="267012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978440" y="267012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78440" y="267012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89120" y="28321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89120" y="28321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59080" y="28321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59080" y="28321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78440" y="28321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978440" y="28321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89120" y="30020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0020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59080" y="300204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59080" y="300204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78440" y="300204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78440" y="300204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66000" y="299232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66000" y="299232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66000" y="30114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66000" y="30114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89120" y="31734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59080" y="317340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66000" y="1712880"/>
            <a:ext cx="1440" cy="1279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66000" y="1712880"/>
            <a:ext cx="11160" cy="12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31734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89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8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2892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48280" y="1541520"/>
            <a:ext cx="0" cy="16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8808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4664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66000" y="3021120"/>
            <a:ext cx="0" cy="1126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785000" y="1552680"/>
            <a:ext cx="0" cy="15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796160" y="1533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96160" y="153360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28120" y="1693800"/>
            <a:ext cx="20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738920" y="1865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796160" y="186516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738920" y="2025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96160" y="2025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738920" y="218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96160" y="2187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738920" y="2347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96160" y="2347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38920" y="2509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38920" y="2509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8920" y="26701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738920" y="267012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38920" y="2832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738920" y="28321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38920" y="3002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96160" y="3002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96160" y="317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36280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0" y="3857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95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38920" y="48578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0552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532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376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43520" y="502920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53240" y="4035600"/>
            <a:ext cx="336600" cy="19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1120" y="40258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91120" y="454644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91120" y="50482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84640" y="401940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4640" y="5041800"/>
            <a:ext cx="33660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6760" y="4029120"/>
            <a:ext cx="33660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84676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46760" y="5041800"/>
            <a:ext cx="3366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10320" y="402912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10320" y="453060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10320" y="5041800"/>
            <a:ext cx="328680" cy="200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6452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120160" y="453060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3200" y="473220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21240" y="414036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1240" y="4633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1240" y="51260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83360" y="408636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83360" y="46339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83360" y="512604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9000" y="4579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01120" y="463392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22840" y="456552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22840" y="468936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622840" y="4140000"/>
            <a:ext cx="0" cy="42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22840" y="4689360"/>
            <a:ext cx="0" cy="43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364440" y="417528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64440" y="417528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390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10320" y="468936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9000" y="5126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56440" y="467532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6760" y="47322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46760" y="490680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360" y="490680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467532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98520" y="4183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17320" y="47005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6677640" y="4700520"/>
            <a:ext cx="1776600" cy="246240"/>
            <a:chOff x="6677640" y="4700520"/>
            <a:chExt cx="1776600" cy="246240"/>
          </a:xfrm>
        </p:grpSpPr>
        <p:sp>
          <p:nvSpPr>
            <p:cNvPr id="1271" name=""/>
            <p:cNvSpPr/>
            <p:nvPr/>
          </p:nvSpPr>
          <p:spPr>
            <a:xfrm>
              <a:off x="820188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7764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3976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704640" y="5226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39000" y="432576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842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048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7008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44942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7844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6240" y="449424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624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3948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0556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13600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67640" y="35845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610320" y="5038560"/>
            <a:ext cx="123840" cy="200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6760" y="5032440"/>
            <a:ext cx="336600" cy="199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85072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0098"/>
                </a:solidFill>
                <a:latin typeface="Geneva"/>
              </a:rPr>
              <a:t>B</a:t>
            </a:r>
            <a:r>
              <a:rPr b="0" lang="en-US" sz="1200" spc="-1" strike="noStrike" baseline="-25000">
                <a:solidFill>
                  <a:srgbClr val="ce009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8200" y="4533840"/>
            <a:ext cx="123840" cy="200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10320" y="4029120"/>
            <a:ext cx="123840" cy="200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458040" y="3584520"/>
            <a:ext cx="462960" cy="246240"/>
            <a:chOff x="6458040" y="3584520"/>
            <a:chExt cx="462960" cy="246240"/>
          </a:xfrm>
        </p:grpSpPr>
        <p:grpSp>
          <p:nvGrpSpPr>
            <p:cNvPr id="1293" name=""/>
            <p:cNvGrpSpPr/>
            <p:nvPr/>
          </p:nvGrpSpPr>
          <p:grpSpPr>
            <a:xfrm>
              <a:off x="6458040" y="3660840"/>
              <a:ext cx="84240" cy="104760"/>
              <a:chOff x="6458040" y="3660840"/>
              <a:chExt cx="84240" cy="104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6458040" y="3660840"/>
                <a:ext cx="8424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01240" y="36990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6482880" y="358452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943600" y="3914640"/>
            <a:ext cx="836280" cy="1114200"/>
            <a:chOff x="5943600" y="3914640"/>
            <a:chExt cx="836280" cy="1114200"/>
          </a:xfrm>
        </p:grpSpPr>
        <p:grpSp>
          <p:nvGrpSpPr>
            <p:cNvPr id="1298" name=""/>
            <p:cNvGrpSpPr/>
            <p:nvPr/>
          </p:nvGrpSpPr>
          <p:grpSpPr>
            <a:xfrm>
              <a:off x="6705360" y="3914640"/>
              <a:ext cx="74520" cy="104760"/>
              <a:chOff x="6705360" y="3914640"/>
              <a:chExt cx="74520" cy="104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705360" y="39146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743520" y="39528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943600" y="4429080"/>
              <a:ext cx="74520" cy="104760"/>
              <a:chOff x="5943600" y="4429080"/>
              <a:chExt cx="74520" cy="104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594360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176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696000" y="4924080"/>
              <a:ext cx="74520" cy="104760"/>
              <a:chOff x="6696000" y="4924080"/>
              <a:chExt cx="74520" cy="104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696000" y="4924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734160" y="4962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6419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902120" y="402264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02120" y="451800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84880" y="40194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15080" y="5000760"/>
            <a:ext cx="24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50540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401652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4880" y="50007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402264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8792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21440" y="5000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4480" y="49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37440" y="3971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96160" y="3968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96160" y="4290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96160" y="461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96160" y="4935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796160" y="5259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71960" y="1371600"/>
            <a:ext cx="0" cy="18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:  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71960" y="5495760"/>
            <a:ext cx="3353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596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080" y="42195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952880"/>
            <a:ext cx="16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86080" y="5153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1000" y="5324400"/>
            <a:ext cx="44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38480" y="550548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569592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49975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"/>
          <p:cNvGrpSpPr/>
          <p:nvPr/>
        </p:nvGrpSpPr>
        <p:grpSpPr>
          <a:xfrm>
            <a:off x="4822920" y="2070000"/>
            <a:ext cx="239400" cy="3783960"/>
            <a:chOff x="4822920" y="2070000"/>
            <a:chExt cx="239400" cy="3783960"/>
          </a:xfrm>
        </p:grpSpPr>
        <p:sp>
          <p:nvSpPr>
            <p:cNvPr id="1338" name=""/>
            <p:cNvSpPr/>
            <p:nvPr/>
          </p:nvSpPr>
          <p:spPr>
            <a:xfrm>
              <a:off x="4822920" y="2070000"/>
              <a:ext cx="239400" cy="239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22920" y="2190240"/>
              <a:ext cx="239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2800" y="2084400"/>
              <a:ext cx="0" cy="376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420920" y="413244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VAS DE AVANC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derado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76360" y="2325600"/>
            <a:ext cx="4170240" cy="3525840"/>
          </a:xfrm>
          <a:custGeom>
            <a:avLst/>
            <a:gdLst/>
            <a:ahLst/>
            <a:rect l="l" t="t" r="r" b="b"/>
            <a:pathLst>
              <a:path w="2627" h="2221">
                <a:moveTo>
                  <a:pt x="0" y="2220"/>
                </a:moveTo>
                <a:lnTo>
                  <a:pt x="127" y="2151"/>
                </a:lnTo>
                <a:lnTo>
                  <a:pt x="720" y="1360"/>
                </a:lnTo>
                <a:lnTo>
                  <a:pt x="871" y="1221"/>
                </a:lnTo>
                <a:lnTo>
                  <a:pt x="1162" y="1046"/>
                </a:lnTo>
                <a:lnTo>
                  <a:pt x="2034" y="256"/>
                </a:lnTo>
                <a:lnTo>
                  <a:pt x="2626" y="0"/>
                </a:lnTo>
              </a:path>
            </a:pathLst>
          </a:custGeom>
          <a:noFill/>
          <a:ln cap="rnd" w="12600">
            <a:solidFill>
              <a:srgbClr val="006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57280" y="2049480"/>
            <a:ext cx="0" cy="37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38200" y="5850000"/>
            <a:ext cx="648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79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191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1589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796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1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41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12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210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5416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814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35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2433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8308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052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449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656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054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45160" y="2282760"/>
            <a:ext cx="0" cy="35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70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67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072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912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2080" y="54990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2080" y="51498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2080" y="4799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14440" y="4448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14440" y="4116240"/>
            <a:ext cx="606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14440" y="378288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14440" y="3414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14440" y="3063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14440" y="2712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14440" y="2325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964440" y="2220840"/>
            <a:ext cx="655560" cy="3719160"/>
            <a:chOff x="964440" y="2220840"/>
            <a:chExt cx="655560" cy="3719160"/>
          </a:xfrm>
        </p:grpSpPr>
        <p:sp>
          <p:nvSpPr>
            <p:cNvPr id="1384" name=""/>
            <p:cNvSpPr/>
            <p:nvPr/>
          </p:nvSpPr>
          <p:spPr>
            <a:xfrm>
              <a:off x="1073880" y="5319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880" y="49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73880" y="4619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73880" y="4286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73880" y="3936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3880" y="3586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3880" y="3254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73880" y="2903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73880" y="2552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4440" y="2220840"/>
              <a:ext cx="655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0 %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90880" y="5653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954000" y="159084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VANCE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68160" y="5707080"/>
            <a:ext cx="67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468440" y="5108040"/>
            <a:ext cx="114300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503800" y="4960800"/>
            <a:ext cx="642600" cy="341280"/>
            <a:chOff x="2503800" y="4960800"/>
            <a:chExt cx="642600" cy="341280"/>
          </a:xfrm>
        </p:grpSpPr>
        <p:sp>
          <p:nvSpPr>
            <p:cNvPr id="1399" name=""/>
            <p:cNvSpPr/>
            <p:nvPr/>
          </p:nvSpPr>
          <p:spPr>
            <a:xfrm>
              <a:off x="2527560" y="506088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0,61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03800" y="496080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 rot="18843000">
            <a:off x="3847680" y="4098960"/>
            <a:ext cx="1676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AL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9609200">
            <a:off x="2371320" y="3952440"/>
            <a:ext cx="1231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AS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633760" y="4619160"/>
            <a:ext cx="117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618000" y="4494240"/>
            <a:ext cx="618840" cy="439200"/>
            <a:chOff x="3618000" y="4494240"/>
            <a:chExt cx="618840" cy="439200"/>
          </a:xfrm>
        </p:grpSpPr>
        <p:sp>
          <p:nvSpPr>
            <p:cNvPr id="1405" name=""/>
            <p:cNvSpPr/>
            <p:nvPr/>
          </p:nvSpPr>
          <p:spPr>
            <a:xfrm>
              <a:off x="3618000" y="464652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4,65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57960" y="44942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0240" y="464652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343160" y="5843520"/>
            <a:ext cx="6338160" cy="298080"/>
            <a:chOff x="1343160" y="5843520"/>
            <a:chExt cx="6338160" cy="298080"/>
          </a:xfrm>
        </p:grpSpPr>
        <p:sp>
          <p:nvSpPr>
            <p:cNvPr id="1409" name=""/>
            <p:cNvSpPr/>
            <p:nvPr/>
          </p:nvSpPr>
          <p:spPr>
            <a:xfrm>
              <a:off x="15415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640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0037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244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829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054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2608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658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79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661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59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266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85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84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282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80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01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29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505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03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30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522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9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126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524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0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5843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 flipV="1">
            <a:off x="3772080" y="3591000"/>
            <a:ext cx="117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820040" y="3394080"/>
            <a:ext cx="705600" cy="398520"/>
            <a:chOff x="4820040" y="3394080"/>
            <a:chExt cx="705600" cy="398520"/>
          </a:xfrm>
        </p:grpSpPr>
        <p:sp>
          <p:nvSpPr>
            <p:cNvPr id="1438" name=""/>
            <p:cNvSpPr/>
            <p:nvPr/>
          </p:nvSpPr>
          <p:spPr>
            <a:xfrm>
              <a:off x="4820040" y="34466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07520" y="3394080"/>
              <a:ext cx="618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4,86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2487600" y="519732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13840" y="2195640"/>
            <a:ext cx="507960" cy="3718800"/>
            <a:chOff x="7413840" y="2195640"/>
            <a:chExt cx="507960" cy="3718800"/>
          </a:xfrm>
        </p:grpSpPr>
        <p:sp>
          <p:nvSpPr>
            <p:cNvPr id="1442" name=""/>
            <p:cNvSpPr/>
            <p:nvPr/>
          </p:nvSpPr>
          <p:spPr>
            <a:xfrm>
              <a:off x="7491240" y="228276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31560" y="52941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31560" y="496260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31560" y="459432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31560" y="42609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0120" y="3911760"/>
              <a:ext cx="36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0840" y="3560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30840" y="322884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30840" y="2878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530840" y="2527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413840" y="219564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98080" y="5627520"/>
              <a:ext cx="423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489800" y="1973160"/>
            <a:ext cx="0" cy="390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58880" y="16225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3280" y="26589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81840" y="301464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793040" y="35481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37440" y="342108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60520" y="2895480"/>
            <a:ext cx="3467160" cy="889200"/>
          </a:xfrm>
          <a:custGeom>
            <a:avLst/>
            <a:gdLst/>
            <a:ahLst/>
            <a:rect l="l" t="t" r="r" b="b"/>
            <a:pathLst>
              <a:path w="2184" h="560">
                <a:moveTo>
                  <a:pt x="0" y="0"/>
                </a:moveTo>
                <a:lnTo>
                  <a:pt x="720" y="224"/>
                </a:lnTo>
                <a:lnTo>
                  <a:pt x="1456" y="472"/>
                </a:lnTo>
                <a:lnTo>
                  <a:pt x="2184" y="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447920" y="27306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7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29080" y="30607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3467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02120" y="363204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50240" y="27385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00040" y="5783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878440" y="1873080"/>
            <a:ext cx="434880" cy="441360"/>
            <a:chOff x="5878440" y="1873080"/>
            <a:chExt cx="434880" cy="441360"/>
          </a:xfrm>
        </p:grpSpPr>
        <p:sp>
          <p:nvSpPr>
            <p:cNvPr id="1469" name=""/>
            <p:cNvSpPr/>
            <p:nvPr/>
          </p:nvSpPr>
          <p:spPr>
            <a:xfrm flipV="1">
              <a:off x="6053040" y="2133720"/>
              <a:ext cx="8892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78440" y="18730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54720" y="1886040"/>
            <a:ext cx="434880" cy="429840"/>
            <a:chOff x="6354720" y="1886040"/>
            <a:chExt cx="434880" cy="429840"/>
          </a:xfrm>
        </p:grpSpPr>
        <p:sp>
          <p:nvSpPr>
            <p:cNvPr id="1472" name=""/>
            <p:cNvSpPr/>
            <p:nvPr/>
          </p:nvSpPr>
          <p:spPr>
            <a:xfrm flipV="1">
              <a:off x="6526080" y="213444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54720" y="188604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613560" y="1870200"/>
            <a:ext cx="434880" cy="447120"/>
            <a:chOff x="6613560" y="1870200"/>
            <a:chExt cx="434880" cy="447120"/>
          </a:xfrm>
        </p:grpSpPr>
        <p:sp>
          <p:nvSpPr>
            <p:cNvPr id="1475" name=""/>
            <p:cNvSpPr/>
            <p:nvPr/>
          </p:nvSpPr>
          <p:spPr>
            <a:xfrm flipV="1">
              <a:off x="6770520" y="213588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13560" y="18702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2:05:24Z</dcterms:created>
  <dc:creator>GREGORIO AZOCAR</dc:creator>
  <dc:description>iNFORMACION DE GESTION GRAFICA</dc:description>
  <dc:language>en-US</dc:language>
  <cp:lastModifiedBy>Gregorio Azocar</cp:lastModifiedBy>
  <cp:lastPrinted>2004-08-07T23:57:13Z</cp:lastPrinted>
  <dcterms:modified xsi:type="dcterms:W3CDTF">2006-10-24T14:26:28Z</dcterms:modified>
  <cp:revision>175</cp:revision>
  <dc:subject>SEMINARIO</dc:subject>
  <dc:title>ADMINISTRACION DE PROYECTOS</dc:title>
</cp:coreProperties>
</file>