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230-CB93-4814-AC4E-C0AE9F28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82E-39A8-491D-8CDD-CD8CFF64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5C0-0483-4EC4-9130-4FE4705D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3CE-A30E-46A1-BE86-B948813B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7A58-D772-4802-9B8D-98AD68FB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00CA-BA6B-48D5-B359-9C2DAFFF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CE8F-9453-4E13-A3D5-411FCAF3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31DE-E8CC-49AA-B7DF-59781084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13EB-7744-4B60-8677-462B4BD0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0BC3-6423-4B8D-B66F-676AD199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73AC-C2ED-415F-A1BE-5897B942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6B8-27AC-42C2-A7B8-7992394C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C234-2235-4A4D-A427-1B5977C2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AB3E-9984-4456-8AF1-160C812A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6D93-7139-4555-A7EF-9855719F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0FAB-5CFE-432F-B123-298CAA27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A173-5F15-4B37-9640-B511F214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C08-B09A-4CE7-B09D-DD7B0F69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531-E3D2-49EC-BF9A-267D1D5A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D16-A921-407A-8407-4B62B689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85A-740C-4881-A9E0-01811C1F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98D-450C-479F-A806-D600273F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81A-0081-419B-B981-AEF2B03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E40-A5D6-4119-A670-914A5C2B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746A-CB2A-4ED2-A29E-9D42B4A85FA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36B-3DB0-4442-A878-08E0AE88B39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Modelo Dinámico para simular los estados de equilibrio del mercado Inmobiliari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cuación Funcional  </a:t>
            </a:r>
            <a:r>
              <a:rPr b="1" lang="es-CL" sz="2000" spc="-1" strike="noStrike">
                <a:solidFill>
                  <a:srgbClr val="006666"/>
                </a:solidFill>
                <a:latin typeface="Arial"/>
              </a:rPr>
              <a:t>(recursiv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848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6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9560" y="3597120"/>
                <a:ext cx="825840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886200" y="5029200"/>
            <a:ext cx="2438280" cy="1066680"/>
          </a:xfrm>
          <a:prstGeom prst="wedgeRectCallout">
            <a:avLst>
              <a:gd name="adj1" fmla="val -62759"/>
              <a:gd name="adj2" fmla="val -130953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utoff de profi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ositiv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3840" y="263052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sumiendo un solo escenari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Cutoff de preci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1440" y="3198960"/>
                <a:ext cx="67183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4267080"/>
            <a:ext cx="7391520" cy="2286000"/>
          </a:xfrm>
          <a:prstGeom prst="rect">
            <a:avLst/>
          </a:prstGeom>
          <a:solidFill>
            <a:srgbClr val="fbfb6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ferta Optima </a:t>
            </a: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(ecuación de Euler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219320" y="4467240"/>
                <a:ext cx="6933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62560" y="2529000"/>
                <a:ext cx="11919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218600" y="27129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imer ord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08560" y="3235320"/>
                <a:ext cx="2525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260360" y="3246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volven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29120" y="590724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recio igual costo margi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3320" y="3672000"/>
            <a:ext cx="26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(Stokey &amp; Lukas, 1989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puesto Mio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76520" y="4038480"/>
                <a:ext cx="59436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α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19320" y="265104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I. Precios históricos recursivos: la única información sobre los precios futuros es aquella que se tiene de la historia. Luego los precios se proyectan según el promedio ponderado de los precios pasa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0680" y="552780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osible mejora: los ponderadores de los precios de la historia dependen del momento del ciclo en que se encuentra el mercado.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quilibrio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úmero de viviendas vendidas en un periodo iguala al número de hogares que se localiz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295280" y="3687840"/>
                <a:ext cx="5031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295280" y="4724280"/>
                <a:ext cx="6019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h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num>
                                      <m:den>
                                        <m:r>
                                          <m:t xml:space="preserve">h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74040" y="6080040"/>
            <a:ext cx="64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ivel de utilidad para equilibrio I; define rentas relativ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qulibrio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1936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981080" y="3370320"/>
                <a:ext cx="4572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28144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600200" y="4114800"/>
                <a:ext cx="601992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h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h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−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den>
                                </m:f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−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den>
                                </m:f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289160" y="26305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juste de precios absolutos a condiciones de factibi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asos Releva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xceso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xceso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Igualdad oferta-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676520" y="2743200"/>
                <a:ext cx="14475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&lt;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676520" y="4343400"/>
                <a:ext cx="1295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&lt;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752480" y="6019920"/>
                <a:ext cx="1447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523880" y="3352680"/>
                <a:ext cx="16765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v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727440" y="3352680"/>
                <a:ext cx="1087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343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189240" y="4878360"/>
                <a:ext cx="1241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324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600200" y="4876920"/>
                <a:ext cx="1066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5867280" y="2971800"/>
          <a:ext cx="3048120" cy="18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971800"/>
                    <a:ext cx="30481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324480" y="2590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Precios vs exces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05560" y="43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1520" y="48006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162560" y="50292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5029200"/>
            <a:ext cx="3045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48769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Exceso ofer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896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Exceso demand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391520" y="312372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lgoritmo 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38280" y="2400480"/>
            <a:ext cx="4189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Supuesto mi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Función de cos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ducción ópt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lnSpc>
                <a:spcPct val="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Restricció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808520" y="2819520"/>
                <a:ext cx="380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313160" y="3575160"/>
                <a:ext cx="46022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γ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800600" y="4572000"/>
                <a:ext cx="33526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76920" y="5861160"/>
                <a:ext cx="21589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362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wellings: supply, excess and us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00160" y="2743200"/>
          <a:ext cx="8915400" cy="38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743200"/>
                    <a:ext cx="891540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782880" y="632160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otivació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arrollar un modelo para el mercado inmobili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sado en principios de equilibrio económ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on dependencia intertemporal de las 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Que permita la existencia de exceso de oferta y de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jo supuestos de “foresight” para los product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fectado por shocks económicos estocástic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1640" y="6559560"/>
            <a:ext cx="68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981080" y="533520"/>
          <a:ext cx="655344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553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981080" y="2514600"/>
          <a:ext cx="6553440" cy="197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514600"/>
                    <a:ext cx="655344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4495680"/>
          <a:ext cx="6553440" cy="2063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495680"/>
                    <a:ext cx="65534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04920" y="5181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w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12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Average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1430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High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Homeless effec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00400" y="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rice capitalization eff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04920" y="1062000"/>
          <a:ext cx="7377120" cy="15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062000"/>
                    <a:ext cx="73771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80988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90520" y="2890800"/>
          <a:ext cx="7377120" cy="152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890800"/>
                    <a:ext cx="73771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0" y="15192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5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0" y="357660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176480" y="4816440"/>
          <a:ext cx="7377120" cy="188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6480" y="4816440"/>
                    <a:ext cx="737712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20" y="563868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867280" y="476280"/>
                <a:ext cx="2133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opulation growth eff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362320" y="457200"/>
          <a:ext cx="5715000" cy="29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571500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809880" y="643248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990720"/>
            <a:ext cx="13716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2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</a:rPr>
              <a:t>(q=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438280" y="3505320"/>
          <a:ext cx="5639040" cy="286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505320"/>
                    <a:ext cx="563904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990720" y="3843360"/>
            <a:ext cx="13716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3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</a:rPr>
              <a:t>(q=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cated households by income level (</a:t>
            </a: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3% </a:t>
            </a: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66680" y="2895480"/>
          <a:ext cx="69343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69343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27672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El modelo produce estados de equilibrio permitiendo la existencia de exceso de oferta y/o demand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Las funciones de “corte” controlan los excesos ajustando por ingreso o precio minimo de ven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Se pueden dar casos de exceso de oferta y demanda simultane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504960" y="3581280"/>
            <a:ext cx="289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Questions?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venciones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32004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blación dividida en clusters según nivel de ingreso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iudad dividida en zonas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Bienes inmuebles separados en tipos de viviendas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b-Modelo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ercado tipo rem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sturas estocástica (IIDG)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sturas restringidas por nivel de ingre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Localización se asigna al mejor pos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Las rentas son la máxima postura espe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1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67280" y="2814480"/>
                <a:ext cx="2210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1911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95480" y="3686040"/>
                <a:ext cx="2210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443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62040" y="3657600"/>
                <a:ext cx="838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775480" y="389736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(utilidad cuasi linea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cuaciones de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19520" y="412128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781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8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19320" y="2793960"/>
                <a:ext cx="35049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19320" y="4497480"/>
                <a:ext cx="42670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16600" y="2719440"/>
                <a:ext cx="39114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d>
                          </m:e>
                        </m:d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v</m:t>
                                        </m:r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221840" y="24336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ejor post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93280" y="23986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ejor elecció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1480" y="4141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Rent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51480" y="42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32000" y="5950080"/>
                <a:ext cx="54007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número de hogares y viviendas que se localizan en periodo t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: número total de hogares y stock de viviendas acululado en el periodo t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utoff </a:t>
            </a:r>
            <a:r>
              <a:rPr b="1" i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2362320"/>
          <a:ext cx="7086600" cy="39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0866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5600" y="6121440"/>
                <a:ext cx="882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17880" y="765000"/>
                <a:ext cx="5875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b-Modelo Ofer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roductores homogéne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bjetivo: maximizar profit de largo plaz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fase temporal: la producción decidida en </a:t>
            </a:r>
            <a:r>
              <a:rPr b="0" i="1" lang="es-CL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esta disponible en </a:t>
            </a:r>
            <a:r>
              <a:rPr b="0" i="1" lang="es-CL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periodos m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hocks: escenarios económicos ocurriendo con cierta probabilidad 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4800600"/>
            <a:ext cx="7925040" cy="1676520"/>
          </a:xfrm>
          <a:prstGeom prst="rect">
            <a:avLst/>
          </a:prstGeom>
          <a:solidFill>
            <a:srgbClr val="fbfb6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fini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22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47920" y="273204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0" y="2732040"/>
                <a:ext cx="1981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057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419720" y="4038480"/>
                <a:ext cx="2209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100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47920" y="4038480"/>
                <a:ext cx="1981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024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66680" y="5411880"/>
                <a:ext cx="7875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355760" y="23623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Oferta Acumulad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360" y="2376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Exceso Ofert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2680" y="3543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iviendas Usad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9840" y="35812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iviendas disponible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6120" y="49910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Gananci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l problema del Ofere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848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93880" y="2563920"/>
                <a:ext cx="8030880" cy="19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</m:sSubSup>
                          </m:lim>
                        </m:limLow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β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β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p>
                                        <m:sSub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bSup>
                                        <m:sSubSup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  <m:r>
                                          <m:t xml:space="preserve">C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,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e>
                                    </m:d>
                                  </m:e>
                                </m:nary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≥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416640" y="4572000"/>
            <a:ext cx="14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3366"/>
                </a:solidFill>
                <a:uFillTx/>
                <a:latin typeface="Arial"/>
              </a:rPr>
              <a:t>Exógeno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reci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Usad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+n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0120" y="5241960"/>
            <a:ext cx="31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xceso demanda &amp; ofer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fit No-negativ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566748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3366"/>
                </a:solidFill>
                <a:uFillTx/>
                <a:latin typeface="Arial"/>
              </a:rPr>
              <a:t>Predice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reci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+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2:02:33Z</dcterms:created>
  <dc:creator>Ricardo Hurtubia</dc:creator>
  <dc:description/>
  <dc:language>en-US</dc:language>
  <cp:lastModifiedBy>alumno</cp:lastModifiedBy>
  <dcterms:modified xsi:type="dcterms:W3CDTF">2006-11-10T14:58:36Z</dcterms:modified>
  <cp:revision>27</cp:revision>
  <dc:subject/>
  <dc:title>Simulación Dinámica de los Estados de Equilibrio en el Mercado Inmobiliario</dc:title>
</cp:coreProperties>
</file>