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1.wmf" ContentType="image/x-wmf"/>
  <Override PartName="/ppt/media/image23.wmf" ContentType="image/x-wmf"/>
  <Override PartName="/ppt/media/image9.jpeg" ContentType="image/jpeg"/>
  <Override PartName="/ppt/media/image12.wmf" ContentType="image/x-wmf"/>
  <Override PartName="/ppt/media/image4.png" ContentType="image/png"/>
  <Override PartName="/ppt/media/image8.jpeg" ContentType="image/jpeg"/>
  <Override PartName="/ppt/media/image13.wmf" ContentType="image/x-wmf"/>
  <Override PartName="/ppt/media/image10.jpeg" ContentType="image/jpeg"/>
  <Override PartName="/ppt/media/image30.wmf" ContentType="image/x-wmf"/>
  <Override PartName="/ppt/media/image28.wmf" ContentType="image/x-wmf"/>
  <Override PartName="/ppt/media/image34.wmf" ContentType="image/x-wmf"/>
  <Override PartName="/ppt/media/image37.wmf" ContentType="image/x-wmf"/>
  <Override PartName="/ppt/media/image38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7.jpeg" ContentType="image/jpeg"/>
  <Override PartName="/ppt/media/image31.wmf" ContentType="image/x-wmf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14CF-1C5B-4D81-974F-CA346CE0A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58C6-3DA0-4B29-B3D1-75E2BDA5D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59AE-96DF-4719-8F82-B24C16107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C013-17D6-4EB2-9317-D2C675DD5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48D0-D131-49C1-A03B-4E388393F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F89E-8762-4392-9D44-C73B24833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9265-B907-4788-B48A-7067E167E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D469-8BD0-4391-BB35-4DBC45538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C056-C22B-431C-BB2C-E8BF88E0D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94E4-7071-4CC3-9DFE-A46AFE6E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1BD3-3EAD-45E4-940D-53594393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F7C0-EF3F-4B6E-855D-108F6FF8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9B25D-DBB3-48F3-99F3-0FC4440C7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5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6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13452480" cy="32986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561040" y="260280"/>
            <a:ext cx="369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CULO DEL EN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12126960" cy="31734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24000" y="3855960"/>
            <a:ext cx="11472840" cy="30020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928520" y="208080"/>
            <a:ext cx="442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CULO DE LOS ENL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11623680" cy="3039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488680" y="260280"/>
            <a:ext cx="442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CULO DE LOS ENL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95280" y="3762360"/>
            <a:ext cx="118332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11910960" cy="29224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272680" y="260280"/>
            <a:ext cx="442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CULO DE LOS ENL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393840" y="260280"/>
            <a:ext cx="12158640" cy="5497560"/>
            <a:chOff x="393840" y="260280"/>
            <a:chExt cx="12158640" cy="5497560"/>
          </a:xfrm>
        </p:grpSpPr>
        <p:sp>
          <p:nvSpPr>
            <p:cNvPr id="91" name=""/>
            <p:cNvSpPr/>
            <p:nvPr/>
          </p:nvSpPr>
          <p:spPr>
            <a:xfrm>
              <a:off x="5580000" y="1484280"/>
              <a:ext cx="1152720" cy="50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50920" y="907920"/>
              <a:ext cx="165744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00360" y="2997360"/>
              <a:ext cx="93672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4360" y="907920"/>
              <a:ext cx="1008000" cy="358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0160" y="260280"/>
              <a:ext cx="726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CION REFLECTORES PASIVOS EN PUNTILL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6" name=""/>
            <p:cNvGraphicFramePr/>
            <p:nvPr/>
          </p:nvGraphicFramePr>
          <p:xfrm>
            <a:off x="393840" y="3429000"/>
            <a:ext cx="8750160" cy="232884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9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3840" y="3429000"/>
                      <a:ext cx="8750160" cy="2328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8" name=""/>
            <p:cNvSpPr/>
            <p:nvPr/>
          </p:nvSpPr>
          <p:spPr>
            <a:xfrm>
              <a:off x="687240" y="907920"/>
              <a:ext cx="97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LFALF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58920" y="1268280"/>
              <a:ext cx="1584360" cy="15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2627280" y="2707920"/>
              <a:ext cx="50472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629440" y="3068640"/>
              <a:ext cx="933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UNTILL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 flipV="1">
              <a:off x="2771280" y="1412640"/>
              <a:ext cx="7164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408560" y="85716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052360" y="907920"/>
              <a:ext cx="1384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C. OLIVAR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203640" y="1484280"/>
              <a:ext cx="216000" cy="12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203640" y="2708280"/>
              <a:ext cx="50472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3419640" y="2060640"/>
              <a:ext cx="252072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654520" y="1557360"/>
              <a:ext cx="96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AMBIL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9" name=""/>
            <p:cNvGraphicFramePr/>
            <p:nvPr/>
          </p:nvGraphicFramePr>
          <p:xfrm>
            <a:off x="3564000" y="2205000"/>
            <a:ext cx="8988480" cy="24912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11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564000" y="2205000"/>
                      <a:ext cx="8988480" cy="24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39640" y="878040"/>
            <a:ext cx="9864720" cy="5651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911600" y="0"/>
            <a:ext cx="484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CULO REFLECTOR PAS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84360" y="930240"/>
            <a:ext cx="9648720" cy="5527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586160" y="63360"/>
            <a:ext cx="484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CULO REFLECTOR PAS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374760" y="1204920"/>
          <a:ext cx="8810640" cy="467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4760" y="1204920"/>
                    <a:ext cx="8810640" cy="46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653760" y="549360"/>
            <a:ext cx="756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ntajas y desventajas de las opciones estudi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06200" y="1843200"/>
            <a:ext cx="8931600" cy="31716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140280" y="56664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ION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06200" y="1317600"/>
            <a:ext cx="8931600" cy="4221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766160" y="260280"/>
            <a:ext cx="51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ION REFLECTORES PAS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-217440" y="1773360"/>
            <a:ext cx="9361440" cy="2359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558440" y="476280"/>
            <a:ext cx="544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S DE MMOO APROPI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06200" y="1522440"/>
            <a:ext cx="8931600" cy="38116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567800" y="495360"/>
            <a:ext cx="51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ION REFLECTORES PAS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539640" y="907920"/>
          <a:ext cx="7962840" cy="2600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907920"/>
                    <a:ext cx="7962840" cy="26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539640" y="3716280"/>
          <a:ext cx="7851960" cy="2274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3716280"/>
                    <a:ext cx="7851960" cy="22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2607840" y="208080"/>
            <a:ext cx="30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stos de i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250920" y="1052640"/>
          <a:ext cx="7627680" cy="1950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052640"/>
                    <a:ext cx="7627680" cy="19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0920" y="3141720"/>
          <a:ext cx="7632720" cy="2201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3141720"/>
                    <a:ext cx="7632720" cy="22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1188720" y="260280"/>
            <a:ext cx="61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stos inversion con reflectores pas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084400" y="351000"/>
            <a:ext cx="398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OS DE OPER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547640" y="1341360"/>
          <a:ext cx="5111280" cy="3141360"/>
        </p:xfrm>
        <a:graphic>
          <a:graphicData uri="http://schemas.openxmlformats.org/drawingml/2006/table">
            <a:tbl>
              <a:tblPr/>
              <a:tblGrid>
                <a:gridCol w="3554280"/>
                <a:gridCol w="1557000"/>
              </a:tblGrid>
              <a:tr h="589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stos de operación anu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$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4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ergía eléctr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busti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4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sitas a R/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ntención equip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pues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4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r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75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1888560" y="5275440"/>
            <a:ext cx="179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75000 pesos = USD 195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611280" y="692280"/>
          <a:ext cx="8208720" cy="616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692280"/>
                    <a:ext cx="8208720" cy="61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1692360" y="333360"/>
            <a:ext cx="547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CION ELEGIDA DIAGRAMA BLOQUES MM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0" y="3500280"/>
          <a:ext cx="9186840" cy="274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500280"/>
                    <a:ext cx="918684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1910520" y="260280"/>
            <a:ext cx="55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MEN DE COSTOS DE EQUI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0" y="1700280"/>
            <a:ext cx="6516720" cy="1368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95280" y="134136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600" y="1413000"/>
            <a:ext cx="145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quipo de MM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775600" y="620640"/>
            <a:ext cx="280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UJOS DE CA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24000" y="2052720"/>
            <a:ext cx="882000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846880" y="260280"/>
            <a:ext cx="26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32000" y="1773360"/>
            <a:ext cx="67532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 proyecto es ren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e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una tasa interna de retorno del 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ene capacidad de crecimiento futuro de nuevos serv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7760" y="1957320"/>
            <a:ext cx="12198240" cy="2328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419640" y="2276640"/>
            <a:ext cx="4438440" cy="2000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50520" y="549360"/>
            <a:ext cx="515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LACE ALFALFAL POLICLIN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10360" y="5079960"/>
            <a:ext cx="378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 ENCUENTRA OBSTRU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12760" y="1484280"/>
            <a:ext cx="8931240" cy="388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96800" y="35100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CIONES POS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61920"/>
          <a:ext cx="9144000" cy="691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1920"/>
                    <a:ext cx="9144000" cy="691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471840" y="351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3887640" cy="2593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88560" y="3500280"/>
            <a:ext cx="232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LICLINICO - PUNTIL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572000" y="907920"/>
            <a:ext cx="4127400" cy="2451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342400" y="3500280"/>
            <a:ext cx="251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C OLIVARES - PUNTIL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24000" y="3809880"/>
            <a:ext cx="3887640" cy="2330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932760" y="6235560"/>
            <a:ext cx="21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MBILLO -  PUNTIL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4643280" y="4076640"/>
            <a:ext cx="4248360" cy="1889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151600" y="6019920"/>
            <a:ext cx="27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MARA  CARGA  - TAMBI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3240" y="333360"/>
            <a:ext cx="442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ILES DE LOS ENL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3564000" y="1628640"/>
          <a:ext cx="5076720" cy="3038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1628640"/>
                    <a:ext cx="5076720" cy="30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2250000" y="136440"/>
            <a:ext cx="36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ROBACION EN TERR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81000" y="1260360"/>
          <a:ext cx="8799480" cy="3897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000" y="1260360"/>
                    <a:ext cx="8799480" cy="38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360720" y="5587920"/>
            <a:ext cx="31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PEJE EN OBSTRUCCIÓN  2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73040" y="674640"/>
            <a:ext cx="6733800" cy="36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anda de Frecuencia: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5 G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tencia transmitida: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0 Dbm   (100m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ivel de umbral para BER 10-6: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85 Db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ntena adosada al equipo intempe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anancia de antenas: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0.6 m = 36.5 dB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3 m = 31.5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8 m = 46    d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pérdida de espacio lib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p =  92.4 + 20log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 + 20log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on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 = distancia en Km. entre la estación transmisora y la recept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 = frecuencia en Gigahert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9640" y="4501800"/>
            <a:ext cx="418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radio de la primera zona de Fresnel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1 (m) =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300xD1xD2/FxD)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3760" y="5300280"/>
            <a:ext cx="566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1 = distancia de la obstrucción al terminal transmi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2 = D – D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09640" y="423720"/>
            <a:ext cx="310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O ENLACE MM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197800" y="333360"/>
            <a:ext cx="50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O DE PROPAGACION DE ENL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03360" y="5881680"/>
          <a:ext cx="2743200" cy="78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360" y="5881680"/>
                    <a:ext cx="2743200" cy="7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395280" y="1268280"/>
            <a:ext cx="9139320" cy="196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395280" y="2708280"/>
          <a:ext cx="8748720" cy="23907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5280" y="2708280"/>
                    <a:ext cx="8748720" cy="23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95280" y="4581360"/>
          <a:ext cx="9018720" cy="10605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5280" y="4581360"/>
                    <a:ext cx="901872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2T15:02:05Z</dcterms:created>
  <dc:creator>Jorge</dc:creator>
  <dc:description/>
  <dc:language>en-US</dc:language>
  <cp:lastModifiedBy>Jorge</cp:lastModifiedBy>
  <dcterms:modified xsi:type="dcterms:W3CDTF">2005-09-09T13:37:42Z</dcterms:modified>
  <cp:revision>7</cp:revision>
  <dc:subject/>
  <dc:title>Diapositiva 1</dc:title>
</cp:coreProperties>
</file>