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897D3-4429-4275-97E6-88FEDF1C9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6940F-C65E-4AA1-ACF7-E75C1A379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BA4AD-356C-4D60-9A47-358009238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D849C-1462-43A8-A637-45804469D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F4B18-7576-4D61-AE4B-8D5ADBC4D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B7EB6-6496-4BAA-9C8F-7FEA3F49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0D327-2DCA-4348-810C-8474391B0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649EC-09FD-48A9-B270-D825A9DA2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19AAA-5F64-4AF5-8016-4A98C3766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663C5-EC5C-4DF7-AC4C-991BA0FD8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70E0-C48D-4464-ADC9-743783B2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2EAD-B04E-4B28-BD31-99E9A2BCA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41FB-64A3-44F5-9455-23A8FC34B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YECT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el conjunto de actividades no repetitivas de naturaleza técnica, administrativa y financiera, que tienen como objetivo final la obtención de determinados productos dentro de los parámetros preestablecid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erencia del proyec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a gerencia del proyecto es responsable por la relación entre los diversos parámetros a ser controlados (costos, plazos y calidad) y es en el Gerente del Proyecto en quien se concentra la principal responsabilidad por el desempeño del m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Muchas veces, por "industrializar" los proyectos y las actividades de construcción y montaje, se aceptan más fácilmente nuevas técnicas o equipamientos. De esta forma, pensamos que con esta aplicación ganaremos en rentabilidad de emprendimiento y cada hora invertida en la planificación, programación y control economizará muchas horas y recursos perdidos o ineficientemente empleados en el proyecto y en la ejecución del mism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533520"/>
            <a:ext cx="914400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Si la empresa tiene un programa de inversiones a largo plazo, puede ser interesante que parte de la estructura de la gerencia del proyecto se incorpore de forma estable a la organización como por ejemplo: ingeniería básica, fiscalización, compras técnicas. En caso de un proyecto puntual, es conveniente que estas funciones sean terciarizadas buscando economía y eficiencia en la contratación de especialistas solamente durante el periodo necesar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jerarquía, los objetivos funcionales (especificaciones técnicas, contratos...) y los procedimientos operacionales dentro de una gerencia del proyecto son naturalmente diferentes a los formales dentro de la organización empresari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organización del proyecto está influenciada por diversos factores, entre otr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complejidad, el porte y la du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naturaleza del proyecto y ramo de actividad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Riesgos vinculad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ocalización geográf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Calificación y disponibilidad de person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os factores están estrechamente relacionados entre sí y ello determina la complejidad de la Gerencia del Proyecto. No existe un único tipo de estructura y de ella dependerá cómo podamos definir y agrupar las tareas e integrarlas entre sí. Cuanto más indefinida sea la tarea, más necesario será procesar mayor información y más compleja será su coordin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En los Proyectos de Ingeniería de cierta importancia es frecuente la utilización de estructuras matriciales que por ser estructuras de comandos múltiples exigen una determinada cultura y enfoque múltiple. De este modo, aprovechamos la experiencia de dos o más áreas técnicas diferentes cuando requerimos alta capacidad de procesamiento de la información y, además, por economía de esca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Organización y funciones de la gerencia del proyecto</a:t>
            </a:r>
            <a:r>
              <a:rPr b="1"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organización de la Gerencia del Proyecto debe ser flexible pero definiendo las responsabilidades principales y subordinadas, lo cual deja claro las jerarquías. La autoridad efectiva del equipo se fundamenta en el conocimiento sobre la materia, en las habilidades personales y en la capacidad de resolver los conflictos que se presentan.</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s funciones básicas de la Gerencia del Proyecto son las siguientes:</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Dirección del Proyecto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lanif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rogram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trole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rganización de las actividades (coordinación, inclusive de la emisión de los documen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nformes y comun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ministración de las Licitaciones y contra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iscalización y auditoria de servici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visiones del Proyecto</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programación y acciones correctiva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Start-up o entrada en oper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tapas del Proyecto Eléctrico</a:t>
            </a:r>
            <a:br>
              <a:rPr sz="4400"/>
            </a:b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eniería (Conceptual, Básica, Detalle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inistro (Plazos </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ificación, programación y control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os métodos de programación y control concentran la atención y los esfuerzos del Gerente del Proyecto y de su equipo sobre aquellos elementos que son más relevantes o críticos (actuación por excepción) evitando errores o volver a rehacer el trabajo, anticipando el inicio de operación consecuentemente el retorno de la inversión.</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xige la división del proyecto en partes: sistemas, subsistemas y componentes, tareas, definiendo la PBS (Project Breakdown Structure), identificando así las actividades fin (el "qué") y sus mecanismos de control. </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 continuación, las actividades fin son analizadas por especialidades tecnológicas identificando los sectores responsables, definiendo las funciones y los documentos necesarios para ejecutar cada una de ellas, esto se conoce con el nombre de WBS (Work Breakdown Structure) y son las actividades medio (el "cómo").</a:t>
            </a:r>
            <a:endParaRPr b="0" lang="en-US" sz="1600" spc="-1" strike="noStrike">
              <a:solidFill>
                <a:srgbClr val="000000"/>
              </a:solidFill>
              <a:latin typeface="Times New Roman"/>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19320" y="1523880"/>
            <a:ext cx="6858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Una característica destacada de la Gerencia del Proyecto al planificar es que debe tener una gran capacidad analítica sin perder la visión del conjunto en ningún mom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programación utiliza herramientas tales com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Redes (PERT o CP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agramas de Barras (GA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urvas "S", inform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les herramientas son fundamentales por su eficacia en la comunicación de la Gerencia del Proyecto y el resto de la empres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 partes del proyecto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r>
              <a:rPr b="0" lang="es-CL" sz="1800" spc="-1" strike="noStrike">
                <a:solidFill>
                  <a:srgbClr val="000000"/>
                </a:solidFill>
                <a:latin typeface="Arial Unicode MS"/>
                <a:ea typeface="Arial Unicode MS"/>
              </a:rPr>
              <a:t>Del cruce de las matrices PBS (actividades o "productos") x WBS (recursos) surgirán las siguientes partes del proyecto: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lista de actividades con su duración e interdepen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resupuesto (Budget) y Plan de cuentas (extracontabl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Otros recursos necesarios en tipo y cantidad (mano de obra, materiales, equipamientos)</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físic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económico / financiero (flujo de caj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lanillas y gráficos de control</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Se recomienda elaborar el cronograma Físico desde dos perspectivas diferentes: cronograma de productos (edificios, sectores, sistemas) y cronograma de las áreas técnicas (civil, eléctrica, instrumentación, compras, etc)</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762120"/>
            <a:ext cx="81532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los informes de control debemos destacar claramente los datos: previsión - actual - revisado tanto para los costos como para el avance físico y los plazos. Debe darse preferencia a los gráficos para facilitar la comunicación hacia fuera del equipo del proyecto. También en los informes debe analizarse la situación general del proyecto y de los contra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tro parámetro auxiliar que puede ser verificado en los controles es el Índice de Criticidad: IC = número de actividades críticas / número total de actividad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C &lt; 10% control flojo (30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10% &lt; Ic &lt;30%, control normal (15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30% &lt; Ic, control rígido (7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emás de medir las cantidades de avance físico, de recursos físicos y económicos consumidos, los controles sirven para balancear los recursos, liberaciones, para proyectar las estimativas y dar soporte a las rev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ajas de la planificación integrada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Ventajas que supone la planificación integrada. Veam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vide el trabajo en actividades induciendo a la verificación de que tal división sea completa y que las actividades estén vinculadas entre si en secuencia lógica. Todos los responsables se familiarizan con el objetivo del proyecto de ingeniería. </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one en evidencia las interferencias entre actividade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efine responsabilidades de personas o sectores para atender los diferentes requisitos y plaz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Evita mayores atrasos al detectar desvíos de lo previsto a través de los controles, permitiendo de este modo ejecutar pequeñas correcciones tempran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371520"/>
            <a:ext cx="87631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el control por excepción al concentrar la atención de la gerencia del proyecto en un número reducido de actividades (camino crítico). Normalmente no más del 10% del total de las actividades de un proyecto de ingeniería son críticas. Acelerar las otras es antieconómic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acionaliza los recursos de acuerdo con la disponibilidad de los mism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umenta el número de informaciones disponibles para la toma de decision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la comunicación entre las partes vinculadas al proyec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un modo general, aumenta la eficiencia, la eficacia y la rentabilidad del proyecto pues las soluciones adoptadas han sido analizadas por un equipo polisectorial, por evitar trabajos repetidos y por la minimización de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or otro lado exige familiaridad de los participantes con la metodología. Aún en los casos de que el usuario no tenga profundos conocimientos de las metodologías de planificación, el simple hecho de detallar una lista de actividades y la elaboración de una red elemental a los efectos de definir algunas fechas o "marcos" parciales, ya es suficiente para aportar innumerables beneficios por la comprensión del proyecto que adquiere la empresa a través de estos análisi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 las herramientas modernas, podemos administrar proyectos de ingeniería como si observáramos una maqueta en escala, hacer simulaciones mudando la programación de algunas actividades o recursos y observar los reflejos en los aspectos económicos, financieros y en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stratégica integral de un plan de ingeniería proporciona la garantía de agregar el mayor valor posible a las inversiones, maximizando su rent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de val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conveniente que sea ejecutado desde la concepción del proyecto cuando se fijan los principales objetivos y su viabilidad, y continuado durante todas las fases siguientes. Consiste en evaluar el máximo de alternativas a cada solución a ser adoptada y su relación costo / beneficio, inclusive considerando el costo operacional de cada una de ellas. Junto con el Cronograma del proyecto, el Análisis de Valor originará el Cronograma Financier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ific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uánto" y "cómo" debe ser hecho, determinar el camino a seguir y los métodos de ejecución en un proyecto es pensar para no equivocarse y tener que corregir después, es hacer bien en la primera vez dimensionando en calidad y cantidad los recursos necesarios a la ejecución de la tarea, incluyendo la división, duración y concatenación de las diferentes etap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gram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se refiere al "cuándo" debe ser hecho aquello que fue planificado. Se trata de racionalizar los recursos disponibles dentro del compromiso de calidad, plazo y cos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rol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ómo" y "cuándo" está realmente terminado. Esta fase es para evitar que las diversas actividades se desvíen de la calidad, cantidad, costo y plazo previstos, inclusive que el flujo de pagos se mantenga dentro del cronograma financier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esta fase sirve para atender las necesidades del usuario a un costo mínimo y dentro de los plazos previstos. Exige normalización explícita, confiabilidad, estandarización de soluciones y</a:t>
            </a:r>
            <a:r>
              <a:rPr b="0" lang="en-US" sz="3200" spc="-1" strike="noStrike">
                <a:solidFill>
                  <a:srgbClr val="000000"/>
                </a:solidFill>
                <a:latin typeface="Times New Roman"/>
              </a:rPr>
              <a:t> </a:t>
            </a:r>
            <a:r>
              <a:rPr b="0" lang="es-CL" sz="3200" spc="-1" strike="noStrike">
                <a:solidFill>
                  <a:srgbClr val="000000"/>
                </a:solidFill>
                <a:latin typeface="Arial Unicode MS"/>
                <a:ea typeface="Arial Unicode MS"/>
              </a:rPr>
              <a:t>repet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Características de los proyectos de ingeniería </a:t>
            </a:r>
            <a:br>
              <a:rPr sz="4400"/>
            </a:b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838080" y="1447560"/>
            <a:ext cx="701064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os proyectos de ingeniería no son actividades de rutina y, sus parámetros de definición y control (objeto de proyecto; presupuesto; programación, etc) exigen la participación de las más diversas áreas de la organización e institucionales para minimizar los riesgos que los proyectos envuelven (financieros, económicos, imagen de la empresa, expansiones / adecuaciones futuras, impacto ambiental, entre otros). De modo que, en la toma de decisiones son consideradas las opiniones de sectores tan diversos como: Marketing, Ingeniería del producto, Ingeniería de procesos, Operación y Mantenimiento. Un plan concebido y aprobado por todas las partes implicadas tiene más posibilidades de alcanzar el éxi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2120" y="914400"/>
            <a:ext cx="73911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Puede realizar programas estratégicos de largo plazo, ser un monoproyecto de duración generalmente menor de 3 años o subproyectos caracterizados por esfuerzos menores a corto pla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Su ciclo de vida se compone de varias fases características no siempre bien diferenciadas, pero que deben ser analizadas individualmente para prever las necesidades básicas de cada una (organización, personal en cantidad y calificación, instalaciones, sistema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Estas fases son las siguiente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 Concepció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Viabilizació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Implantació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per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28:13Z</dcterms:created>
  <dc:creator>oRIOL tUCAS</dc:creator>
  <dc:description/>
  <dc:language>en-US</dc:language>
  <cp:lastModifiedBy>oriol</cp:lastModifiedBy>
  <dcterms:modified xsi:type="dcterms:W3CDTF">2003-08-18T16:03:29Z</dcterms:modified>
  <cp:revision>7</cp:revision>
  <dc:subject/>
  <dc:title>PROYECTO</dc:title>
</cp:coreProperties>
</file>