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0D6-8E14-4392-BF8C-27BBE99D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4E8-692B-41E2-8FC0-72BD208F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74C-F16A-433D-AA02-7068F3AD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E74-1FB6-472B-A55F-7263BB2C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C137-C313-44ED-A99D-F5737F70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D57F-AF6B-4B47-9A46-9948DCED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BE28-60F7-419C-992F-8C054CE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435D-C390-4A26-80A7-8A6DFAC0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0A0B-348B-4B6E-B5A3-AE21F9BF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9857-EA84-4D03-9406-4FF069DD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43E6-DD80-4243-870D-67DC7EEA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CB5-F624-4D32-A604-71B8B47C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FABC-6DFA-4B0A-B879-55D9B71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94C2-B50D-49E6-8DB6-C3544235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DC4E-B348-4BF0-81BD-07133C0D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5A66-82B2-4D49-9B5C-713958A9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9F7D-4FE1-4C52-8FA5-C9866BE1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09D-8AF9-467D-827E-2C39BDF6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D11-4FA4-408D-9AAF-01506EB8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893-2A62-47BB-97B5-88AF34DC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493-78EB-4436-B43C-4FA9F525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245-275C-4889-B8F0-170411F7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896-B46E-48B8-8B9C-4732AE00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624-8E86-4313-8699-9E7A0210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FEB0-DDDD-4043-984E-564FFBD754F2}" type="datetime">
              <a:rPr b="0" lang="en-US" sz="1400" spc="-1" strike="noStrike">
                <a:solidFill>
                  <a:srgbClr val="009999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6F72-79C9-4304-9EE2-3DECF57C0C3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6CC9-07AA-4087-BC4C-19ED71C8167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CDD5-0964-4E92-B4BB-A2E409DE6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M 736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RISTIAN HERMANSEN R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PARTAMENTO DE INGENIERIA ELECTR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590724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90724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626C-0873-4D4D-95A7-D1C0520556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Obtenida del calor natural de la Tierr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Bien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 entrega en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eléctrica obtenida de geotermia se regula por DFL Nº 1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ración ( determinar la potencialidad del recurso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tación ( extracción y producción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4120" y="5715000"/>
          <a:ext cx="28191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191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C08-29F9-44A8-BDF5-67E8EFEE6A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TENIDO DECRETOS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RECHOS 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ón exclusiv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ransferible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BLIGACIONES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Pago patente: 1/10 UTM / Ha.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Informes anual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RACION: Plazo 2 años con prórroga por 2 año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TAC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TINCION DE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ASTIGA SUSTRACCION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410080" y="6172200"/>
          <a:ext cx="26672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6172200"/>
                    <a:ext cx="2667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4D3-E944-43C4-BE54-9F4F1D7680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REGLAMENTO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MITÉ DE ANALISIS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Funcion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Composi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ROCEDIMIENTO PARA OTORGAR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Solicitud de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Licitaciones pública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Derecho exclusivo Artículo 14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FORMA Y CABIDA DE LAS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TRANSFERENCIA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TASTRO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638680" y="5638680"/>
          <a:ext cx="31244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638680"/>
                    <a:ext cx="312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C98-B31A-4D3A-B32C-9343B34F2D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914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NERGIA GEOTERM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TIPOS DE CAMPOS GEOTERMIC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alta temperatura: 150-40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temperatura media: 70-15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baja temperatura media: 20-6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US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Calefacción y agua caliente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lectricidad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xtracción de minerales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Agricultura y acuicultura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86400" y="548640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7C0-0C5D-4081-A794-11C18C0405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GENERACION GEOTERMIC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579-5BF0-4735-9162-B1B2A6B0C8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 INSTALAD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UROP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1.18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F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128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ME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387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S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22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CEAN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441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OTAL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8.356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638680" y="5410080"/>
          <a:ext cx="3276720" cy="7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410080"/>
                    <a:ext cx="32767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764-CD91-4222-A65E-7F16968E7A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L GEOTERMICO EN CHILE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645" b="524"/>
          <a:stretch/>
        </p:blipFill>
        <p:spPr>
          <a:xfrm>
            <a:off x="1079640" y="31680"/>
            <a:ext cx="5546520" cy="683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5867280" y="5486400"/>
          <a:ext cx="3276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0EF-C9D7-4C04-9323-0C5FE9EDA9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chuldiza 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5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RF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Apache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33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El Tatio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.2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Tat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a Tor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9.1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. San José R.M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4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labozo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5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2.9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4120" y="5715000"/>
          <a:ext cx="2895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95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A6E-A9D2-49D3-8CB9-E4398763E4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19512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. Del Maule   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60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1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28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2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12.6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rrán - Venados X 12.6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hillán        VI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4.2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CFG Chile S.A.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48640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A87-623C-41BD-94A7-2D2A7C54CB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GISL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LEY Nº 19.657      (AÑO 2000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Ley sobre Concesiones de 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CRETO Nº 32   (AÑO 2004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glamento para la aplicación de la Ley Nº19.657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008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73B-33A5-4D47-909A-FDF5CCC479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br>
              <a:rPr sz="2600"/>
            </a:b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REGUL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ones para exploración y explota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rvidumbr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diciones de seguridad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laciones entre las partes ( concesionarios,Estado, dueños terrenos, pertenencias mineras, contratos de operación petroleros, exploración y explotación hidrocarburos, derechos aprovechamiento de aguas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unciones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No se aplica a aguas termales (Rige DFL 237 de 1931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4120" y="5867280"/>
          <a:ext cx="289548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867280"/>
                    <a:ext cx="28954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8F1-E6DC-4AF8-9986-839EEC74D4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5:00:02Z</dcterms:created>
  <dc:creator>CRISTIAN HERMANSEN R.</dc:creator>
  <dc:description/>
  <dc:language>en-US</dc:language>
  <cp:lastModifiedBy>Cristian Hermansen</cp:lastModifiedBy>
  <cp:lastPrinted>2005-11-22T20:27:01Z</cp:lastPrinted>
  <dcterms:modified xsi:type="dcterms:W3CDTF">2006-08-22T00:17:03Z</dcterms:modified>
  <cp:revision>63</cp:revision>
  <dc:subject/>
  <dc:title>Sin título de diapositiva</dc:title>
</cp:coreProperties>
</file>