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D2B-C25B-4AAF-9151-E923D3B5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D98-121B-4588-BF17-CD36D12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AB0-EE27-4035-BFFC-D58B164C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F35-BEEF-4847-B849-41594A1C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C96-E6B5-4024-B5B4-9BA5707D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728-C5E2-4585-AF22-848E7B84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495-4717-4384-8AD1-1CF41949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2C3-106A-4341-801B-AF5EC182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AB4-2D25-4C13-BFA4-863D65F3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54F-820C-481E-9FFE-F657886B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2F5-D24B-43AF-99DD-44B7D77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272-B8A1-4675-8DAD-E8054AB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9269-6D89-4BE9-8AF4-41B583C94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II. 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SRGIS</cp:lastModifiedBy>
  <dcterms:modified xsi:type="dcterms:W3CDTF">2006-08-28T20:52:10Z</dcterms:modified>
  <cp:revision>7</cp:revision>
  <dc:subject/>
  <dc:title>Diapositiva 1</dc:title>
</cp:coreProperties>
</file>