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A58-15DC-446D-88F3-7E31988E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AF1-A8C6-4DC2-87C8-BA9B41DE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720-7A81-43ED-9C5B-5E347DED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B2B-E185-4C29-A9EE-82C1A5EE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DC0-A81E-4932-B872-8F2389F7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F44-D446-4F32-8649-4A2F6AC2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580B-F751-4F8F-8E7B-CA0A25A3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EB9-E505-47A0-A4F0-43ACC263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40E-29E2-4681-879E-B2C3E444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C2F-5282-4F08-B20B-E51AD487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ED3-59B8-4A4C-9089-0BA9AFA0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5FB-9AC5-48FF-A392-11EFEE0A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2D29-D49F-405D-8989-BE4F1D8C0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003400"/>
            <a:ext cx="59054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HILE COMP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ulio d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200" y="11592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LABRA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28916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condiciones para un crecimiento sostenido son prop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crecimiento es tarea de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gobierno hace su aporte, perfeccionando las políticas publ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una economía de mercado, la inversión y las ganancias de productividad provienen del sector 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sí, Chile comp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63840" y="485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2519280"/>
            <a:ext cx="5905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HILE COMP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ulio d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40720" y="11448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tección ante las Turbul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108000" y="1159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55640" y="1557360"/>
          <a:ext cx="7561440" cy="488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557360"/>
                    <a:ext cx="756144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9640" y="98100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preads Soberanos - EMBI 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1634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olidez Fiscal y Macro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957320"/>
            <a:ext cx="77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ego Estricto a Regla de Superávit E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uda Pública 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ejo Prudente de los Activos Públic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yecto de Responsabilidad Fi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15280" y="1989000"/>
            <a:ext cx="36036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306864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179280" y="18900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1159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olidez Fiscal y Macro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108000" y="1159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86364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alance del Gobierno 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% del PI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547640"/>
          <a:ext cx="8569080" cy="4545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547640"/>
                    <a:ext cx="8569080" cy="45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1159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olidez Fiscal y Macro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108000" y="1159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558800"/>
          <a:ext cx="8642520" cy="4678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558800"/>
                    <a:ext cx="86425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4920" y="1030320"/>
            <a:ext cx="8610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uda Bruta Consolid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Gobierno Central y Banco Cent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% del PI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1159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ormación Bruta de Capital Fijo (% PI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159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529596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p): Proyección Banco Central de Chile IPoM Mayo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4600" y="987480"/>
          <a:ext cx="860580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00" y="987480"/>
                    <a:ext cx="860580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46840" y="16344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mpuesto de Timbres y Estamp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07280" y="18900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98100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roducción Exención Pago Impuesto Ty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programación Créditos Hipotecarios - Diciembr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2040" y="1677960"/>
          <a:ext cx="793908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040" y="1677960"/>
                    <a:ext cx="793908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71640" y="6364440"/>
            <a:ext cx="74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uente: Estimación Preliminar Asociación de Bancos e Instituciones Financieras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45760" y="1634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mplificación Tribu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 flipH="1">
            <a:off x="107280" y="18900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7650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mparación Costos Pequeño Contribuyente Típ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000" y="4073400"/>
            <a:ext cx="860400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 el sistema actual los contribuyentes deben pagar por contadores y además deben absorber el costo de oportunidad de prestarle al Estado (Pago de PPM que posteriormente se les devuelve íntegramente en la operación renta del año siguient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l sistema propuesto los costos para los contribuyentes disminuyen radicalmente al reducirse los PPM y al eliminarse la obligación de llevar contabilidad comple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878544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4920" y="1998720"/>
          <a:ext cx="8893080" cy="344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1998720"/>
                    <a:ext cx="8893080" cy="34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568520" y="1125360"/>
            <a:ext cx="594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ción del gasto en I+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Empresas - Resto) como % del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8160" y="5464080"/>
            <a:ext cx="48006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uente: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ECD MSTI (2004), RICYT (2003) y CONICYT (20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sto: Estado, Enseñanza Superior, IPSFL y Extranje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mpresas: Privadas y estat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5920"/>
            <a:ext cx="669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sición de Chile en Inno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 flipH="1">
            <a:off x="107280" y="18900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8000" y="11592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MPORTANCIA CENTRAL D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907920"/>
            <a:ext cx="842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legar a ser un país desarrollado, Chile debe crec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crecimiento económico sostenido no se produce de modo automático: requiere esfuerzo continuo tanto del sector público como del priv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nueva economía global, el mayor crecimiento sólo se logra con más productividad, inversión y compet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crecer hay que ser competitivos, con más emprendimientos, mayor innovación, un mercado de capitales profundo y una institucionalidad mode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Plan Chile Compite tiene por objetivo estimular la competitividad de nuestra economía. Anunciamos nuevas políticas, materializamos compromisos y priorizamos iniciativas en cu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sponsabilidad Fi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3289320"/>
            <a:ext cx="1743120" cy="12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perávit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0480" y="2036880"/>
            <a:ext cx="2173320" cy="10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ondo de reserva de p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,2 % PIB obliga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,5% PIB máxi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27480" y="3524400"/>
            <a:ext cx="2197080" cy="95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apitalización Banco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0,5% PIB por 5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4581360"/>
            <a:ext cx="18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94360" y="4981680"/>
            <a:ext cx="2319120" cy="10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ondo de Estabilización Económica y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uperávit por sobre 1% P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314172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2060640"/>
            <a:ext cx="503280" cy="3816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07280" y="189000"/>
            <a:ext cx="360360" cy="431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1159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QUISITOS PARA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957320"/>
            <a:ext cx="777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bilidad Política: Institucionalidad Democr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tección ante las Turbul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idez Fiscal y Macro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91280" y="306864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91280" y="41497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1159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ONENTES D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1957320"/>
            <a:ext cx="460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et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14972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1700280"/>
            <a:ext cx="6858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mp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cnología y Compet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stitucionalidad para el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115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ILARES PLAN CHILE COMP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11592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MPREND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7984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Facilidades para el Cumplimiento Tribu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Dictaremos la resolución que facilita el pago de deudas tributarias, facultando a Tesorería a reducir hasta en un 80% las multas e intereses a quienes salden sus compromi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989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Perfeccionamiento y Reducción del Impuesto de Timbres y Estamp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osto 2006: Ingresaremos proyecto que exime de este impuesto a  reprogramaciones y reduce gradualmente la tasa hasta un 1,2% para las nuevas oper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2200" y="323388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Fortalecimiento Fondo de Garantía para Pequeños Empresarios (FOGA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Ingresaremos proyecto que perfecciona su operación y aumenta su patrimonio, permitiendo un incremento de 46% en las oper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221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 Simplificación Tributaria para Micro y Pequeños Contribuy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Calificaremos con Urgencia Simple esta iniciativa, que reduce los costos asociados al cumplimiento tributario para este se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229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Reconocimiento Expedito del Financiamiento Obras Viales de Us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osto 2006: SII dictará norma que permitirá de manera expedita el reconocimiento como gasto para el impuesto a la renta los aportes efectuados por empresas para financiar infraestructura vial de benefici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20416 L 2.5E-006 0.05734 E">
                                      <p:cBhvr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4763 L 2.5E-006 3.69942E-006 E">
                                      <p:cBhvr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00578E-006 L 0 -0.08671 E">
                                      <p:cBhvr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622 L 2.5E-006 1.84971E-006 E">
                                      <p:cBhvr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32948E-006 L -1.11111E-006 -0.33549 E">
                                      <p:cBhvr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33549 L 0 -0.00255 E">
                                      <p:cBhvr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32948E-006 L -1.11111E-006 -0.33549 E">
                                      <p:cBhvr>
                                        <p:cTn id="152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1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33156 L 0.00018 0.00138 E">
                                      <p:cBhvr>
                                        <p:cTn id="16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8000" y="1159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ECNOLOGIA Y COMPETI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Incentivo a la adopción de nuevas tecn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osto 2006: Enviaremos al Congreso el proyecto de ley que uniforma en 15% el impuesto a importación de software, patentes y asesorías tecnológ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5257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Subsidio a inversión privada en I+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ptiembre 2006: Enviaremos al Congreso el proyecto de ley que subsidia en 35% la inversión en I+D realizada por empresas en conjunto con universidades y centros de investigación acredit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8815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Institucionalidad para la Innov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Calificaremos con Urgencia Simple el proyecto de ley que crea el Fondo y el Consejo Nacional de Innov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7308720" y="189000"/>
            <a:ext cx="4320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1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7052 L 2.5E-006 3.58382E-006 E">
                                      <p:cBhvr>
                                        <p:cTn id="203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48555E-006 L 2.5E-006 -0.17434 E">
                                      <p:cBhvr>
                                        <p:cTn id="224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7734 L 2.5E-006 0.00393 E">
                                      <p:cBhvr>
                                        <p:cTn id="23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8000" y="11592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Reformas al Mercado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osto 2006: Reactivaremos el trámite legislativo del proyecto MKII, centrado en tres áreas: financiamiento de nuevos proyectos, seguridad en el mercado de valores y desarrollo del mercado de capi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133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Internacionalización del 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 Semestre 2006: Implementaremos normas que permiten a extranjeros emitir bonos en pesos en Chile, con el objetivo de desarrollar un mercado internacional para instrumentos financieros en pe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34624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Integración 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 Semestre 2006: Impulsaremos iniciativas que profundizan mercado de derivados y que permiten a extranjeros transar sus valores en Ch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7721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 Comité de Mercado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 Semestre 2006: Renovaremos el trabajo de la instancia integrada por SVS-SBIF-SAFP-Banco Central y Hacienda, para diseñar políticas de desarrollo de mercados financieros y llevar a cabo consultas con el sector privado sobre estas mater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7052 L 2.5E-006 0.02497 E">
                                      <p:cBhvr>
                                        <p:cTn id="276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2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5434E-006 L 2.5E-006 0.00347 E">
                                      <p:cBhvr>
                                        <p:cTn id="284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2948E-006 L 2.5E-006 -0.22127 E">
                                      <p:cBhvr>
                                        <p:cTn id="304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7734 L 2.5E-006 0.00393 E">
                                      <p:cBhvr>
                                        <p:cTn id="312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0393 L 2.5E-006 -0.26289 E">
                                      <p:cBhvr>
                                        <p:cTn id="332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7734 L 2.5E-006 0.00393 E">
                                      <p:cBhvr>
                                        <p:cTn id="340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920" y="11592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STITUCIONALIDAD PARA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125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Responsabilidad Fis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gundo Semestre 2006: Luego de la aprobación del proyecto de ley de Responsabilidad Fiscal, pondremos en marcha los nuevos Fondos de Estabilización Económica y Social  y de Reserva de Pen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701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Libre 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lio 2006: Calificaremos con Urgencia Simple el proyecto de ley que fortalece  el Tribunal de Defensa de la Libre Competencia y la Fiscalía Nacional Econó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292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Tribunales Tribu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ptiembre 2006: Reactivaremos el trámite legislativo del proyecto de ley que crea Tribunales Tributarios, con indicaciones que garanticen tanto la defensa de los derechos de los consumidores como la recaudación fis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7052 L 2.5E-006 0.02497 E">
                                      <p:cBhvr>
                                        <p:cTn id="378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3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3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4971E-006 L 2.5E-006 -0.24786 E">
                                      <p:cBhvr>
                                        <p:cTn id="399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4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">
                                      <p:cBhvr additive="repl">
                                        <p:cTn id="4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7734 L 2.5E-006 0.00393 E">
                                      <p:cBhvr>
                                        <p:cTn id="407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6:16:29Z</dcterms:created>
  <dc:creator>Diseno21</dc:creator>
  <dc:description/>
  <dc:language>en-US</dc:language>
  <cp:lastModifiedBy>user</cp:lastModifiedBy>
  <dcterms:modified xsi:type="dcterms:W3CDTF">2006-07-19T23:52:23Z</dcterms:modified>
  <cp:revision>40</cp:revision>
  <dc:subject/>
  <dc:title>PowerPoint Presentation</dc:title>
</cp:coreProperties>
</file>