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729-D401-4FFD-8952-809F8B81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BE6-5596-40F0-BEF1-84D9229C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07D-F1F2-49AC-8B1C-0BC0EEFB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4B8-F05F-40B8-B5A7-93FD9DBD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6BE5-95AC-4CE6-9DFF-EF14F4B1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03CA-C4D1-4153-AC59-AB12E4B3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B639-9ACD-4C3D-8C0D-8982500F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FC65-CABA-4BE0-BE9D-9897BDEB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CAB4-CBE4-409A-91A2-9D838B27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7F01-D78B-4DD4-A44D-DAA8DA6A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19D2-F7F7-4C6A-ABA9-152BF505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D95-3069-4FE4-BE5B-2B00D267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8C35-BE0A-4A07-A16B-39156873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C1E6-CB00-45EC-B9A6-A4881713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7628-C08B-480D-A3DA-02A47968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C3DD-5F1C-46A1-B828-4387A5DF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0186-F946-4A91-BFA0-3C02EAE4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5946-38B8-4681-A225-937CB3E4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70F-B3FE-4511-B4D0-554BD18B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E2A-2600-43E0-8064-A41D1A7A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BE4-BC07-4490-9BD2-020FB4E0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245-7D4A-404C-9884-A44E8088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10A-2C0F-4881-B17C-53E46DE7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FF2-0F46-4675-8EB6-EA3B2FD9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B9DA-5E4E-4711-A2B5-7BDA604C379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82A1-8BAB-4F4D-B2B1-FBBE0A37850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Arial"/>
              </a:rPr>
              <a:t>Simulación</a:t>
            </a: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42A - Evaluac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6381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mestre Primaver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638172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627280" y="1341360"/>
          <a:ext cx="37400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341360"/>
                    <a:ext cx="37400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050920" y="5877000"/>
            <a:ext cx="187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355640" y="2276280"/>
            <a:ext cx="309564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4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4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Objetivo (Color Cele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.despues de algunos segundos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Resultado de simulació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49440" y="1052640"/>
          <a:ext cx="423864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052640"/>
                    <a:ext cx="4238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V="1">
            <a:off x="1763640" y="393336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63640" y="2349360"/>
            <a:ext cx="129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276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de Control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149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a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48000" y="1989000"/>
            <a:ext cx="417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70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nsuciándose las manos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amos un ejemplo en Excel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jemplo: Planta de Empresa Min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minera tiene un proyecto donde requiere invertir en la construcción de una pla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lanta y sus instalaciones asociadas requieren una inversión total de US$10 mill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fijo anual de US$ 1 mil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10.000 toneladas por año de cátodos de cobre 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variable de producción estimado en US$0,70 por libra de cobre fino produ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medio esperado de largo plazo del cobre es de US$0,90 por li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descuento es de 1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impuesto a las utilidades es de 1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eríodo de depreci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rizonte de evalu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residual de los activos al final del proyecto es 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AP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rtafolio Mínim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apalancar b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lculo de W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mulación Estática (o de Montecar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n las distribuciones estadísticas de cada variable incierta y sus correla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cada valor de la variable se calcula un valor para el flujo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genera una distribución de valores presentes, en donde el valor del proyecto es la media, y el riesgo está dado por la dispersión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generamos las distribu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ystalball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www.crystalbal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Software de 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1268280"/>
          <a:ext cx="5832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832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variables aleatori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1125360"/>
          <a:ext cx="42386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25360"/>
                    <a:ext cx="423864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>
            <a:off x="1403280" y="213336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9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79640" y="5445000"/>
            <a:ext cx="172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9500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 defi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8000" y="1557360"/>
          <a:ext cx="597564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59756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V="1">
            <a:off x="1692360" y="3141720"/>
            <a:ext cx="237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3657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Parámetros de la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67040" y="1989000"/>
          <a:ext cx="520992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989000"/>
                    <a:ext cx="52099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1258920" y="2708280"/>
            <a:ext cx="1873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941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16360" y="3933720"/>
            <a:ext cx="2664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940360" y="5516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14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1197000"/>
          <a:ext cx="436392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97000"/>
                    <a:ext cx="43639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7280" y="5661000"/>
            <a:ext cx="280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140360" y="4221000"/>
            <a:ext cx="3240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58920" y="2205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2936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leatoria (color ver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de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Nombre de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57360" y="3165480"/>
          <a:ext cx="42292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3165480"/>
                    <a:ext cx="42292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V="1">
            <a:off x="1835280" y="3644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8690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la celda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03:33:16Z</dcterms:created>
  <dc:creator>Sob</dc:creator>
  <dc:description/>
  <dc:language>en-US</dc:language>
  <cp:lastModifiedBy>Paola Nahum</cp:lastModifiedBy>
  <dcterms:modified xsi:type="dcterms:W3CDTF">2006-10-27T03:42:48Z</dcterms:modified>
  <cp:revision>9</cp:revision>
  <dc:subject/>
  <dc:title>Simulación </dc:title>
</cp:coreProperties>
</file>