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E1336-958E-495B-8BE9-D1876CDE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56C03-C2C2-430E-9501-4950DD9D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9BE87-E789-4D9B-8305-EA2C1B42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03228-5EE4-43EC-B431-439064E3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BD554-2212-4255-88A8-1F317617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3AA13-7EAF-42BF-8E72-A7D1DB12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EC516-9D85-405A-9119-11A2CDF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B0B71-6499-493E-A0F5-D6254E82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62C7D-5FEA-456C-89F5-07464779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63EBD-B5A4-4694-A78A-BB85B66F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FFE5A-07D6-40DF-A0B7-4500DC9E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989DC-3EA6-4949-A663-3F38086F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8E0-6E67-4D3D-AF0A-7E6C148F18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Hacia Una Arquitectura Genérica de 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 Sínt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ACTIVIDADES EJECUTANTES :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el  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fin último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el proces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ACTIVIDADES DE GESTIÓN :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un medio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para conseguir el mejor funcionamiento del fi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izando 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poder gestionar se debe conocer el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ad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de las actividades ejecuta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iste así un tercer grupo de actividades destinadas a registrar e informar sobre el estado de las actividades ejecutantes (o de transformació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más tradicional es la cont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os circulantes en ban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entas por cobrar, pérdidas, util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sivos circulantes, cuentas por paga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izando 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e estado (contabilidad) alimenta una serie de decisiones o acciones de gestión que actúan sobre el manejo monetario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ar cobran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dir un préstam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gar a un proveedo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eral de un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demos resumir las actividades de transformación, de gestión y de estado en un modelo gráfico (utilizando IDEF0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amos el esquema gráfico de la arquite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o olvida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arquitectura genérica la podemos utilizar para diseñar instancias que representan situaciones de procesos específ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ahí la utilidad del patr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lquier instancia debe respetar la “filosofía” del modelo que indica cómo derivarl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petar también la estructura de componentes y relaci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 de Procesos de Negoci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Buscamos una teoría que identifique los componentes fundamentales de cualquier proceso y sus relaciones genéric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Buscamos una arquitectura básica a partir de la cual “instanciar” procesos específic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elemento fundamental de cualquier proceso es el producto o servicio que genera para un cliente interno o exter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 manufacturado entregado a un cliente extern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financiero provisto por un ban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de vuelo provisto por una línea aére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de selección de personal realizado internamente en un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totipo de un nuevo producto solicitado por gerencia de desarroll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paña de marketing solicitada por gerencia de marke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el término arquitectura denotamos “la existencia de una estructura de componentes”, que incluy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s de compon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laciones genéricas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unción de las compon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RQUITECTURA (Barros) : “Espacio de posibilidades que permite la derivación de diseños particulares, a partir de su estructura y filosofía, siguiendo reglas bien definidas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e propone una estructura normativa : los componentes, relaciones y funciones que se definirán en el patrón, son los que debería tener cualquier proceso (del tipo) para cumplir con su propósi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 la arquitectura genérica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Las actividades que participan en el proceso de generación de un producto o servicio se pueden diferenciar en dos cla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a que contiene las actividades que están claramente asociadas a la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transformació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ciertos insumos en el producto o servicio fi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tra que incluye las actividades que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dirige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o regulan la transfor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 : En la manufactura se toman las materias primas que por un proceso de transformación genera productos semiterminados y-o termin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s actividades en el proceso de transformación s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Verdana"/>
              </a:rPr>
              <a:t>dirige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por otras, llamadas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ACTIVIDADES DE GESTIÓ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s determinan cuándo comprar materias primas, qué producir con ellas, cuánto producir, cuándo despachar, cómo despacha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diferencia se hace ent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ejecuta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de toma de decisi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EJECUTANTES: Manejan recursos económicos (materiales, dinero, personal, bienes de capital) para producir un bien o servi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DE TOMA DE DECISIONES (DE GESTIÓN): Dirigen, regulan, ingresando, procesando, generando infor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n actividades de servicios también es posible observar esta diferenciación entre actividades ejecutantes y de toma de decisio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jemplo: Un servicio de atención en un hospital “transforma” un paciente enfermo en , idealmente, uno sano, gracias a varios recursos o insumos, tales como medicinas, médicos, pabellones, arsenalería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quí, las actividades de toma de decisiones son : establecer los tratamientos más adecuados de acuerdo a un diagnóstico, asignar recursos disponibles para los tratamient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10-02T20:40:03Z</dcterms:modified>
  <cp:revision>48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