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7B3B5-3829-43F6-8AA6-C0B141A45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243AF-4C8F-4F4D-914B-1CA4474C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BB546-80A4-45C9-BC2A-5E757E29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7CA2F-C35A-4C7F-8B08-8694BCC9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CDEFFE-00A1-4B2D-859F-60514211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481075-3C91-4DF0-AC0A-8DC1644E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6C52C-11FF-430D-8B4A-A30B1C9C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E67ED-2E52-4965-855A-00DB0B5B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478E3-1792-464C-80AB-BE19F122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EE9B3-E658-4A24-A607-A6033C7A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D73BC-4E1C-4400-9EF2-2A773FB9E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3F74A-1C4E-4B6E-A420-1F3AFF7B8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71J, Diseño de Modelos y Procesos de Negocios con TI                                     Primavera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7596360" y="189000"/>
          <a:ext cx="1368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189000"/>
                    <a:ext cx="13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B7E1-3D6B-44E9-8932-6FDC082C9AE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780000" y="5589720"/>
          <a:ext cx="1368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5589720"/>
                    <a:ext cx="13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Técnica de Modelamiento IDEF0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4000" y="2707920"/>
            <a:ext cx="70102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fesor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Ángel Jiménez Moli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gíster en Ingeniería de Negocios con TI (MB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71J – Diseño de Procesos de Gest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Técnicas de Modelami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Herramientas gráficas que permiten describir (diagramar y documentar): funciones, operaciones, toma de decisiones, etc., que se realizan en el proces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xiste un gran número de dichas herramientas, algunos so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Modelo de Análisis Estructurado (SADT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Modelo de Ciclos de Trabaj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Modelo de Regulació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UML Activity Diagra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UML EDOC Business Process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ebXML BPS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Activity-Decision Flow (ADF) Diagra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RosettaNe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LOVeM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Event-Process Chains (EPCs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cc0000"/>
                </a:solidFill>
                <a:latin typeface="Verdana"/>
              </a:rPr>
              <a:t>Modelo de Análisis de Actividades (IDEFx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cc0000"/>
                </a:solidFill>
                <a:latin typeface="Verdana"/>
              </a:rPr>
              <a:t>Modelo BPM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Modelamiento Estáti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scogemos representación gráfica basada en la identificación de las actividades y los flujos que las liga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Concretamente adoptamos la técnica de modelamiento IDEF0, correspondiente al estándar FIPS Publication 183 del National Institute of Standard and Technology de EE.UU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Modelo IDEFx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os procesos existen para producir salidas de valor agregad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xisten funciones inter relacionadas por entradas, controles y transformacion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DEF0, captura las actividades y sus relaciones, identifica las actividades importantes y aquellas para el rediseñ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DEF1/1X, captura como los datos e información son usados para apoyar el proceso de negoc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DEF3, describe el proceso de negocio, y aquellos para su mejoramiento y simul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4920" y="1699920"/>
            <a:ext cx="8496360" cy="460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étodos de Integración y DEFini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dquisición de conocimiento, análisis y herramientas de diseñ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enguaje que incluye aspectos gráficos (diagramas) y text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cedimientos formales para construir modelos o descripciones de aspectos de una organiz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Qué es el Método IDEF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¿Por qué Usar IDEF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353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 familia de los métodos IDEF fue co-desarrollada por la industria y el gobierno (EE. UU.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u propósito es proveer una estructura comprensiva y flexible para describir, analizar y evaluar prácticas de negoci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No hay propiedad sobre el método y soportado por estándares internacion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32464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spcBef>
                <a:spcPts val="1137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ara identificar, documentar y comunicar las actividades principales de un empresa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1137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ómo las actividades se interrelacionan con otra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1137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ara identificar las actividades que aportan y no aportan valor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1137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ara identificar actividades que necesitan ser mejorad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¿Por qué Desarrollar un Modelo de Actividades en IDEF0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Una Caja de Actividades de IDEF0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68320" y="1752480"/>
            <a:ext cx="73976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3002040" cy="41767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structura de Descomposi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40360" y="1752480"/>
            <a:ext cx="4427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de un nivel de contexto (extern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composición nivel por nivel, manteniendo consistenc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so de herramientas CASE (BPWI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1T19:10:11Z</dcterms:created>
  <dc:creator>Samuel</dc:creator>
  <dc:description/>
  <dc:language>en-US</dc:language>
  <cp:lastModifiedBy>DIPE</cp:lastModifiedBy>
  <dcterms:modified xsi:type="dcterms:W3CDTF">2005-10-02T20:38:01Z</dcterms:modified>
  <cp:revision>48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1608271</vt:r8>
  </property>
  <property fmtid="{D5CDD505-2E9C-101B-9397-08002B2CF9AE}" pid="3" name="_AuthorEmail">
    <vt:lpwstr>samuel.varas@uai.cl</vt:lpwstr>
  </property>
  <property fmtid="{D5CDD505-2E9C-101B-9397-08002B2CF9AE}" pid="4" name="_AuthorEmailDisplayName">
    <vt:lpwstr>Samuel Varas</vt:lpwstr>
  </property>
  <property fmtid="{D5CDD505-2E9C-101B-9397-08002B2CF9AE}" pid="5" name="_EmailSubject">
    <vt:lpwstr>Clase 3</vt:lpwstr>
  </property>
  <property fmtid="{D5CDD505-2E9C-101B-9397-08002B2CF9AE}" pid="6" name="_ReviewingToolsShownOnce">
    <vt:lpwstr/>
  </property>
</Properties>
</file>