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33B1B-E856-4FE5-8BD8-E2200BD0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3CF01-4DB7-44A7-A89A-DFB814CE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2DA6C-5ABA-43A1-A364-00175208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1BE6E-2381-4E61-B6AE-7820A2B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7C99D-059D-4D0A-886C-05EB73B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0D5D6-33BB-43EE-8F51-93C1B027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39185-0817-456D-A17B-1005C3A7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68839-8B7A-4900-8AB1-3FA46AF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5D310-5D0A-4CF3-AB34-7031937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A247-2DB2-4B58-BC32-E97B8378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7B8FA-9A44-48B3-ADC7-3E051035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60317-AD26-4628-BC2C-7EC97103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48F0-7F6B-4CAC-B2BC-676E0D4223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iseño de 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a Estructura General de Macroprocesos de la Empre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89000"/>
            <a:ext cx="8498880" cy="6360480"/>
            <a:chOff x="179280" y="189000"/>
            <a:chExt cx="8498880" cy="6360480"/>
          </a:xfrm>
        </p:grpSpPr>
        <p:sp>
          <p:nvSpPr>
            <p:cNvPr id="119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200" y="5214240"/>
              <a:ext cx="662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cesos de apoy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9920" y="5372280"/>
              <a:ext cx="48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Financieros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2800" y="5525280"/>
              <a:ext cx="27036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RRHH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6040" y="5628600"/>
              <a:ext cx="5662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Infraestructura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5880" y="5734080"/>
              <a:ext cx="1562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etc.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7640" y="58921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659640" y="5229360"/>
            <a:ext cx="1297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Procesos de apoyo (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nancieros</a:t>
            </a: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, RRHH, Infra) (Macro 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amient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ender de las ingenierías tradicionales: obras civiles, maquinarias, procesos minero-metalúrgicos, manufactura, redes eléctrica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camos representaciones de los procesos de negocios, que entreguen una visión estática de los componentes de un diseño y sus interrel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mbién buscamos estrategias y herramientas de simulación para evaluar comportamiento y desempeño dinámic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Procesos y su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go después de especificar el modelo de negoci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Diseñe o rediseñ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s procesos para ejecutar de la mejor manera posible tal modelo de negoc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47640" y="4724280"/>
            <a:ext cx="5688360" cy="720720"/>
            <a:chOff x="1547640" y="4724280"/>
            <a:chExt cx="5688360" cy="720720"/>
          </a:xfrm>
        </p:grpSpPr>
        <p:sp>
          <p:nvSpPr>
            <p:cNvPr id="99" name=""/>
            <p:cNvSpPr/>
            <p:nvPr/>
          </p:nvSpPr>
          <p:spPr>
            <a:xfrm>
              <a:off x="154764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iseño o Redise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 </a:t>
              </a: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e 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3634920" y="5084280"/>
              <a:ext cx="15138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tomar las actividades de un proceso en su totalidad y someterlas a un cambio fundamen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cambio habitualmente implica el uso intensivo de 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experiencia muestra que el rediseño de procesos lleva a soluciones similares en procesos del mismo ti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xperiencia muestra que los mismos procesos se repiten en diferentes organizaciones de la más variada naturalez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anera en que esos procesos se realizan en las empresas líderes (mejores prácticas), es muy pareci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ón: En cualquier organización hay un número pequeño de tipos de procesos (entre 7 a 1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ha demostrado que en distintos dominios se tiene una arquitectura común para proces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os de crédito hipotecario en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tisfacción de pedidos en una empresa manufactur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ención de pacientes en un hospit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estructura común se denomi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atrón de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de los Patr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ternalizan las mejores prácticas desarrolladas en diferentes domin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lmacenan conocimiento normativo respecto a cómo debe realizarse la 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idea es aumentar ese stock de conocimiento mediant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distribución de ese conocimiento permite a las organizaciones mejorar sus procesos, sin tener que empezar de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Modelamiento a través de Patr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88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Un patrón de procesos de negocios es una estructura normativa y repetitiva que ocurre en diferentes empresas y contextos, los cuales comparten una estructura común y que puede ser especificada en detal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estructura es especificable en términos de actividades y relaciones, sino además en términos de las prácticas que deberían ejecutarse dentro de las actividades del proceso y los apoyos con Tecnologías de la Información necesarios para conseguir una optimización de és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trones de Procesos (Barro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on arquitecturas o estructuras generales de actividades y flujos de información que las ligan, las cuales se originan en conceptos normativos acerca de cómo debería ser un proceso ide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n sido fruto de la experiencia con muchos casos aplicados, de los cuales se sintetizan las mejores prácticas que han demostrado tener éxit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Estructura General de los Procesos de la Empre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xperiencia en rediseño de proces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avenport: IBM, XEROX, British Telecom, definieron entre 11 y 15 procesos cla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ersen Consult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acroprocesos: Conjunto de procesos que podemos ligar naturalmente y que, en algunas situaciones, ocurren en forma totalmente interrelacion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3-03T22:04:44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