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C3DB-A84C-4513-8B2D-8E6329175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F544-16D6-4D8F-AEA5-BA64CA87D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7D15-09F2-4F4B-82CD-D36AE1FE6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4876-D4F7-4127-839E-F2D542C33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1B138-DBE6-4AF4-811F-9762F85F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E8140-7D8F-43AB-B17D-016BBFAA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1B720-2DC4-47EE-8C88-6101C8F0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4CE8A-BFCC-422E-9511-A4D64502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5DF04-3244-49D2-AE0F-37C28699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34195-E95C-4991-8C77-4932F5F2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3D57D-13C7-43C7-82D7-0BA08558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7F12-83A8-4470-A62E-5822EEFD5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5CF40-65FE-4695-B9E4-7E50B74F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CE918-40B0-486A-9080-8C2D7630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89836-92BD-4D82-BCCC-87EC1926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2CDD3-0BA3-406D-B9A2-9B72F1E8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A2177-5509-491C-9BBA-A3D74EF9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DDEC-7C74-46C6-BD57-8FED1DBE1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A871-4EFF-4657-B32D-573CC3F4B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6E0F-AA32-46FC-A03C-A2D9942DD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DEA1-57C3-40ED-886D-2490B4AA3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E289-AA23-46A2-8067-1BB79675E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B72E-D758-4003-B1BB-D0F20A749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82449-5496-4740-AF87-4373B4F54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DCB8-28C1-4B0D-A3B6-7E2CAA86EF39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0471-97FA-4068-8B75-D5D7B37BC324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Simulación de Procesos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400440" y="632412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kel Awad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63244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BE - IN71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os para Simular un Pro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4728240"/>
            <a:ext cx="106704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3813840"/>
            <a:ext cx="105408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jecutar Simu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899440"/>
            <a:ext cx="106704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r E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1756440"/>
            <a:ext cx="1066680" cy="484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r 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1756440"/>
            <a:ext cx="990720" cy="484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lectar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11480" y="1832760"/>
            <a:ext cx="1199880" cy="271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508760"/>
            <a:ext cx="1143000" cy="908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d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1508760"/>
            <a:ext cx="1295280" cy="908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Arti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1828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18288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18288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1828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353000" y="24764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7353000" y="43052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353000" y="33908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2514600"/>
            <a:ext cx="4038840" cy="419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necesa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as de Lleg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ante, distribuida o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abilidades de Cami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empos medios por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clo, espera y ejec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ursos por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t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idos o reutiliz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os por actividad/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trans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rio de 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s Ext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CFC9-D877-42B6-AA49-5770E99979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ncisco J. Ramis, Ph.D. Director Centro Avanzado de Simulación de Proceso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Universidad del Bío-Bío, Ch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mulation: The Practice of Model Development and Use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tewart Robinson. Editorial John Wiley &amp; Sons, 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ECF3-88D7-4AA9-8F67-2532F62CC9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es la Simulación de Proces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 en construir un modelo artificial que imite el comportamiento del mundo real mediante el uso de apoyo comput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 muchas aplicaciones en diversas á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Manuf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Públicos: Salud, Educación, Recursos Naturales, Milici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Entretenimiento y Restau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tión/Reingeniería de Procesos de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Financieros y Econó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85D3-1114-48F2-A570-89454E577C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ara qué sirve la Simulación de Proces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Trabajará el proceso como se esp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evaluación y pred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Porqué no funciona bien el proce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determinación de cuellos de botella y optim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es son los estándares para medir el desempeño del proce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determinación de estándares y me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 es la mejor alternati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compa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nálisis de sensibi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qué pasa si...?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5133-3F8A-4357-BA90-50599C6638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ara qué sirve la Simulación de Procesos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luar los efecto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regar o reemplazar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el flujo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los tiempos de proc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roducir nuevos servicios o tipo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iminar servicios o recurso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s 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ne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s de programación d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GO (Garbage In, Garbage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puesta aproximada a un “modelo re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5117-45FD-4374-90E7-EA1AD66882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de la Simulación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efectivo en costo-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manejar parámetros del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terrumpe el mund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experimentar a pri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chequear su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nalizar e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quiere que el proceso exista en la r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practico en casos de soluciones analíticas comple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BA98-FA1F-4EB6-9571-B171A8A096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ventajas de la Simulación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llegar a ser cost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demandar much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por lo general una gran cantidad de dato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 tiene garantía de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ícil comprobar confiabilidad de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dos están sujetos a la calidad del modelo y la información (GI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jidad del proceso puede limitar la validez de los resultados (supuestos, casos no model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cierto nivel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52AD-5F5A-4251-A5C2-C575A8FA25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ra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muchos tipos de software para simul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@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lex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ul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vi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terprise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PSS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how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Grafx Process 2006 (BP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7671-517D-436B-95AD-4B0CF32C75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ción e Ingeniería de Nego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imulación es una herramienta que apoya el diseño/rediseño de procesos de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evaluar el desempeño de los procesos, identificar problemas y analizar posibles mejoras sin la necesidad de implementar en el mundo real mi modelo de negocio pro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C38F-2E98-4238-A16F-091C51250C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4952880"/>
            <a:ext cx="7391520" cy="152424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666880"/>
            <a:ext cx="8001000" cy="19051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447920"/>
            <a:ext cx="4343400" cy="8380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 Propuesta M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782360"/>
            <a:ext cx="8384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3281040"/>
            <a:ext cx="106668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Lógica de Nego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5516280"/>
            <a:ext cx="147636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ción Técnico-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07160" y="5109840"/>
            <a:ext cx="13082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antar Nuevas Prac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73720" y="5516280"/>
            <a:ext cx="81612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antar Apoyo 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897160"/>
            <a:ext cx="84456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ar el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5516280"/>
            <a:ext cx="8636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i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661920"/>
            <a:ext cx="150660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r y Optimizar Situación Pro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88400" y="4068360"/>
            <a:ext cx="77472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773080"/>
            <a:ext cx="129528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Situación Pro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773080"/>
            <a:ext cx="104328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ción de Mej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782360"/>
            <a:ext cx="125424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Situación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1782360"/>
            <a:ext cx="121896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antamiento Situación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2040" y="5516280"/>
            <a:ext cx="8636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ña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3585600"/>
            <a:ext cx="1219320" cy="605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llar Modelo de Negocio Propu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3661920"/>
            <a:ext cx="121932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Propuesto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581280" y="18284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2133360" y="281916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7391160" y="3682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5816520" y="558792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7111800" y="558792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53280" y="3733920"/>
            <a:ext cx="4572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151920" y="1447560"/>
            <a:ext cx="685800" cy="5105160"/>
          </a:xfrm>
          <a:prstGeom prst="upDownArrow">
            <a:avLst>
              <a:gd name="adj1" fmla="val 50000"/>
              <a:gd name="adj2" fmla="val 14819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5562720"/>
            <a:ext cx="4572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362320"/>
            <a:ext cx="1447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1904760" y="18284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5715000" y="368316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4038480" y="3682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3276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495680" y="556236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00400" y="5562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648320"/>
            <a:ext cx="1447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447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26668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uación Propu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4952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EF4B-90A8-4D28-A7C9-1973AAC39C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Ángel Jiménez</cp:lastModifiedBy>
  <dcterms:modified xsi:type="dcterms:W3CDTF">2006-10-16T20:03:1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