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327F-593B-47AF-BFD4-177EDDE9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C28B-B46F-4B91-B5D2-3387F50A2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014B-9DAD-488E-977D-ACAF7DC2A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CCD5-1FA5-4E38-8EDC-47BB2FAF0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FF4C-AA64-4743-9101-4E527C9D1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9584-5E8A-4FBC-89A9-5B2B66A26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E4B42-642C-4CFD-B5DE-322A01BC59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CC725-8EA9-419C-9EF4-629C75AA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7D49C-4FA6-4B6E-BA2E-E786E8AE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5362B-0A27-4663-ABFB-0FA4B41C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CA5F5-F26A-4592-940F-78EB9CE3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ECEC5-EF63-4AD8-BC48-ADB27C07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1A652-D7C9-46D8-A903-0522DBAF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BEBB-CA08-4CDE-9EB7-FA11FABCB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CA7B0-74E6-48E1-A35C-6F2532F3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280E8-7EDC-4417-92BE-8F468318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62AC0-9EF6-4320-9F4F-FD9A9868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3E0AF-6C92-414D-B051-AF41822D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B5D2A-5BA6-474E-95D5-891CEDB90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06A3-DDD7-455C-8A39-E3D7FCF99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91B9D-11B4-423B-A7A2-C9A0F930D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5936-44D3-440C-BBD9-BB97DF318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84D8-6557-48D0-B983-550DE2A9F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ED28-53F6-4FDA-9C48-840DD5383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D829-D266-49AF-BAE4-D15E99DBA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10A0-E8DF-41E7-82CD-7866523B9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2B7-586C-470D-8CA2-1FDBC136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26A1-FA50-48A3-B7B5-96CD7A902A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1822-FAC7-4274-BBC0-448B7D347C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3714-88C2-4B05-9D4D-6E34C22CA3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A7D1-0226-46E1-9A2F-1DEE440F82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600A-F2D4-406E-9F16-CB8FE1522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F9C1-A291-4B88-9647-A5DC03C698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9C93-61B3-40C8-AAE8-721D8EA1BE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C2A4-5C3A-4C54-ACD3-C08333A9A9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9676-BBE8-46CD-944E-6D22C3DCD0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0108-B211-43A2-A855-DA6A7C3AC2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C2BA-D66A-480F-B8E0-E6B19F5BB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4DB4-7B3D-43D6-B383-5625CB8F73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938DA-F158-4AB4-BE92-87E087D460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2BF1-97BE-406F-8ACC-11AD2D3F5D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04A7-7CED-4E97-B686-7A5DF2AD46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C9FF2-EE97-4889-B69B-3295E0E19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BB88-565D-4B8A-9C93-712826A2D4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3B08-64C8-48C8-8C2A-8D513680C8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8480-0D26-45B4-9782-11BC99927B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3A125-3A7D-4F88-BE9C-236B29ECC9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E26A-92E0-47B0-88B9-8CC95CF428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1F21-DCA8-4D0B-83DB-0995C8658C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4556F-860B-43F7-832F-CD24214107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2D8BF-D690-4FDF-B8F5-9C1244F8F6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5EB2-2E15-4EA2-A842-07073E4A2B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6CED-6ACD-4AA5-9B8A-9340627CD0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411D-FCDF-4F60-AA27-E98F098580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BB4C9-661B-4390-BD57-6FE25B6248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3FF2-F921-44F3-91AC-77DD1D6A33A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9303-B939-4668-A56E-3C1976288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2088-B752-4BA2-B807-8FE70636F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AE597-4987-4DC4-83A7-6822E5B32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8E84-7B5E-4028-A2F8-8409BEEC2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0E69-EE44-49A2-9E57-845D1EBEAA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7F4F3-4A74-4B3D-896B-3A214A56B0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CACHI</cp:lastModifiedBy>
  <dcterms:modified xsi:type="dcterms:W3CDTF">2006-11-10T18:24:58Z</dcterms:modified>
  <cp:revision>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