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8.wmf" ContentType="image/x-wmf"/>
  <Override PartName="/ppt/media/image11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7.png" ContentType="image/png"/>
  <Override PartName="/ppt/media/image1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9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02F9-968B-4081-A625-1856B437587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7F2-3FD2-4F28-BEF0-5823BD0E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A07-0AAC-4D5B-8DD4-3381297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FF8-A9DE-41E8-8164-E46E6724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89D-C055-4662-A3AC-7D2056AE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8399-D3CB-4BAE-90AD-E3C17370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F43D-43AF-491D-B44D-D66879A4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25D4-8E26-44E3-8F54-C1EFF37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0CAE-28EF-4898-A67F-7F430338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1DE1-94C1-4017-BB64-4A6DDA1F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5637-0C44-4E3D-ADC6-6829B270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3C45-A1A2-47C4-BF48-A1E836EB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9DA-0FDB-4F58-AA52-975282E2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047D-9445-4837-BCA4-8E4355D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BF83-217D-4275-B09C-279B54E2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263D-137E-4FC4-8AA4-95538B25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817C-0198-40FB-885E-67456597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408C-1102-4F80-9E7E-00FFC75C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28B-8703-4BF3-8220-C0365474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0A7-2D67-43F1-BEA1-08A2F2FE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FDF-F75B-48A7-84D9-35D4380F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233-E211-43A7-85AB-468353FC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8BB-1807-4E1D-9377-3948580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5C1-B68F-48DE-B669-32CF7E81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A38-D111-472D-B3A1-9A02513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5E9B-1B80-4D77-929F-F27738439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305E-E8C4-4624-8033-A48A83DE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2</a:t>
            </a:r>
            <a:br>
              <a:rPr sz="3600"/>
            </a:b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0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68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478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492" name=""/>
              <p:cNvCxnSpPr>
                <a:stCxn id="468" idx="0"/>
                <a:endCxn id="480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3" name=""/>
              <p:cNvCxnSpPr>
                <a:stCxn id="469" idx="0"/>
                <a:endCxn id="480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4" name=""/>
              <p:cNvCxnSpPr>
                <a:stCxn id="470" idx="0"/>
                <a:endCxn id="480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5" name=""/>
              <p:cNvCxnSpPr>
                <a:stCxn id="471" idx="0"/>
                <a:endCxn id="480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6" name=""/>
              <p:cNvCxnSpPr>
                <a:stCxn id="472" idx="0"/>
                <a:endCxn id="480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497" name=""/>
            <p:cNvCxnSpPr>
              <a:stCxn id="484" idx="0"/>
              <a:endCxn id="485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8" name=""/>
            <p:cNvCxnSpPr>
              <a:stCxn id="484" idx="1"/>
              <a:endCxn id="486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84" idx="2"/>
              <a:endCxn id="487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0" name=""/>
            <p:cNvCxnSpPr>
              <a:stCxn id="488" idx="0"/>
              <a:endCxn id="484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02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03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16" name=""/>
            <p:cNvCxnSpPr>
              <a:stCxn id="481" idx="0"/>
              <a:endCxn id="508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7" name=""/>
            <p:cNvCxnSpPr>
              <a:stCxn id="508" idx="1"/>
              <a:endCxn id="509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8" name=""/>
            <p:cNvCxnSpPr>
              <a:stCxn id="509" idx="1"/>
              <a:endCxn id="510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9" name=""/>
            <p:cNvCxnSpPr>
              <a:stCxn id="511" idx="0"/>
              <a:endCxn id="510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0" name=""/>
            <p:cNvCxnSpPr>
              <a:stCxn id="512" idx="0"/>
              <a:endCxn id="511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1" name=""/>
            <p:cNvCxnSpPr>
              <a:stCxn id="482" idx="0"/>
              <a:endCxn id="513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483" idx="0"/>
              <a:endCxn id="514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14" idx="1"/>
              <a:endCxn id="515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475" idx="0"/>
              <a:endCxn id="507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5" name=""/>
            <p:cNvCxnSpPr>
              <a:stCxn id="476" idx="0"/>
              <a:endCxn id="507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6" name=""/>
            <p:cNvCxnSpPr>
              <a:stCxn id="506" idx="0"/>
              <a:endCxn id="510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7" name=""/>
            <p:cNvCxnSpPr>
              <a:stCxn id="507" idx="2"/>
              <a:endCxn id="511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8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29" name=""/>
            <p:cNvCxnSpPr>
              <a:stCxn id="484" idx="4"/>
              <a:endCxn id="530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1" name=""/>
            <p:cNvCxnSpPr>
              <a:stCxn id="480" idx="5"/>
              <a:endCxn id="532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3" name=""/>
            <p:cNvCxnSpPr>
              <a:stCxn id="481" idx="1"/>
              <a:endCxn id="534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5" name=""/>
            <p:cNvCxnSpPr>
              <a:stCxn id="482" idx="1"/>
              <a:endCxn id="536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37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38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4" name=""/>
              <p:cNvCxnSpPr>
                <a:stCxn id="539" idx="2"/>
                <a:endCxn id="540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45" name=""/>
              <p:cNvCxnSpPr>
                <a:stCxn id="532" idx="2"/>
                <a:endCxn id="541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75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"/>
          <p:cNvCxnSpPr>
            <a:stCxn id="587" idx="0"/>
            <a:endCxn id="592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"/>
          <p:cNvCxnSpPr>
            <a:stCxn id="587" idx="3"/>
            <a:endCxn id="610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"/>
          <p:cNvCxnSpPr>
            <a:endCxn id="580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2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"/>
          <p:cNvCxnSpPr>
            <a:stCxn id="628" idx="0"/>
            <a:endCxn id="624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47840" y="1376280"/>
            <a:ext cx="8227800" cy="472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visión síntesis cla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T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ón Integral de la Cadena de V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39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0"/>
              <a:endCxn id="636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42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65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77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"/>
          <p:cNvCxnSpPr>
            <a:stCxn id="677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9" name=""/>
          <p:cNvCxnSpPr>
            <a:endCxn id="670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05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06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55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3" name=""/>
            <p:cNvCxnSpPr>
              <a:stCxn id="755" idx="7"/>
              <a:endCxn id="760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4" name=""/>
            <p:cNvCxnSpPr>
              <a:stCxn id="755" idx="6"/>
              <a:endCxn id="761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5" name=""/>
            <p:cNvCxnSpPr>
              <a:stCxn id="755" idx="5"/>
              <a:endCxn id="762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66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7" name=""/>
            <p:cNvCxnSpPr>
              <a:stCxn id="756" idx="7"/>
              <a:endCxn id="766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68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56" idx="6"/>
              <a:endCxn id="768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70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1" name=""/>
            <p:cNvCxnSpPr>
              <a:stCxn id="756" idx="5"/>
              <a:endCxn id="770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72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4" name=""/>
            <p:cNvCxnSpPr>
              <a:stCxn id="758" idx="7"/>
              <a:endCxn id="772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75" name=""/>
            <p:cNvCxnSpPr>
              <a:stCxn id="758" idx="5"/>
              <a:endCxn id="773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76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777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"/>
          <p:cNvCxnSpPr>
            <a:stCxn id="805" idx="0"/>
            <a:endCxn id="788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"/>
          <p:cNvCxnSpPr>
            <a:stCxn id="805" idx="3"/>
            <a:endCxn id="824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5" name=""/>
          <p:cNvCxnSpPr>
            <a:endCxn id="801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2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"/>
          <p:cNvCxnSpPr>
            <a:stCxn id="829" idx="3"/>
            <a:endCxn id="830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3" name=""/>
          <p:cNvCxnSpPr>
            <a:stCxn id="829" idx="3"/>
            <a:endCxn id="841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44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45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46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"/>
          <p:cNvCxnSpPr>
            <a:stCxn id="829" idx="3"/>
            <a:endCxn id="851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05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4" name=""/>
          <p:cNvCxnSpPr>
            <a:stCxn id="851" idx="3"/>
            <a:endCxn id="805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5" name=""/>
          <p:cNvCxnSpPr>
            <a:stCxn id="841" idx="3"/>
            <a:endCxn id="805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1" name=""/>
          <p:cNvCxnSpPr>
            <a:stCxn id="835" idx="1"/>
            <a:endCxn id="829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2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"/>
          <p:cNvCxnSpPr>
            <a:stCxn id="805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Manufactu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- Término utilizado internacionalment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bre cada actividad involucrada en producir y distribuir un producto o servicio desde el proveedor del proveedor hasta el cliente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pply Chain Management incluye la gestión de la demanda y suministro, aprovisionamiento de materias primas y componentes, fabricación y montaje, gestión de almacenes y trazabilidad del inventario, gestión de pedidos, distribución multi-canal y entrega a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4883040" y="57150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05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07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08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05T12:00:29Z</dcterms:modified>
  <cp:revision>50</cp:revision>
  <dc:subject/>
  <dc:title>Diapositiva 1</dc:title>
</cp:coreProperties>
</file>