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DF768-991B-41A9-BAD0-898A8CA34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CE40-6F8F-46E1-8CF3-33BEDE51A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08ED7-86CB-4590-94D1-7E512C36A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F0C76-7407-49B7-A135-4B12A8E19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14302-3C52-4748-A127-8023ED4DE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DE12E-CBDD-41EF-B462-96315AF06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8AFEF-6270-4785-8212-7027E6E77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1FA5F-12B2-4C49-8D04-2D606B140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416D3-9A09-4FDA-A201-80080283F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3EFF3-7E97-421E-A9A7-10B2C3179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56B9E-35E7-4051-99CE-FD4A346F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7C84-2341-43CA-BF69-B2D41D372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FF134-3DDC-49F5-9787-8161113C0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DB151-0B3D-4475-9F55-96F6E4E7E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91A46-565B-4F5B-8FF0-60732F2AE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B5D82-143A-43C2-817C-897D9AFA8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F5D5F-7279-41E7-8FB9-2648502A2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2F5F9-822F-459A-ADE7-771043DAA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B195A-1FA2-4B83-8D15-A99482D05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8D9D-1879-4686-8C2A-0F1D44E5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17E8C-2412-49FF-BEA9-2DFC3AFC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703B-099E-4E57-8508-72F8B388B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27A9A-8927-4246-B377-F68CDD6F3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6DAA-3FF7-4C9E-885B-ECAAC8E3E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BFAB-70EE-4869-9E16-CC339B37E6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5D94-3B06-4895-9DA9-97C0A089F6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6-10-17T14:10:07Z</dcterms:modified>
  <cp:revision>14</cp:revision>
  <dc:subject/>
  <dc:title>Diapositiva 1</dc:title>
</cp:coreProperties>
</file>