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" r="0" b="0"/>
          <a:stretch/>
        </p:blipFill>
        <p:spPr>
          <a:xfrm>
            <a:off x="0" y="0"/>
            <a:ext cx="989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FF83F06-CAA4-4EE9-9302-1BD828361639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       ©</a:t>
            </a:r>
            <a:r>
              <a:rPr b="0" i="1" lang="en-US" sz="8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NOKIA          E2E Visibility Presentation.PPT / 03.04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29480" y="6019920"/>
            <a:ext cx="573120" cy="583560"/>
            <a:chOff x="7629480" y="6019920"/>
            <a:chExt cx="573120" cy="583560"/>
          </a:xfrm>
        </p:grpSpPr>
        <p:sp>
          <p:nvSpPr>
            <p:cNvPr id="6" name=""/>
            <p:cNvSpPr/>
            <p:nvPr/>
          </p:nvSpPr>
          <p:spPr>
            <a:xfrm rot="8880000">
              <a:off x="7767000" y="6261840"/>
              <a:ext cx="399960" cy="248760"/>
            </a:xfrm>
            <a:prstGeom prst="parallelogram">
              <a:avLst>
                <a:gd name="adj" fmla="val 57226"/>
              </a:avLst>
            </a:prstGeom>
            <a:solidFill>
              <a:srgbClr val="049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9480" y="6164280"/>
              <a:ext cx="231840" cy="439200"/>
            </a:xfrm>
            <a:custGeom>
              <a:avLst/>
              <a:gdLst/>
              <a:ahLst/>
              <a:rect l="l" t="t" r="r" b="b"/>
              <a:pathLst>
                <a:path w="146" h="277">
                  <a:moveTo>
                    <a:pt x="144" y="276"/>
                  </a:moveTo>
                  <a:lnTo>
                    <a:pt x="0" y="185"/>
                  </a:lnTo>
                  <a:lnTo>
                    <a:pt x="0" y="0"/>
                  </a:lnTo>
                  <a:lnTo>
                    <a:pt x="145" y="93"/>
                  </a:lnTo>
                  <a:lnTo>
                    <a:pt x="144" y="27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9480" y="6019920"/>
              <a:ext cx="449280" cy="299880"/>
            </a:xfrm>
            <a:custGeom>
              <a:avLst/>
              <a:gdLst/>
              <a:ahLst/>
              <a:rect l="l" t="t" r="r" b="b"/>
              <a:pathLst>
                <a:path w="283" h="189">
                  <a:moveTo>
                    <a:pt x="0" y="94"/>
                  </a:moveTo>
                  <a:lnTo>
                    <a:pt x="142" y="0"/>
                  </a:lnTo>
                  <a:lnTo>
                    <a:pt x="282" y="93"/>
                  </a:lnTo>
                  <a:lnTo>
                    <a:pt x="142" y="188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29480" y="6221160"/>
              <a:ext cx="223920" cy="382320"/>
            </a:xfrm>
            <a:custGeom>
              <a:avLst/>
              <a:gdLst/>
              <a:ahLst/>
              <a:rect l="l" t="t" r="r" b="b"/>
              <a:pathLst>
                <a:path w="141" h="241">
                  <a:moveTo>
                    <a:pt x="0" y="151"/>
                  </a:moveTo>
                  <a:lnTo>
                    <a:pt x="50" y="0"/>
                  </a:lnTo>
                  <a:lnTo>
                    <a:pt x="92" y="27"/>
                  </a:lnTo>
                  <a:lnTo>
                    <a:pt x="140" y="240"/>
                  </a:lnTo>
                  <a:lnTo>
                    <a:pt x="86" y="206"/>
                  </a:lnTo>
                  <a:lnTo>
                    <a:pt x="82" y="180"/>
                  </a:lnTo>
                  <a:lnTo>
                    <a:pt x="41" y="154"/>
                  </a:lnTo>
                  <a:lnTo>
                    <a:pt x="35" y="173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05800" y="6340320"/>
              <a:ext cx="50760" cy="11088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31" y="69"/>
                  </a:moveTo>
                  <a:lnTo>
                    <a:pt x="16" y="0"/>
                  </a:lnTo>
                  <a:lnTo>
                    <a:pt x="0" y="51"/>
                  </a:lnTo>
                  <a:lnTo>
                    <a:pt x="31" y="6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680000">
              <a:off x="7851960" y="6262200"/>
              <a:ext cx="234720" cy="248760"/>
            </a:xfrm>
            <a:prstGeom prst="parallelogram">
              <a:avLst>
                <a:gd name="adj" fmla="val 60792"/>
              </a:avLst>
            </a:prstGeom>
            <a:solidFill>
              <a:srgbClr val="8fd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709040" y="6019920"/>
              <a:ext cx="372960" cy="246960"/>
              <a:chOff x="7709040" y="6019920"/>
              <a:chExt cx="372960" cy="246960"/>
            </a:xfrm>
          </p:grpSpPr>
          <p:sp>
            <p:nvSpPr>
              <p:cNvPr id="13" name=""/>
              <p:cNvSpPr/>
              <p:nvPr/>
            </p:nvSpPr>
            <p:spPr>
              <a:xfrm>
                <a:off x="7709040" y="6111720"/>
                <a:ext cx="223560" cy="155160"/>
              </a:xfrm>
              <a:custGeom>
                <a:avLst/>
                <a:gdLst/>
                <a:ahLst/>
                <a:rect l="l" t="t" r="r" b="b"/>
                <a:pathLst>
                  <a:path w="141" h="98">
                    <a:moveTo>
                      <a:pt x="0" y="68"/>
                    </a:moveTo>
                    <a:lnTo>
                      <a:pt x="97" y="0"/>
                    </a:lnTo>
                    <a:lnTo>
                      <a:pt x="140" y="29"/>
                    </a:lnTo>
                    <a:lnTo>
                      <a:pt x="43" y="97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86800" y="6019920"/>
                <a:ext cx="295200" cy="199800"/>
              </a:xfrm>
              <a:custGeom>
                <a:avLst/>
                <a:gdLst/>
                <a:ahLst/>
                <a:rect l="l" t="t" r="r" b="b"/>
                <a:pathLst>
                  <a:path w="186" h="126">
                    <a:moveTo>
                      <a:pt x="0" y="28"/>
                    </a:moveTo>
                    <a:lnTo>
                      <a:pt x="141" y="125"/>
                    </a:lnTo>
                    <a:lnTo>
                      <a:pt x="185" y="94"/>
                    </a:lnTo>
                    <a:lnTo>
                      <a:pt x="43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"/>
          <p:cNvSpPr/>
          <p:nvPr/>
        </p:nvSpPr>
        <p:spPr>
          <a:xfrm>
            <a:off x="6551280" y="6621480"/>
            <a:ext cx="168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I RESEARCH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5524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okia Sans Title SemiBold"/>
              </a:rPr>
              <a:t>End-to-End Visibility in Collaborative Business</a:t>
            </a:r>
            <a:endParaRPr b="0" lang="en-US" sz="32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03.04.2003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ki Laiho, Nokia Business Infrastructu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Jan Holmström, Helsinki University of Technolog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urrent state analysis: Key resul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3920" y="1041120"/>
            <a:ext cx="8861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ather advanced, system supported planning processes do concentrate on planning months, weeks etc – but what would matter is “business visibility”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Supply plan changes can cause more distortion to upstream than end customer demand changes would require = Bullwhip effec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End-to-end visibility can easily be distracted e.g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Multiple planning, consolidation and judgement points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ack of formal utilization and sharing of available data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De-synchronized planning activities across th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rue understanding and utilization of demand visibility is much harder that it seem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he needs for visibility are vary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ead times, inventories and massive processing of information reduce the value of visibility from step-to-ste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For upstream chain visibility alone does not have any information value, it is just noi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One size doesn’t fit a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7080" y="1063440"/>
            <a:ext cx="8404560" cy="52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Rather than trying to build a ”one size fits all” massive model, it seems more realistic to use an appropriate combination of streamlined approache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fferent situations need different planning approaches, and varying, appropiate source data at the right tim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what is the best input  depends on the life cycle phase, market characteristics et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35000" y="3454560"/>
            <a:ext cx="8007480" cy="2819160"/>
            <a:chOff x="1035000" y="3454560"/>
            <a:chExt cx="8007480" cy="2819160"/>
          </a:xfrm>
        </p:grpSpPr>
        <p:grpSp>
          <p:nvGrpSpPr>
            <p:cNvPr id="130" name=""/>
            <p:cNvGrpSpPr/>
            <p:nvPr/>
          </p:nvGrpSpPr>
          <p:grpSpPr>
            <a:xfrm>
              <a:off x="2682720" y="4687920"/>
              <a:ext cx="99720" cy="1424520"/>
              <a:chOff x="2682720" y="4687920"/>
              <a:chExt cx="99720" cy="142452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730600" y="4777920"/>
                <a:ext cx="1800" cy="1334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82720" y="4687920"/>
                <a:ext cx="99720" cy="93600"/>
              </a:xfrm>
              <a:custGeom>
                <a:avLst/>
                <a:gdLst/>
                <a:ahLst/>
                <a:rect l="l" t="t" r="r" b="b"/>
                <a:pathLst>
                  <a:path w="117" h="118">
                    <a:moveTo>
                      <a:pt x="117" y="118"/>
                    </a:moveTo>
                    <a:lnTo>
                      <a:pt x="58" y="0"/>
                    </a:lnTo>
                    <a:lnTo>
                      <a:pt x="0" y="118"/>
                    </a:lnTo>
                    <a:lnTo>
                      <a:pt x="11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438400" y="601956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6360" y="4379760"/>
              <a:ext cx="6526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4200" y="44323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730600" y="6070320"/>
              <a:ext cx="5596560" cy="58680"/>
              <a:chOff x="2730600" y="6070320"/>
              <a:chExt cx="5596560" cy="58680"/>
            </a:xfrm>
          </p:grpSpPr>
          <p:sp>
            <p:nvSpPr>
              <p:cNvPr id="137" name=""/>
              <p:cNvSpPr/>
              <p:nvPr/>
            </p:nvSpPr>
            <p:spPr>
              <a:xfrm>
                <a:off x="2730600" y="6099120"/>
                <a:ext cx="5535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62360" y="6070320"/>
                <a:ext cx="64800" cy="5868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0" y="75"/>
                    </a:moveTo>
                    <a:lnTo>
                      <a:pt x="75" y="37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730600" y="4573440"/>
              <a:ext cx="5451480" cy="1525320"/>
            </a:xfrm>
            <a:custGeom>
              <a:avLst/>
              <a:gdLst/>
              <a:ahLst/>
              <a:rect l="l" t="t" r="r" b="b"/>
              <a:pathLst>
                <a:path w="6423" h="1922">
                  <a:moveTo>
                    <a:pt x="0" y="1922"/>
                  </a:moveTo>
                  <a:lnTo>
                    <a:pt x="41" y="1885"/>
                  </a:lnTo>
                  <a:lnTo>
                    <a:pt x="83" y="1847"/>
                  </a:lnTo>
                  <a:lnTo>
                    <a:pt x="125" y="1803"/>
                  </a:lnTo>
                  <a:lnTo>
                    <a:pt x="146" y="1779"/>
                  </a:lnTo>
                  <a:lnTo>
                    <a:pt x="166" y="1755"/>
                  </a:lnTo>
                  <a:lnTo>
                    <a:pt x="187" y="1727"/>
                  </a:lnTo>
                  <a:lnTo>
                    <a:pt x="208" y="1696"/>
                  </a:lnTo>
                  <a:lnTo>
                    <a:pt x="229" y="1662"/>
                  </a:lnTo>
                  <a:lnTo>
                    <a:pt x="250" y="1629"/>
                  </a:lnTo>
                  <a:lnTo>
                    <a:pt x="271" y="1596"/>
                  </a:lnTo>
                  <a:lnTo>
                    <a:pt x="292" y="1563"/>
                  </a:lnTo>
                  <a:lnTo>
                    <a:pt x="312" y="1532"/>
                  </a:lnTo>
                  <a:lnTo>
                    <a:pt x="333" y="1504"/>
                  </a:lnTo>
                  <a:lnTo>
                    <a:pt x="375" y="1456"/>
                  </a:lnTo>
                  <a:lnTo>
                    <a:pt x="417" y="1410"/>
                  </a:lnTo>
                  <a:lnTo>
                    <a:pt x="458" y="1372"/>
                  </a:lnTo>
                  <a:lnTo>
                    <a:pt x="500" y="1337"/>
                  </a:lnTo>
                  <a:lnTo>
                    <a:pt x="521" y="1325"/>
                  </a:lnTo>
                  <a:lnTo>
                    <a:pt x="542" y="1316"/>
                  </a:lnTo>
                  <a:lnTo>
                    <a:pt x="563" y="1311"/>
                  </a:lnTo>
                  <a:lnTo>
                    <a:pt x="583" y="1306"/>
                  </a:lnTo>
                  <a:lnTo>
                    <a:pt x="604" y="1299"/>
                  </a:lnTo>
                  <a:lnTo>
                    <a:pt x="625" y="1290"/>
                  </a:lnTo>
                  <a:lnTo>
                    <a:pt x="636" y="1283"/>
                  </a:lnTo>
                  <a:lnTo>
                    <a:pt x="646" y="1276"/>
                  </a:lnTo>
                  <a:lnTo>
                    <a:pt x="656" y="1266"/>
                  </a:lnTo>
                  <a:lnTo>
                    <a:pt x="667" y="1254"/>
                  </a:lnTo>
                  <a:lnTo>
                    <a:pt x="677" y="1240"/>
                  </a:lnTo>
                  <a:lnTo>
                    <a:pt x="688" y="1223"/>
                  </a:lnTo>
                  <a:lnTo>
                    <a:pt x="698" y="1205"/>
                  </a:lnTo>
                  <a:lnTo>
                    <a:pt x="709" y="1184"/>
                  </a:lnTo>
                  <a:lnTo>
                    <a:pt x="729" y="1139"/>
                  </a:lnTo>
                  <a:lnTo>
                    <a:pt x="750" y="1092"/>
                  </a:lnTo>
                  <a:lnTo>
                    <a:pt x="771" y="1043"/>
                  </a:lnTo>
                  <a:lnTo>
                    <a:pt x="792" y="998"/>
                  </a:lnTo>
                  <a:lnTo>
                    <a:pt x="813" y="955"/>
                  </a:lnTo>
                  <a:lnTo>
                    <a:pt x="823" y="937"/>
                  </a:lnTo>
                  <a:lnTo>
                    <a:pt x="834" y="920"/>
                  </a:lnTo>
                  <a:lnTo>
                    <a:pt x="855" y="892"/>
                  </a:lnTo>
                  <a:lnTo>
                    <a:pt x="877" y="868"/>
                  </a:lnTo>
                  <a:lnTo>
                    <a:pt x="900" y="849"/>
                  </a:lnTo>
                  <a:lnTo>
                    <a:pt x="922" y="831"/>
                  </a:lnTo>
                  <a:lnTo>
                    <a:pt x="945" y="814"/>
                  </a:lnTo>
                  <a:lnTo>
                    <a:pt x="964" y="797"/>
                  </a:lnTo>
                  <a:lnTo>
                    <a:pt x="983" y="777"/>
                  </a:lnTo>
                  <a:lnTo>
                    <a:pt x="1001" y="753"/>
                  </a:lnTo>
                  <a:lnTo>
                    <a:pt x="1013" y="725"/>
                  </a:lnTo>
                  <a:lnTo>
                    <a:pt x="1021" y="692"/>
                  </a:lnTo>
                  <a:lnTo>
                    <a:pt x="1027" y="657"/>
                  </a:lnTo>
                  <a:lnTo>
                    <a:pt x="1032" y="623"/>
                  </a:lnTo>
                  <a:lnTo>
                    <a:pt x="1039" y="588"/>
                  </a:lnTo>
                  <a:lnTo>
                    <a:pt x="1047" y="555"/>
                  </a:lnTo>
                  <a:lnTo>
                    <a:pt x="1054" y="541"/>
                  </a:lnTo>
                  <a:lnTo>
                    <a:pt x="1061" y="527"/>
                  </a:lnTo>
                  <a:lnTo>
                    <a:pt x="1072" y="513"/>
                  </a:lnTo>
                  <a:lnTo>
                    <a:pt x="1084" y="503"/>
                  </a:lnTo>
                  <a:lnTo>
                    <a:pt x="1098" y="492"/>
                  </a:lnTo>
                  <a:lnTo>
                    <a:pt x="1114" y="484"/>
                  </a:lnTo>
                  <a:lnTo>
                    <a:pt x="1150" y="470"/>
                  </a:lnTo>
                  <a:lnTo>
                    <a:pt x="1190" y="459"/>
                  </a:lnTo>
                  <a:lnTo>
                    <a:pt x="1235" y="451"/>
                  </a:lnTo>
                  <a:lnTo>
                    <a:pt x="1282" y="444"/>
                  </a:lnTo>
                  <a:lnTo>
                    <a:pt x="1329" y="437"/>
                  </a:lnTo>
                  <a:lnTo>
                    <a:pt x="1374" y="428"/>
                  </a:lnTo>
                  <a:lnTo>
                    <a:pt x="1418" y="419"/>
                  </a:lnTo>
                  <a:lnTo>
                    <a:pt x="1503" y="397"/>
                  </a:lnTo>
                  <a:lnTo>
                    <a:pt x="1590" y="372"/>
                  </a:lnTo>
                  <a:lnTo>
                    <a:pt x="1673" y="351"/>
                  </a:lnTo>
                  <a:lnTo>
                    <a:pt x="1713" y="343"/>
                  </a:lnTo>
                  <a:lnTo>
                    <a:pt x="1751" y="336"/>
                  </a:lnTo>
                  <a:lnTo>
                    <a:pt x="1786" y="332"/>
                  </a:lnTo>
                  <a:lnTo>
                    <a:pt x="1819" y="332"/>
                  </a:lnTo>
                  <a:lnTo>
                    <a:pt x="1852" y="334"/>
                  </a:lnTo>
                  <a:lnTo>
                    <a:pt x="1882" y="336"/>
                  </a:lnTo>
                  <a:lnTo>
                    <a:pt x="1911" y="338"/>
                  </a:lnTo>
                  <a:lnTo>
                    <a:pt x="1941" y="339"/>
                  </a:lnTo>
                  <a:lnTo>
                    <a:pt x="1970" y="339"/>
                  </a:lnTo>
                  <a:lnTo>
                    <a:pt x="2002" y="336"/>
                  </a:lnTo>
                  <a:lnTo>
                    <a:pt x="2062" y="325"/>
                  </a:lnTo>
                  <a:lnTo>
                    <a:pt x="2092" y="318"/>
                  </a:lnTo>
                  <a:lnTo>
                    <a:pt x="2121" y="310"/>
                  </a:lnTo>
                  <a:lnTo>
                    <a:pt x="2153" y="299"/>
                  </a:lnTo>
                  <a:lnTo>
                    <a:pt x="2184" y="287"/>
                  </a:lnTo>
                  <a:lnTo>
                    <a:pt x="2217" y="271"/>
                  </a:lnTo>
                  <a:lnTo>
                    <a:pt x="2252" y="252"/>
                  </a:lnTo>
                  <a:lnTo>
                    <a:pt x="2271" y="240"/>
                  </a:lnTo>
                  <a:lnTo>
                    <a:pt x="2290" y="224"/>
                  </a:lnTo>
                  <a:lnTo>
                    <a:pt x="2309" y="205"/>
                  </a:lnTo>
                  <a:lnTo>
                    <a:pt x="2330" y="186"/>
                  </a:lnTo>
                  <a:lnTo>
                    <a:pt x="2372" y="141"/>
                  </a:lnTo>
                  <a:lnTo>
                    <a:pt x="2413" y="96"/>
                  </a:lnTo>
                  <a:lnTo>
                    <a:pt x="2434" y="75"/>
                  </a:lnTo>
                  <a:lnTo>
                    <a:pt x="2457" y="54"/>
                  </a:lnTo>
                  <a:lnTo>
                    <a:pt x="2478" y="37"/>
                  </a:lnTo>
                  <a:lnTo>
                    <a:pt x="2500" y="21"/>
                  </a:lnTo>
                  <a:lnTo>
                    <a:pt x="2521" y="11"/>
                  </a:lnTo>
                  <a:lnTo>
                    <a:pt x="2544" y="2"/>
                  </a:lnTo>
                  <a:lnTo>
                    <a:pt x="2565" y="0"/>
                  </a:lnTo>
                  <a:lnTo>
                    <a:pt x="2585" y="2"/>
                  </a:lnTo>
                  <a:lnTo>
                    <a:pt x="2596" y="5"/>
                  </a:lnTo>
                  <a:lnTo>
                    <a:pt x="2606" y="11"/>
                  </a:lnTo>
                  <a:lnTo>
                    <a:pt x="2627" y="26"/>
                  </a:lnTo>
                  <a:lnTo>
                    <a:pt x="2650" y="45"/>
                  </a:lnTo>
                  <a:lnTo>
                    <a:pt x="2671" y="71"/>
                  </a:lnTo>
                  <a:lnTo>
                    <a:pt x="2693" y="99"/>
                  </a:lnTo>
                  <a:lnTo>
                    <a:pt x="2714" y="132"/>
                  </a:lnTo>
                  <a:lnTo>
                    <a:pt x="2737" y="165"/>
                  </a:lnTo>
                  <a:lnTo>
                    <a:pt x="2758" y="200"/>
                  </a:lnTo>
                  <a:lnTo>
                    <a:pt x="2801" y="270"/>
                  </a:lnTo>
                  <a:lnTo>
                    <a:pt x="2822" y="303"/>
                  </a:lnTo>
                  <a:lnTo>
                    <a:pt x="2841" y="334"/>
                  </a:lnTo>
                  <a:lnTo>
                    <a:pt x="2862" y="362"/>
                  </a:lnTo>
                  <a:lnTo>
                    <a:pt x="2881" y="386"/>
                  </a:lnTo>
                  <a:lnTo>
                    <a:pt x="2900" y="405"/>
                  </a:lnTo>
                  <a:lnTo>
                    <a:pt x="2919" y="419"/>
                  </a:lnTo>
                  <a:lnTo>
                    <a:pt x="2937" y="428"/>
                  </a:lnTo>
                  <a:lnTo>
                    <a:pt x="2954" y="433"/>
                  </a:lnTo>
                  <a:lnTo>
                    <a:pt x="2971" y="435"/>
                  </a:lnTo>
                  <a:lnTo>
                    <a:pt x="2987" y="433"/>
                  </a:lnTo>
                  <a:lnTo>
                    <a:pt x="3004" y="430"/>
                  </a:lnTo>
                  <a:lnTo>
                    <a:pt x="3020" y="424"/>
                  </a:lnTo>
                  <a:lnTo>
                    <a:pt x="3049" y="409"/>
                  </a:lnTo>
                  <a:lnTo>
                    <a:pt x="3079" y="390"/>
                  </a:lnTo>
                  <a:lnTo>
                    <a:pt x="3109" y="369"/>
                  </a:lnTo>
                  <a:lnTo>
                    <a:pt x="3138" y="350"/>
                  </a:lnTo>
                  <a:lnTo>
                    <a:pt x="3154" y="343"/>
                  </a:lnTo>
                  <a:lnTo>
                    <a:pt x="3169" y="336"/>
                  </a:lnTo>
                  <a:lnTo>
                    <a:pt x="3230" y="313"/>
                  </a:lnTo>
                  <a:lnTo>
                    <a:pt x="3289" y="289"/>
                  </a:lnTo>
                  <a:lnTo>
                    <a:pt x="3352" y="268"/>
                  </a:lnTo>
                  <a:lnTo>
                    <a:pt x="3385" y="259"/>
                  </a:lnTo>
                  <a:lnTo>
                    <a:pt x="3420" y="252"/>
                  </a:lnTo>
                  <a:lnTo>
                    <a:pt x="3458" y="245"/>
                  </a:lnTo>
                  <a:lnTo>
                    <a:pt x="3498" y="237"/>
                  </a:lnTo>
                  <a:lnTo>
                    <a:pt x="3540" y="228"/>
                  </a:lnTo>
                  <a:lnTo>
                    <a:pt x="3581" y="221"/>
                  </a:lnTo>
                  <a:lnTo>
                    <a:pt x="3625" y="218"/>
                  </a:lnTo>
                  <a:lnTo>
                    <a:pt x="3646" y="219"/>
                  </a:lnTo>
                  <a:lnTo>
                    <a:pt x="3668" y="221"/>
                  </a:lnTo>
                  <a:lnTo>
                    <a:pt x="3689" y="224"/>
                  </a:lnTo>
                  <a:lnTo>
                    <a:pt x="3712" y="231"/>
                  </a:lnTo>
                  <a:lnTo>
                    <a:pt x="3732" y="240"/>
                  </a:lnTo>
                  <a:lnTo>
                    <a:pt x="3753" y="252"/>
                  </a:lnTo>
                  <a:lnTo>
                    <a:pt x="3774" y="268"/>
                  </a:lnTo>
                  <a:lnTo>
                    <a:pt x="3795" y="287"/>
                  </a:lnTo>
                  <a:lnTo>
                    <a:pt x="3816" y="310"/>
                  </a:lnTo>
                  <a:lnTo>
                    <a:pt x="3837" y="336"/>
                  </a:lnTo>
                  <a:lnTo>
                    <a:pt x="3858" y="364"/>
                  </a:lnTo>
                  <a:lnTo>
                    <a:pt x="3878" y="393"/>
                  </a:lnTo>
                  <a:lnTo>
                    <a:pt x="3920" y="456"/>
                  </a:lnTo>
                  <a:lnTo>
                    <a:pt x="3962" y="520"/>
                  </a:lnTo>
                  <a:lnTo>
                    <a:pt x="3983" y="550"/>
                  </a:lnTo>
                  <a:lnTo>
                    <a:pt x="4004" y="579"/>
                  </a:lnTo>
                  <a:lnTo>
                    <a:pt x="4024" y="605"/>
                  </a:lnTo>
                  <a:lnTo>
                    <a:pt x="4045" y="631"/>
                  </a:lnTo>
                  <a:lnTo>
                    <a:pt x="4066" y="652"/>
                  </a:lnTo>
                  <a:lnTo>
                    <a:pt x="4087" y="670"/>
                  </a:lnTo>
                  <a:lnTo>
                    <a:pt x="4108" y="684"/>
                  </a:lnTo>
                  <a:lnTo>
                    <a:pt x="4129" y="697"/>
                  </a:lnTo>
                  <a:lnTo>
                    <a:pt x="4150" y="708"/>
                  </a:lnTo>
                  <a:lnTo>
                    <a:pt x="4170" y="717"/>
                  </a:lnTo>
                  <a:lnTo>
                    <a:pt x="4212" y="729"/>
                  </a:lnTo>
                  <a:lnTo>
                    <a:pt x="4254" y="737"/>
                  </a:lnTo>
                  <a:lnTo>
                    <a:pt x="4295" y="743"/>
                  </a:lnTo>
                  <a:lnTo>
                    <a:pt x="4337" y="746"/>
                  </a:lnTo>
                  <a:lnTo>
                    <a:pt x="4379" y="750"/>
                  </a:lnTo>
                  <a:lnTo>
                    <a:pt x="4421" y="753"/>
                  </a:lnTo>
                  <a:lnTo>
                    <a:pt x="4462" y="757"/>
                  </a:lnTo>
                  <a:lnTo>
                    <a:pt x="4506" y="758"/>
                  </a:lnTo>
                  <a:lnTo>
                    <a:pt x="4593" y="758"/>
                  </a:lnTo>
                  <a:lnTo>
                    <a:pt x="4676" y="755"/>
                  </a:lnTo>
                  <a:lnTo>
                    <a:pt x="4716" y="753"/>
                  </a:lnTo>
                  <a:lnTo>
                    <a:pt x="4754" y="753"/>
                  </a:lnTo>
                  <a:lnTo>
                    <a:pt x="4789" y="751"/>
                  </a:lnTo>
                  <a:lnTo>
                    <a:pt x="4822" y="750"/>
                  </a:lnTo>
                  <a:lnTo>
                    <a:pt x="4885" y="743"/>
                  </a:lnTo>
                  <a:lnTo>
                    <a:pt x="4914" y="741"/>
                  </a:lnTo>
                  <a:lnTo>
                    <a:pt x="4944" y="741"/>
                  </a:lnTo>
                  <a:lnTo>
                    <a:pt x="4973" y="744"/>
                  </a:lnTo>
                  <a:lnTo>
                    <a:pt x="5005" y="753"/>
                  </a:lnTo>
                  <a:lnTo>
                    <a:pt x="5036" y="765"/>
                  </a:lnTo>
                  <a:lnTo>
                    <a:pt x="5067" y="781"/>
                  </a:lnTo>
                  <a:lnTo>
                    <a:pt x="5098" y="800"/>
                  </a:lnTo>
                  <a:lnTo>
                    <a:pt x="5130" y="821"/>
                  </a:lnTo>
                  <a:lnTo>
                    <a:pt x="5161" y="844"/>
                  </a:lnTo>
                  <a:lnTo>
                    <a:pt x="5192" y="868"/>
                  </a:lnTo>
                  <a:lnTo>
                    <a:pt x="5255" y="920"/>
                  </a:lnTo>
                  <a:lnTo>
                    <a:pt x="5284" y="948"/>
                  </a:lnTo>
                  <a:lnTo>
                    <a:pt x="5314" y="979"/>
                  </a:lnTo>
                  <a:lnTo>
                    <a:pt x="5342" y="1012"/>
                  </a:lnTo>
                  <a:lnTo>
                    <a:pt x="5369" y="1045"/>
                  </a:lnTo>
                  <a:lnTo>
                    <a:pt x="5399" y="1078"/>
                  </a:lnTo>
                  <a:lnTo>
                    <a:pt x="5430" y="1111"/>
                  </a:lnTo>
                  <a:lnTo>
                    <a:pt x="5465" y="1143"/>
                  </a:lnTo>
                  <a:lnTo>
                    <a:pt x="5505" y="1170"/>
                  </a:lnTo>
                  <a:lnTo>
                    <a:pt x="5548" y="1196"/>
                  </a:lnTo>
                  <a:lnTo>
                    <a:pt x="5597" y="1221"/>
                  </a:lnTo>
                  <a:lnTo>
                    <a:pt x="5649" y="1243"/>
                  </a:lnTo>
                  <a:lnTo>
                    <a:pt x="5703" y="1264"/>
                  </a:lnTo>
                  <a:lnTo>
                    <a:pt x="5814" y="1304"/>
                  </a:lnTo>
                  <a:lnTo>
                    <a:pt x="5868" y="1322"/>
                  </a:lnTo>
                  <a:lnTo>
                    <a:pt x="5922" y="1337"/>
                  </a:lnTo>
                  <a:lnTo>
                    <a:pt x="5976" y="1353"/>
                  </a:lnTo>
                  <a:lnTo>
                    <a:pt x="6035" y="1367"/>
                  </a:lnTo>
                  <a:lnTo>
                    <a:pt x="6092" y="1379"/>
                  </a:lnTo>
                  <a:lnTo>
                    <a:pt x="6151" y="1389"/>
                  </a:lnTo>
                  <a:lnTo>
                    <a:pt x="6207" y="1400"/>
                  </a:lnTo>
                  <a:lnTo>
                    <a:pt x="6259" y="1409"/>
                  </a:lnTo>
                  <a:lnTo>
                    <a:pt x="6282" y="1412"/>
                  </a:lnTo>
                  <a:lnTo>
                    <a:pt x="6303" y="1416"/>
                  </a:lnTo>
                  <a:lnTo>
                    <a:pt x="6322" y="1417"/>
                  </a:lnTo>
                  <a:lnTo>
                    <a:pt x="6339" y="1421"/>
                  </a:lnTo>
                  <a:lnTo>
                    <a:pt x="6353" y="1423"/>
                  </a:lnTo>
                  <a:lnTo>
                    <a:pt x="6367" y="1424"/>
                  </a:lnTo>
                  <a:lnTo>
                    <a:pt x="6388" y="1428"/>
                  </a:lnTo>
                  <a:lnTo>
                    <a:pt x="6402" y="1429"/>
                  </a:lnTo>
                  <a:lnTo>
                    <a:pt x="6412" y="1429"/>
                  </a:lnTo>
                  <a:lnTo>
                    <a:pt x="6419" y="1428"/>
                  </a:lnTo>
                  <a:lnTo>
                    <a:pt x="6421" y="1426"/>
                  </a:lnTo>
                  <a:lnTo>
                    <a:pt x="6423" y="1424"/>
                  </a:lnTo>
                  <a:lnTo>
                    <a:pt x="6423" y="1421"/>
                  </a:lnTo>
                </a:path>
              </a:pathLst>
            </a:custGeom>
            <a:solidFill>
              <a:srgbClr val="e7eef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954680" y="4243320"/>
              <a:ext cx="215280" cy="264240"/>
              <a:chOff x="4954680" y="4243320"/>
              <a:chExt cx="215280" cy="26424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5011560" y="4243320"/>
                <a:ext cx="158400" cy="193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54680" y="440640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119" h="128">
                    <a:moveTo>
                      <a:pt x="25" y="0"/>
                    </a:moveTo>
                    <a:lnTo>
                      <a:pt x="0" y="128"/>
                    </a:lnTo>
                    <a:lnTo>
                      <a:pt x="119" y="6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34000" y="4376520"/>
              <a:ext cx="715680" cy="727920"/>
              <a:chOff x="6534000" y="4376520"/>
              <a:chExt cx="715680" cy="72792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6597360" y="4376520"/>
                <a:ext cx="652320" cy="661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4000" y="5003280"/>
                <a:ext cx="106560" cy="101160"/>
              </a:xfrm>
              <a:custGeom>
                <a:avLst/>
                <a:gdLst/>
                <a:ahLst/>
                <a:rect l="l" t="t" r="r" b="b"/>
                <a:pathLst>
                  <a:path w="123" h="127">
                    <a:moveTo>
                      <a:pt x="36" y="0"/>
                    </a:moveTo>
                    <a:lnTo>
                      <a:pt x="0" y="127"/>
                    </a:lnTo>
                    <a:lnTo>
                      <a:pt x="123" y="8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162240" y="3846240"/>
              <a:ext cx="13636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6480" y="3892320"/>
              <a:ext cx="124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apid 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5400" y="407808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true dem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6840" y="4262400"/>
              <a:ext cx="83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0320" y="3581280"/>
              <a:ext cx="1435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6720" y="362736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6360" y="3813120"/>
              <a:ext cx="1442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moothed mark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iew and promo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plans, effici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50040" y="3779640"/>
              <a:ext cx="1436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35720" y="4011480"/>
              <a:ext cx="111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mparison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1760" y="419580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ealized s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6080" y="4381560"/>
              <a:ext cx="164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s. forecast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ntrolled ramp-dow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2520" y="4630680"/>
              <a:ext cx="11480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6400" y="4676760"/>
              <a:ext cx="124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Early pred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68200" y="486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85840" y="5236920"/>
              <a:ext cx="717480" cy="727920"/>
              <a:chOff x="2085840" y="5236920"/>
              <a:chExt cx="717480" cy="72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85840" y="5236920"/>
                <a:ext cx="654120" cy="66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98560" y="586512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122" h="127">
                    <a:moveTo>
                      <a:pt x="0" y="80"/>
                    </a:moveTo>
                    <a:lnTo>
                      <a:pt x="122" y="127"/>
                    </a:lnTo>
                    <a:lnTo>
                      <a:pt x="87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28960" y="4508280"/>
              <a:ext cx="448560" cy="1258200"/>
              <a:chOff x="2928960" y="4508280"/>
              <a:chExt cx="448560" cy="12582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976840" y="4508280"/>
                <a:ext cx="400680" cy="11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28960" y="5663520"/>
                <a:ext cx="96120" cy="1029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0"/>
                    </a:moveTo>
                    <a:lnTo>
                      <a:pt x="21" y="130"/>
                    </a:lnTo>
                    <a:lnTo>
                      <a:pt x="11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46400" y="5759280"/>
              <a:ext cx="5035680" cy="32688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39040" y="5726160"/>
              <a:ext cx="743040" cy="7560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35000" y="3454560"/>
              <a:ext cx="8007480" cy="281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oncept: Product-focused, phased planning 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94000" y="164772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94000" y="5381640"/>
            <a:ext cx="627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2680" y="3476520"/>
            <a:ext cx="1244520" cy="190044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100400"/>
            <a:ext cx="746280" cy="1281240"/>
          </a:xfrm>
          <a:custGeom>
            <a:avLst/>
            <a:gdLst/>
            <a:ahLst/>
            <a:rect l="l" t="t" r="r" b="b"/>
            <a:pathLst>
              <a:path w="434" h="807">
                <a:moveTo>
                  <a:pt x="0" y="807"/>
                </a:moveTo>
                <a:cubicBezTo>
                  <a:pt x="64" y="562"/>
                  <a:pt x="137" y="333"/>
                  <a:pt x="209" y="198"/>
                </a:cubicBezTo>
                <a:cubicBezTo>
                  <a:pt x="281" y="63"/>
                  <a:pt x="387" y="41"/>
                  <a:pt x="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2040" y="401004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609640" y="5324400"/>
            <a:ext cx="228600" cy="495360"/>
          </a:xfrm>
          <a:custGeom>
            <a:avLst/>
            <a:gdLst>
              <a:gd name="textAreaLeft" fmla="*/ 0 w 228600"/>
              <a:gd name="textAreaRight" fmla="*/ 82440 w 2286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1560" y="5702400"/>
            <a:ext cx="7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3558960" y="4870440"/>
            <a:ext cx="228600" cy="1403280"/>
          </a:xfrm>
          <a:custGeom>
            <a:avLst/>
            <a:gdLst>
              <a:gd name="textAreaLeft" fmla="*/ 0 w 228600"/>
              <a:gd name="textAreaRight" fmla="*/ 82440 w 2286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67652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ly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2960" y="446724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9480" y="568656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65320" y="3781440"/>
            <a:ext cx="749520" cy="159552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4840" y="27907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20040" y="56102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3880"/>
            <a:ext cx="123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mulative volume for product (or vari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94560" y="24382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and fore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28880" y="216684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248616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286000"/>
            <a:ext cx="4095720" cy="1757520"/>
          </a:xfrm>
          <a:custGeom>
            <a:avLst/>
            <a:gdLst/>
            <a:ahLst/>
            <a:rect l="l" t="t" r="r" b="b"/>
            <a:pathLst>
              <a:path w="2435" h="1194">
                <a:moveTo>
                  <a:pt x="81" y="1024"/>
                </a:moveTo>
                <a:cubicBezTo>
                  <a:pt x="118" y="1033"/>
                  <a:pt x="0" y="1194"/>
                  <a:pt x="306" y="1081"/>
                </a:cubicBezTo>
                <a:cubicBezTo>
                  <a:pt x="612" y="968"/>
                  <a:pt x="1576" y="508"/>
                  <a:pt x="1916" y="345"/>
                </a:cubicBezTo>
                <a:cubicBezTo>
                  <a:pt x="2256" y="182"/>
                  <a:pt x="2263" y="158"/>
                  <a:pt x="2349" y="101"/>
                </a:cubicBezTo>
                <a:cubicBezTo>
                  <a:pt x="2435" y="44"/>
                  <a:pt x="2416" y="21"/>
                  <a:pt x="2433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14840" y="2279520"/>
            <a:ext cx="3303360" cy="1181160"/>
          </a:xfrm>
          <a:custGeom>
            <a:avLst/>
            <a:gdLst/>
            <a:ahLst/>
            <a:rect l="l" t="t" r="r" b="b"/>
            <a:pathLst>
              <a:path w="1921" h="744">
                <a:moveTo>
                  <a:pt x="0" y="744"/>
                </a:moveTo>
                <a:cubicBezTo>
                  <a:pt x="41" y="727"/>
                  <a:pt x="155" y="677"/>
                  <a:pt x="250" y="646"/>
                </a:cubicBezTo>
                <a:cubicBezTo>
                  <a:pt x="345" y="615"/>
                  <a:pt x="294" y="665"/>
                  <a:pt x="573" y="557"/>
                </a:cubicBezTo>
                <a:cubicBezTo>
                  <a:pt x="852" y="449"/>
                  <a:pt x="1640" y="116"/>
                  <a:pt x="192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8880" y="2486160"/>
            <a:ext cx="14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just plans + pric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540040" y="4292640"/>
            <a:ext cx="228600" cy="255924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59240"/>
              <a:gd name="textAreaBottom" fmla="*/ 2491920 h 255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0"/>
                  <a:pt x="10800" y="1820"/>
                </a:cubicBezTo>
                <a:lnTo>
                  <a:pt x="10800" y="8980"/>
                </a:lnTo>
                <a:cubicBezTo>
                  <a:pt x="10800" y="9890"/>
                  <a:pt x="16200" y="10800"/>
                  <a:pt x="21600" y="10800"/>
                </a:cubicBezTo>
                <a:cubicBezTo>
                  <a:pt x="16200" y="10800"/>
                  <a:pt x="10800" y="11710"/>
                  <a:pt x="10800" y="12620"/>
                </a:cubicBezTo>
                <a:lnTo>
                  <a:pt x="10800" y="19780"/>
                </a:lnTo>
                <a:cubicBezTo>
                  <a:pt x="10800" y="2069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56865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as usu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028960"/>
            <a:ext cx="41256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4240" y="17240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streamlined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3720" y="1724040"/>
            <a:ext cx="660600" cy="561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7149960" y="5194080"/>
            <a:ext cx="228600" cy="660240"/>
          </a:xfrm>
          <a:custGeom>
            <a:avLst/>
            <a:gdLst>
              <a:gd name="textAreaLeft" fmla="*/ 0 w 228600"/>
              <a:gd name="textAreaRight" fmla="*/ 82440 w 22860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5638680"/>
            <a:ext cx="107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4200" y="370512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97280" y="3781440"/>
            <a:ext cx="495360" cy="30492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1520" y="220968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83360" y="13431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end-of-life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800" y="31240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 method for monitoring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38400" y="4114800"/>
            <a:ext cx="173340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9360" y="525780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5320" y="62326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ars in life-cycle plann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228600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Smoothing - A key to better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920520"/>
            <a:ext cx="83818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Taking a simple moving average of the demand improves the demand view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Example: customer sell-through, 4 week smoothin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Smoothing stabilizes the view, and makes data usabl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rect, smoothed visibility to sell-through can be used for e.g. estimating market trends and shares of variable component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680" y="2649600"/>
            <a:ext cx="4982760" cy="2913120"/>
            <a:chOff x="220680" y="2649600"/>
            <a:chExt cx="4982760" cy="2913120"/>
          </a:xfrm>
        </p:grpSpPr>
        <p:sp>
          <p:nvSpPr>
            <p:cNvPr id="210" name=""/>
            <p:cNvSpPr/>
            <p:nvPr/>
          </p:nvSpPr>
          <p:spPr>
            <a:xfrm>
              <a:off x="220680" y="2649600"/>
              <a:ext cx="4982760" cy="291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42840" y="45691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2840" y="42228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42840" y="38833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2840" y="35370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2840" y="319572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284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9160" y="4822920"/>
              <a:ext cx="7884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88360" y="4710240"/>
              <a:ext cx="86040" cy="200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4400" y="4735800"/>
              <a:ext cx="78840" cy="174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53600" y="4556160"/>
              <a:ext cx="80640" cy="3542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4240" y="4695840"/>
              <a:ext cx="856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028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9480" y="4602240"/>
              <a:ext cx="7884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8320" y="4695840"/>
              <a:ext cx="874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6160" y="4295880"/>
              <a:ext cx="78840" cy="6145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5360" y="4643640"/>
              <a:ext cx="8568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31040" y="4683240"/>
              <a:ext cx="8100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2400" y="4762800"/>
              <a:ext cx="78480" cy="147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0880" y="4716720"/>
              <a:ext cx="86040" cy="193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7280" y="4856400"/>
              <a:ext cx="78840" cy="54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6480" y="4029120"/>
              <a:ext cx="87480" cy="881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43960" y="4756320"/>
              <a:ext cx="78480" cy="154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22800" y="4616640"/>
              <a:ext cx="78840" cy="293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2000" y="4829400"/>
              <a:ext cx="874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9840" y="4550040"/>
              <a:ext cx="78840" cy="360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69040" y="4683240"/>
              <a:ext cx="8604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5080" y="4822920"/>
              <a:ext cx="7848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920" y="4623120"/>
              <a:ext cx="81000" cy="287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4920" y="4829400"/>
              <a:ext cx="856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79800" y="4802400"/>
              <a:ext cx="78840" cy="108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9000" y="4602240"/>
              <a:ext cx="8748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6840" y="4768920"/>
              <a:ext cx="78840" cy="141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6040" y="4883400"/>
              <a:ext cx="85680" cy="27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1720" y="4896000"/>
              <a:ext cx="80640" cy="144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4902480"/>
              <a:ext cx="78840" cy="79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71560" y="4876920"/>
              <a:ext cx="8604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960" y="4876920"/>
              <a:ext cx="7848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42840" y="4149720"/>
              <a:ext cx="78840" cy="573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21680" y="3810240"/>
              <a:ext cx="8712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9160" y="4116600"/>
              <a:ext cx="78840" cy="706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360" y="4222800"/>
              <a:ext cx="860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74400" y="3829320"/>
              <a:ext cx="78840" cy="906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3600" y="4043520"/>
              <a:ext cx="80640" cy="512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34240" y="4322880"/>
              <a:ext cx="85680" cy="372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20280" y="4029120"/>
              <a:ext cx="78840" cy="69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99480" y="4003920"/>
              <a:ext cx="78840" cy="598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8320" y="4023000"/>
              <a:ext cx="87480" cy="672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6160" y="3543480"/>
              <a:ext cx="78840" cy="752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45360" y="4322880"/>
              <a:ext cx="85680" cy="320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1040" y="3583080"/>
              <a:ext cx="8100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12400" y="4543560"/>
              <a:ext cx="78480" cy="219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0880" y="4135680"/>
              <a:ext cx="86040" cy="581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7280" y="4456440"/>
              <a:ext cx="7884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6480" y="3549960"/>
              <a:ext cx="87480" cy="479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43960" y="4416480"/>
              <a:ext cx="78480" cy="339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22800" y="3962520"/>
              <a:ext cx="78840" cy="654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02000" y="4422960"/>
              <a:ext cx="87480" cy="406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89840" y="4243680"/>
              <a:ext cx="78840" cy="306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9040" y="4235760"/>
              <a:ext cx="86040" cy="447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55080" y="4489560"/>
              <a:ext cx="78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920" y="4295880"/>
              <a:ext cx="81000" cy="327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14920" y="4402440"/>
              <a:ext cx="8568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9800" y="4335480"/>
              <a:ext cx="78840" cy="466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9000" y="4376880"/>
              <a:ext cx="87480" cy="225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840" y="4422960"/>
              <a:ext cx="7884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26040" y="4322880"/>
              <a:ext cx="856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11720" y="4222800"/>
              <a:ext cx="80640" cy="6732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2360" y="4216680"/>
              <a:ext cx="78840" cy="6858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71560" y="4356360"/>
              <a:ext cx="86040" cy="520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7960" y="4316400"/>
              <a:ext cx="784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6800" y="4402440"/>
              <a:ext cx="87480" cy="507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462560"/>
              <a:ext cx="78840" cy="447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3480" y="4422960"/>
              <a:ext cx="788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82680" y="4523040"/>
              <a:ext cx="8748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05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97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8560" y="4556160"/>
              <a:ext cx="85680" cy="354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14600" y="4510080"/>
              <a:ext cx="80640" cy="400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5240" y="4602240"/>
              <a:ext cx="86040" cy="308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81280" y="4816800"/>
              <a:ext cx="78840" cy="936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31040" y="3362400"/>
              <a:ext cx="81000" cy="2206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2400" y="4383360"/>
              <a:ext cx="78480" cy="160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90880" y="3929400"/>
              <a:ext cx="86040" cy="206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77280" y="4062600"/>
              <a:ext cx="78840" cy="393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56480" y="3262320"/>
              <a:ext cx="87480" cy="287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43960" y="3949920"/>
              <a:ext cx="78480" cy="466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4077000"/>
              <a:ext cx="87480" cy="345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840" y="3883320"/>
              <a:ext cx="7884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9040" y="3829320"/>
              <a:ext cx="86040" cy="4064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5080" y="3762360"/>
              <a:ext cx="78480" cy="727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3920" y="3816360"/>
              <a:ext cx="81000" cy="479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14920" y="3816360"/>
              <a:ext cx="85680" cy="5860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79800" y="3716640"/>
              <a:ext cx="78840" cy="618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59000" y="3776760"/>
              <a:ext cx="87480" cy="600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46840" y="3803760"/>
              <a:ext cx="78840" cy="619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6040" y="3949920"/>
              <a:ext cx="85680" cy="372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1720" y="3837240"/>
              <a:ext cx="80640" cy="385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92360" y="3910320"/>
              <a:ext cx="78840" cy="306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71560" y="3862440"/>
              <a:ext cx="86040" cy="493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960" y="3962520"/>
              <a:ext cx="78480" cy="353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6800" y="3710160"/>
              <a:ext cx="87480" cy="692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24280" y="3676680"/>
              <a:ext cx="78840" cy="785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3480" y="3843360"/>
              <a:ext cx="78840" cy="57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2680" y="4016520"/>
              <a:ext cx="87480" cy="506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0520" y="3876840"/>
              <a:ext cx="78840" cy="606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9720" y="4043520"/>
              <a:ext cx="78840" cy="439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28560" y="3810240"/>
              <a:ext cx="85680" cy="745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4600" y="3970440"/>
              <a:ext cx="80640" cy="539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5240" y="4143600"/>
              <a:ext cx="86040" cy="458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81280" y="4143600"/>
              <a:ext cx="78840" cy="673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2840" y="3962520"/>
              <a:ext cx="78840" cy="187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9160" y="4050000"/>
              <a:ext cx="7884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8360" y="4176720"/>
              <a:ext cx="86040" cy="460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0" y="36626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3600" y="4003920"/>
              <a:ext cx="80640" cy="39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4240" y="3976920"/>
              <a:ext cx="85680" cy="3459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0280" y="38624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9480" y="3922920"/>
              <a:ext cx="78840" cy="810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8320" y="3676680"/>
              <a:ext cx="87480" cy="3463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66160" y="3283200"/>
              <a:ext cx="78840" cy="260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5360" y="431640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31040" y="3356280"/>
              <a:ext cx="8100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7280" y="405612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6480" y="325620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2000" y="4070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69040" y="38228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55080" y="3756240"/>
              <a:ext cx="78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33920" y="3803760"/>
              <a:ext cx="81000" cy="12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4920" y="381024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79800" y="371016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59000" y="377064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1720" y="3822840"/>
              <a:ext cx="80640" cy="144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14600" y="3795840"/>
              <a:ext cx="80640" cy="174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5240" y="4083120"/>
              <a:ext cx="86040" cy="6048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81280" y="4077000"/>
              <a:ext cx="788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21680" y="38037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160" y="404352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8360" y="4168800"/>
              <a:ext cx="860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4400" y="3649680"/>
              <a:ext cx="788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3600" y="3989520"/>
              <a:ext cx="8064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4240" y="39704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0280" y="384984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9480" y="39164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66160" y="3249720"/>
              <a:ext cx="78840" cy="33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45360" y="431028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90880" y="3916440"/>
              <a:ext cx="860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77280" y="405000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6480" y="3243600"/>
              <a:ext cx="87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43960" y="39434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2800" y="394992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02000" y="4062600"/>
              <a:ext cx="874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9040" y="381636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5080" y="3743640"/>
              <a:ext cx="78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33920" y="3795840"/>
              <a:ext cx="8100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14920" y="3795840"/>
              <a:ext cx="8568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6840" y="3795840"/>
              <a:ext cx="788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1720" y="3816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92360" y="39038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960" y="39560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36800" y="370368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24280" y="367056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03480" y="383724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2680" y="40100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70520" y="387036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49720" y="40370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4600" y="3789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42840" y="3429000"/>
              <a:ext cx="7884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21680" y="3462480"/>
              <a:ext cx="87120" cy="341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9160" y="3337200"/>
              <a:ext cx="7884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88360" y="3776760"/>
              <a:ext cx="86040" cy="392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4400" y="3429000"/>
              <a:ext cx="78840" cy="220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3600" y="3436920"/>
              <a:ext cx="80640" cy="552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34240" y="3436920"/>
              <a:ext cx="8568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0280" y="3310200"/>
              <a:ext cx="78840" cy="539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99480" y="3403800"/>
              <a:ext cx="7884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8320" y="3303720"/>
              <a:ext cx="874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45360" y="3356280"/>
              <a:ext cx="85680" cy="954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31040" y="3203640"/>
              <a:ext cx="81000" cy="15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12400" y="3337200"/>
              <a:ext cx="78480" cy="1046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0880" y="3310200"/>
              <a:ext cx="86040" cy="606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7280" y="3670560"/>
              <a:ext cx="78840" cy="379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3960" y="3376800"/>
              <a:ext cx="78480" cy="566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22800" y="34290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2000" y="3476880"/>
              <a:ext cx="87480" cy="5857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89840" y="33624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9040" y="3362400"/>
              <a:ext cx="8604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5080" y="3376800"/>
              <a:ext cx="78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920" y="3316320"/>
              <a:ext cx="81000" cy="479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14920" y="3337200"/>
              <a:ext cx="85680" cy="458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9800" y="3395880"/>
              <a:ext cx="7884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59000" y="3322800"/>
              <a:ext cx="87480" cy="447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6840" y="3395880"/>
              <a:ext cx="78840" cy="399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6040" y="34894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11720" y="3529080"/>
              <a:ext cx="80640" cy="287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2360" y="3510000"/>
              <a:ext cx="7884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71560" y="3422880"/>
              <a:ext cx="86040" cy="439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57960" y="3443400"/>
              <a:ext cx="7848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35320" y="2762280"/>
            <a:ext cx="4713480" cy="2705400"/>
            <a:chOff x="535320" y="2762280"/>
            <a:chExt cx="4713480" cy="2705400"/>
          </a:xfrm>
        </p:grpSpPr>
        <p:sp>
          <p:nvSpPr>
            <p:cNvPr id="411" name=""/>
            <p:cNvSpPr/>
            <p:nvPr/>
          </p:nvSpPr>
          <p:spPr>
            <a:xfrm>
              <a:off x="3800160" y="3408480"/>
              <a:ext cx="87480" cy="3078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88000" y="3382920"/>
              <a:ext cx="78840" cy="300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7200" y="3462480"/>
              <a:ext cx="788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6400" y="3541680"/>
              <a:ext cx="87480" cy="480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3880" y="3589560"/>
              <a:ext cx="78840" cy="293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13080" y="3675240"/>
              <a:ext cx="7884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2280" y="3441600"/>
              <a:ext cx="85680" cy="381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77960" y="3608280"/>
              <a:ext cx="80640" cy="193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58960" y="3835440"/>
              <a:ext cx="86040" cy="260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5000" y="3456000"/>
              <a:ext cx="78840" cy="633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51360" y="3395880"/>
              <a:ext cx="86040" cy="393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19840" y="32497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0732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1844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7280" y="3322800"/>
              <a:ext cx="8100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8280" y="334188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3520" y="3402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22720" y="33289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9400" y="34956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5440" y="3535560"/>
              <a:ext cx="806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5280" y="3429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21320" y="34495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8000" y="3375000"/>
              <a:ext cx="7884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7200" y="3456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35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3880" y="358308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2280" y="343548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7960" y="3595680"/>
              <a:ext cx="806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8960" y="3822840"/>
              <a:ext cx="860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45000" y="344952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584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85040" y="3222720"/>
              <a:ext cx="87120" cy="252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2160" y="3216240"/>
              <a:ext cx="78840" cy="133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1360" y="3216240"/>
              <a:ext cx="86040" cy="179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3776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16960" y="3208320"/>
              <a:ext cx="80640" cy="241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97600" y="322272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3280" y="3216240"/>
              <a:ext cx="7884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62480" y="3229200"/>
              <a:ext cx="7884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41680" y="321624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9520" y="3208320"/>
              <a:ext cx="78840" cy="540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08720" y="3216240"/>
              <a:ext cx="85680" cy="152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75400" y="3222720"/>
              <a:ext cx="7848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54240" y="3222720"/>
              <a:ext cx="8604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40640" y="3235320"/>
              <a:ext cx="78840" cy="447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9840" y="3208320"/>
              <a:ext cx="87480" cy="41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0732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86160" y="3229200"/>
              <a:ext cx="7884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65360" y="3249720"/>
              <a:ext cx="87480" cy="239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53200" y="3235320"/>
              <a:ext cx="7884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2400" y="3216240"/>
              <a:ext cx="860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844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7280" y="3216240"/>
              <a:ext cx="8100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8280" y="3216240"/>
              <a:ext cx="85680" cy="125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3520" y="3229200"/>
              <a:ext cx="7884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22720" y="3222720"/>
              <a:ext cx="87480" cy="106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10200" y="3216240"/>
              <a:ext cx="7884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9400" y="3216240"/>
              <a:ext cx="85680" cy="279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5440" y="3222720"/>
              <a:ext cx="80640" cy="312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56080" y="3229200"/>
              <a:ext cx="78840" cy="293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5280" y="3222720"/>
              <a:ext cx="8604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21320" y="3229200"/>
              <a:ext cx="78480" cy="220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160" y="3216240"/>
              <a:ext cx="8748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8000" y="3216240"/>
              <a:ext cx="788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7200" y="3241800"/>
              <a:ext cx="78840" cy="214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6400" y="3316320"/>
              <a:ext cx="87480" cy="219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3880" y="3416400"/>
              <a:ext cx="788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13080" y="3382920"/>
              <a:ext cx="78840" cy="292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92280" y="3322800"/>
              <a:ext cx="8568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77960" y="3402000"/>
              <a:ext cx="806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58960" y="3441600"/>
              <a:ext cx="86040" cy="381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5000" y="3316320"/>
              <a:ext cx="788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0" y="3216240"/>
              <a:ext cx="78840" cy="25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6400" y="3216240"/>
              <a:ext cx="8748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3880" y="3216240"/>
              <a:ext cx="78840" cy="200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3080" y="3216240"/>
              <a:ext cx="78840" cy="166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2280" y="3216240"/>
              <a:ext cx="85680" cy="106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7960" y="3216240"/>
              <a:ext cx="80640" cy="1857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58960" y="3208320"/>
              <a:ext cx="86040" cy="233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45000" y="3216240"/>
              <a:ext cx="7884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0584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5040" y="3208320"/>
              <a:ext cx="8712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5136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776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7600" y="3208320"/>
              <a:ext cx="856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832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62480" y="3222720"/>
              <a:ext cx="788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4168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872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9440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5400" y="3216240"/>
              <a:ext cx="78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5424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4064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0732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8616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65360" y="3208320"/>
              <a:ext cx="87480" cy="41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5320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240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1844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728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78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352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22720" y="3208320"/>
              <a:ext cx="87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0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8940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5440" y="3208320"/>
              <a:ext cx="806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5608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528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1320" y="3208320"/>
              <a:ext cx="7848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016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8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7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640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38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130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92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7960" y="3208320"/>
              <a:ext cx="806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45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72160" y="3208320"/>
              <a:ext cx="7884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2480" y="3208320"/>
              <a:ext cx="78840" cy="144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75400" y="3208320"/>
              <a:ext cx="7848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5840" y="3208320"/>
              <a:ext cx="1440" cy="171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49230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4581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42354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895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549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208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05840" y="4923000"/>
              <a:ext cx="36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005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0850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172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251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3377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4169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4976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583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624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7416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829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908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9944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075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15424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2406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19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407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486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2565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653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732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818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897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978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6432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43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222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310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389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475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560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635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721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800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8880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67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046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1338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2130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292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77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58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5450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624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6080" y="2762280"/>
              <a:ext cx="238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3720" y="4848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4880" y="45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4880" y="4162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4880" y="382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4880" y="3475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5320" y="31352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900000">
              <a:off x="89676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900000">
              <a:off x="114084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900000">
              <a:off x="13266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900000">
              <a:off x="15724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900000">
              <a:off x="1816560" y="5082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900000">
              <a:off x="20628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900000">
              <a:off x="2315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900000">
              <a:off x="256104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28072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3053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329616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35431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37962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404100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428688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4880" y="53150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e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12040" y="3208320"/>
              <a:ext cx="525960" cy="216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4880" y="3274920"/>
              <a:ext cx="85680" cy="810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76200" y="323532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54520" y="3189240"/>
            <a:ext cx="874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92040" y="314964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54520" y="3368520"/>
            <a:ext cx="874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040" y="332892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54520" y="3549600"/>
            <a:ext cx="874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92040" y="35082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54520" y="3728880"/>
            <a:ext cx="87480" cy="7956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80880" y="3689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54520" y="3908520"/>
            <a:ext cx="87480" cy="8100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80880" y="386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54520" y="4089240"/>
            <a:ext cx="87480" cy="7956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80880" y="40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54520" y="4268880"/>
            <a:ext cx="87480" cy="792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79440" y="422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54520" y="4448160"/>
            <a:ext cx="87480" cy="8100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0880" y="440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54520" y="4629240"/>
            <a:ext cx="87480" cy="7920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80880" y="45896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54520" y="4808520"/>
            <a:ext cx="87480" cy="810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80880" y="47689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54520" y="4989600"/>
            <a:ext cx="87480" cy="7920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80880" y="49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3280" y="2662200"/>
            <a:ext cx="4983120" cy="291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741920" y="3614760"/>
            <a:ext cx="4992120" cy="2847960"/>
            <a:chOff x="4741920" y="3614760"/>
            <a:chExt cx="4992120" cy="2847960"/>
          </a:xfrm>
        </p:grpSpPr>
        <p:sp>
          <p:nvSpPr>
            <p:cNvPr id="635" name=""/>
            <p:cNvSpPr/>
            <p:nvPr/>
          </p:nvSpPr>
          <p:spPr>
            <a:xfrm>
              <a:off x="4741920" y="3614760"/>
              <a:ext cx="4992120" cy="284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64080" y="56419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64080" y="54831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64080" y="531504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64080" y="514836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64080" y="498168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64080" y="482292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64080" y="465444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64080" y="44877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64080" y="432900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64080" y="41623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64080" y="5689440"/>
              <a:ext cx="87480" cy="119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5192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37600" y="5641920"/>
              <a:ext cx="94680" cy="166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32280" y="5595840"/>
              <a:ext cx="8568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8320" y="5595840"/>
              <a:ext cx="8604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4360" y="5556240"/>
              <a:ext cx="87120" cy="252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91840" y="5583240"/>
              <a:ext cx="92880" cy="225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85080" y="5516640"/>
              <a:ext cx="87120" cy="291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72200" y="5508720"/>
              <a:ext cx="86040" cy="299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58600" y="5522760"/>
              <a:ext cx="87480" cy="285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6080" y="5529240"/>
              <a:ext cx="92520" cy="279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38960" y="5602320"/>
              <a:ext cx="87480" cy="206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26800" y="5695920"/>
              <a:ext cx="85680" cy="112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12480" y="5489640"/>
              <a:ext cx="87480" cy="318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0320" y="5549760"/>
              <a:ext cx="92520" cy="258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93200" y="5535720"/>
              <a:ext cx="87480" cy="272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81040" y="5541840"/>
              <a:ext cx="8604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7080" y="5589720"/>
              <a:ext cx="85680" cy="218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52760" y="5562720"/>
              <a:ext cx="94680" cy="245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47800" y="5616720"/>
              <a:ext cx="85680" cy="191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33480" y="5575320"/>
              <a:ext cx="87480" cy="233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132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07360" y="5668920"/>
              <a:ext cx="94320" cy="139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0168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88080" y="5656320"/>
              <a:ext cx="8748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75920" y="5635800"/>
              <a:ext cx="85680" cy="1728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61600" y="5675400"/>
              <a:ext cx="94680" cy="133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5628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41960" y="5769000"/>
              <a:ext cx="87480" cy="39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9800" y="5789520"/>
              <a:ext cx="85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15840" y="5789520"/>
              <a:ext cx="94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10520" y="5796000"/>
              <a:ext cx="8604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96560" y="5796000"/>
              <a:ext cx="8568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2600" y="5802480"/>
              <a:ext cx="87480" cy="61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64080" y="5022720"/>
              <a:ext cx="87480" cy="666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51920" y="4956120"/>
              <a:ext cx="85680" cy="746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7600" y="5008680"/>
              <a:ext cx="94680" cy="633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32280" y="5035680"/>
              <a:ext cx="85680" cy="56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18320" y="4968720"/>
              <a:ext cx="86040" cy="627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04360" y="5002200"/>
              <a:ext cx="8712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1840" y="4995720"/>
              <a:ext cx="92880" cy="587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85080" y="4875120"/>
              <a:ext cx="87120" cy="641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72200" y="4962600"/>
              <a:ext cx="86040" cy="546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58600" y="4881600"/>
              <a:ext cx="87480" cy="641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46080" y="5002200"/>
              <a:ext cx="92520" cy="527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38960" y="5108400"/>
              <a:ext cx="87480" cy="493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6800" y="5202360"/>
              <a:ext cx="85680" cy="493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612480" y="5089680"/>
              <a:ext cx="8748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00320" y="5156280"/>
              <a:ext cx="92520" cy="393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93200" y="5095800"/>
              <a:ext cx="87480" cy="439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81040" y="5102280"/>
              <a:ext cx="8604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67080" y="5195880"/>
              <a:ext cx="85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52760" y="5148360"/>
              <a:ext cx="94680" cy="414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47800" y="5268960"/>
              <a:ext cx="85680" cy="347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33480" y="5241960"/>
              <a:ext cx="87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1320" y="5289480"/>
              <a:ext cx="8604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07360" y="5322960"/>
              <a:ext cx="9432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01680" y="5268960"/>
              <a:ext cx="8604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88080" y="5289480"/>
              <a:ext cx="8748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75920" y="5302080"/>
              <a:ext cx="85680" cy="33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61600" y="5281560"/>
              <a:ext cx="94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56280" y="5248440"/>
              <a:ext cx="85680" cy="453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41960" y="5214960"/>
              <a:ext cx="8748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29800" y="5195880"/>
              <a:ext cx="85680" cy="593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15840" y="5189400"/>
              <a:ext cx="94680" cy="600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10520" y="5241960"/>
              <a:ext cx="8604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6560" y="5315040"/>
              <a:ext cx="85680" cy="480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82600" y="5329080"/>
              <a:ext cx="87480" cy="473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70080" y="5369040"/>
              <a:ext cx="9252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62960" y="5389560"/>
              <a:ext cx="87480" cy="419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50800" y="5396040"/>
              <a:ext cx="85680" cy="412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736480" y="5429160"/>
              <a:ext cx="87480" cy="379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824320" y="5423040"/>
              <a:ext cx="92520" cy="385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7200" y="5450040"/>
              <a:ext cx="87480" cy="358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05040" y="5562720"/>
              <a:ext cx="86040" cy="2458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58600" y="4842000"/>
              <a:ext cx="87480" cy="3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46080" y="4915080"/>
              <a:ext cx="92520" cy="8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8960" y="4989600"/>
              <a:ext cx="87480" cy="1188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6800" y="4923000"/>
              <a:ext cx="85680" cy="279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12480" y="4795920"/>
              <a:ext cx="87480" cy="293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00320" y="4781520"/>
              <a:ext cx="92520" cy="374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93200" y="4808520"/>
              <a:ext cx="8748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81040" y="4815000"/>
              <a:ext cx="8604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67080" y="4896000"/>
              <a:ext cx="85680" cy="299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52760" y="4875120"/>
              <a:ext cx="94680" cy="273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7800" y="4822920"/>
              <a:ext cx="8568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33480" y="4768920"/>
              <a:ext cx="87480" cy="473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21320" y="4741920"/>
              <a:ext cx="8604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07360" y="4735440"/>
              <a:ext cx="94320" cy="587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01680" y="4722840"/>
              <a:ext cx="86040" cy="546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8080" y="4708440"/>
              <a:ext cx="87480" cy="581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5920" y="4708440"/>
              <a:ext cx="85680" cy="593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61600" y="4756320"/>
              <a:ext cx="94680" cy="525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56280" y="4781520"/>
              <a:ext cx="85680" cy="466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1960" y="4815000"/>
              <a:ext cx="87480" cy="399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29800" y="4829040"/>
              <a:ext cx="85680" cy="366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5840" y="4829040"/>
              <a:ext cx="9468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10520" y="4795920"/>
              <a:ext cx="8604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96560" y="4729320"/>
              <a:ext cx="85680" cy="5857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82600" y="4722840"/>
              <a:ext cx="87480" cy="606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70080" y="4741920"/>
              <a:ext cx="92520" cy="62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62960" y="4781520"/>
              <a:ext cx="87480" cy="608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650800" y="4896000"/>
              <a:ext cx="85680" cy="500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36480" y="4881600"/>
              <a:ext cx="8748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24320" y="4869000"/>
              <a:ext cx="92520" cy="554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17200" y="4929120"/>
              <a:ext cx="87480" cy="520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05040" y="4968720"/>
              <a:ext cx="86040" cy="5940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64080" y="4935600"/>
              <a:ext cx="87480" cy="87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51920" y="4889520"/>
              <a:ext cx="8568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37600" y="4929120"/>
              <a:ext cx="94680" cy="79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32280" y="4902120"/>
              <a:ext cx="85680" cy="133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18320" y="4802040"/>
              <a:ext cx="860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04360" y="4869000"/>
              <a:ext cx="87120" cy="133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91840" y="4775040"/>
              <a:ext cx="92880" cy="220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5080" y="4668840"/>
              <a:ext cx="87120" cy="206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72200" y="4802040"/>
              <a:ext cx="86040" cy="160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58600" y="4689360"/>
              <a:ext cx="87480" cy="15264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46080" y="4862520"/>
              <a:ext cx="92520" cy="52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8960" y="4981680"/>
              <a:ext cx="874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26800" y="491508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93200" y="48020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7080" y="488952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2760" y="486900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47800" y="481500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33480" y="47624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21320" y="47354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7360" y="4729320"/>
              <a:ext cx="9432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01680" y="4714920"/>
              <a:ext cx="8604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75920" y="47023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41960" y="4808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29800" y="48229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15840" y="482292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24320" y="4842000"/>
              <a:ext cx="92520" cy="270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17200" y="4889520"/>
              <a:ext cx="87480" cy="39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005040" y="4902120"/>
              <a:ext cx="860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51920" y="4881600"/>
              <a:ext cx="85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37600" y="4923000"/>
              <a:ext cx="94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32280" y="489600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1832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04360" y="486252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91840" y="4768920"/>
              <a:ext cx="928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85080" y="46623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7220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8600" y="4675320"/>
              <a:ext cx="87480" cy="1404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46080" y="4856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38960" y="497520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12480" y="47894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0320" y="4775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93200" y="47959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81040" y="480852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2760" y="4862520"/>
              <a:ext cx="94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47800" y="4808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33480" y="4756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21320" y="4729320"/>
              <a:ext cx="860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07360" y="4722840"/>
              <a:ext cx="943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88080" y="4702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61600" y="4748040"/>
              <a:ext cx="94680" cy="82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56280" y="47750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15840" y="4815000"/>
              <a:ext cx="94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10520" y="478944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96560" y="47228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650800" y="4889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36480" y="487512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824320" y="483552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64080" y="4435560"/>
              <a:ext cx="874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1920" y="4441680"/>
              <a:ext cx="85680" cy="439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7600" y="4441680"/>
              <a:ext cx="94680" cy="481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32280" y="4502160"/>
              <a:ext cx="856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18320" y="4348080"/>
              <a:ext cx="8604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04360" y="4348080"/>
              <a:ext cx="87120" cy="514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91840" y="4314960"/>
              <a:ext cx="9288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5080" y="4287960"/>
              <a:ext cx="8712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72200" y="4295880"/>
              <a:ext cx="86040" cy="493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58600" y="4248000"/>
              <a:ext cx="87480" cy="427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46080" y="4262400"/>
              <a:ext cx="92520" cy="593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38960" y="4268880"/>
              <a:ext cx="8748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6800" y="4429080"/>
              <a:ext cx="85680" cy="486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12480" y="4402080"/>
              <a:ext cx="8748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00320" y="4381560"/>
              <a:ext cx="9252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93200" y="4387680"/>
              <a:ext cx="87480" cy="408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81040" y="4348080"/>
              <a:ext cx="8604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67080" y="4362480"/>
              <a:ext cx="85680" cy="527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52760" y="4362480"/>
              <a:ext cx="946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47800" y="43480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3480" y="4314960"/>
              <a:ext cx="8748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21320" y="4308480"/>
              <a:ext cx="86040" cy="420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07360" y="4308480"/>
              <a:ext cx="94320" cy="414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115600" y="3714840"/>
            <a:ext cx="3977280" cy="2173320"/>
            <a:chOff x="5115600" y="3714840"/>
            <a:chExt cx="3977280" cy="2173320"/>
          </a:xfrm>
        </p:grpSpPr>
        <p:sp>
          <p:nvSpPr>
            <p:cNvPr id="836" name=""/>
            <p:cNvSpPr/>
            <p:nvPr/>
          </p:nvSpPr>
          <p:spPr>
            <a:xfrm>
              <a:off x="7501680" y="4308480"/>
              <a:ext cx="86040" cy="406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88080" y="4308480"/>
              <a:ext cx="874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75920" y="4335480"/>
              <a:ext cx="856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761600" y="4362480"/>
              <a:ext cx="94680" cy="385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56280" y="4402080"/>
              <a:ext cx="856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42320" y="4441680"/>
              <a:ext cx="87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029800" y="4448160"/>
              <a:ext cx="85680" cy="3747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15840" y="4441680"/>
              <a:ext cx="94680" cy="373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10520" y="4402080"/>
              <a:ext cx="860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96560" y="4362480"/>
              <a:ext cx="85680" cy="360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382600" y="4368960"/>
              <a:ext cx="87480" cy="3538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70440" y="4387680"/>
              <a:ext cx="92520" cy="354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62960" y="4429080"/>
              <a:ext cx="87480" cy="352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0800" y="4521240"/>
              <a:ext cx="85680" cy="368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736840" y="4508640"/>
              <a:ext cx="87480" cy="366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24320" y="4521240"/>
              <a:ext cx="9252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17200" y="4581360"/>
              <a:ext cx="87480" cy="308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005040" y="4508640"/>
              <a:ext cx="8604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63720" y="4354560"/>
              <a:ext cx="87480" cy="810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1560" y="4348080"/>
              <a:ext cx="85680" cy="93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37240" y="4341960"/>
              <a:ext cx="94680" cy="9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32280" y="4375080"/>
              <a:ext cx="85680" cy="127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84720" y="4281480"/>
              <a:ext cx="871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12480" y="43959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708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2132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07360" y="4302000"/>
              <a:ext cx="943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0168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75920" y="43290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61600" y="4354560"/>
              <a:ext cx="94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56280" y="439596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2320" y="44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29800" y="444168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15840" y="4435560"/>
              <a:ext cx="94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10520" y="4395960"/>
              <a:ext cx="860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9656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2600" y="436248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470440" y="4381560"/>
              <a:ext cx="9252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562960" y="4421160"/>
              <a:ext cx="874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650800" y="451476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6840" y="450216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4320" y="4514760"/>
              <a:ext cx="925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917200" y="457524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05040" y="450216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463720" y="41688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51560" y="416880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637240" y="4168800"/>
              <a:ext cx="94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2280" y="4168800"/>
              <a:ext cx="8568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17960" y="4168800"/>
              <a:ext cx="8604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04000" y="4175280"/>
              <a:ext cx="8712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91480" y="4168800"/>
              <a:ext cx="92880" cy="146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84720" y="4168800"/>
              <a:ext cx="8712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72200" y="4168800"/>
              <a:ext cx="8604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8240" y="4168800"/>
              <a:ext cx="87480" cy="79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46080" y="4168800"/>
              <a:ext cx="92520" cy="93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8960" y="416880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26800" y="4181400"/>
              <a:ext cx="85680" cy="247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12480" y="4175280"/>
              <a:ext cx="8748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00320" y="4175280"/>
              <a:ext cx="9252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200" y="4175280"/>
              <a:ext cx="8748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80680" y="4181400"/>
              <a:ext cx="860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67080" y="4181400"/>
              <a:ext cx="85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52760" y="4187880"/>
              <a:ext cx="94680" cy="174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7440" y="4181400"/>
              <a:ext cx="8568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3480" y="4175280"/>
              <a:ext cx="8748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21320" y="4168800"/>
              <a:ext cx="860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07360" y="4168800"/>
              <a:ext cx="9432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01680" y="4175280"/>
              <a:ext cx="86040" cy="126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88080" y="4175280"/>
              <a:ext cx="8748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75920" y="4175280"/>
              <a:ext cx="85680" cy="153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1600" y="4175280"/>
              <a:ext cx="94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56280" y="4168800"/>
              <a:ext cx="85680" cy="227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942320" y="4175280"/>
              <a:ext cx="87480" cy="260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29800" y="4175280"/>
              <a:ext cx="85680" cy="266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840" y="4181400"/>
              <a:ext cx="94680" cy="254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210520" y="4175280"/>
              <a:ext cx="8604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96560" y="417528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82600" y="4175280"/>
              <a:ext cx="8748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70440" y="4195800"/>
              <a:ext cx="9252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62960" y="42354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50800" y="428796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736840" y="4302000"/>
              <a:ext cx="87480" cy="200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824320" y="4321080"/>
              <a:ext cx="9252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917200" y="4329000"/>
              <a:ext cx="87480" cy="246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005040" y="4308480"/>
              <a:ext cx="860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2600" y="4168800"/>
              <a:ext cx="87480" cy="64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70440" y="4168800"/>
              <a:ext cx="92520" cy="270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562960" y="4168800"/>
              <a:ext cx="87480" cy="666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50800" y="4168800"/>
              <a:ext cx="85680" cy="119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736840" y="4168800"/>
              <a:ext cx="87480" cy="133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824320" y="4168800"/>
              <a:ext cx="92520" cy="152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17200" y="4168800"/>
              <a:ext cx="87480" cy="160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05040" y="4168800"/>
              <a:ext cx="86040" cy="139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6372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5156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37240" y="4162320"/>
              <a:ext cx="94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2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1796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04000" y="4168800"/>
              <a:ext cx="871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582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4608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38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80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2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0320" y="4162320"/>
              <a:ext cx="9252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9320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80680" y="4162320"/>
              <a:ext cx="8604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708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52760" y="4162320"/>
              <a:ext cx="94680" cy="255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4744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33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2132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7360" y="4162320"/>
              <a:ext cx="943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0168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880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67592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61600" y="4162320"/>
              <a:ext cx="94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856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4232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2980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115840" y="4162320"/>
              <a:ext cx="94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1052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9656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826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7044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62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5080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368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82432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172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0504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0400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91480" y="4162320"/>
              <a:ext cx="9288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8472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2200" y="4162320"/>
              <a:ext cx="8604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63720" y="4162320"/>
              <a:ext cx="1440" cy="164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20520" y="5808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20520" y="5641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20520" y="54831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20520" y="5315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20520" y="5148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20520" y="4981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20520" y="4822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20520" y="46544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20520" y="44877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0520" y="43290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20520" y="4162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63720" y="5808600"/>
              <a:ext cx="362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463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5551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5637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732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8179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040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991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084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172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6258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346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438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6526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612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700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793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880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967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0527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147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233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321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4073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501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88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76759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761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856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7942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8029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8115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82105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296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8382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8470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8562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8650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736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8824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8917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90050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9091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29480" y="3714840"/>
              <a:ext cx="316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oothed 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90120" y="5735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15600" y="5568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15600" y="54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15600" y="5241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15600" y="5075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15600" y="4908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15600" y="4748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15600" y="4581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15600" y="4414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115600" y="4254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041800" y="408780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8900000">
            <a:off x="5378040" y="5914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8900000">
            <a:off x="5587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8900000">
            <a:off x="585396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8900000">
            <a:off x="61135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8900000">
            <a:off x="63817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8900000">
            <a:off x="6648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8900000">
            <a:off x="69166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8900000">
            <a:off x="717624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8900000">
            <a:off x="74430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8900000">
            <a:off x="7711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8900000">
            <a:off x="797076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8900000">
            <a:off x="82393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8900000">
            <a:off x="85060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8900000">
            <a:off x="8772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99360" y="6202440"/>
            <a:ext cx="18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eks (moving average up t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78920" y="4129200"/>
            <a:ext cx="525600" cy="216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221760" y="4195800"/>
            <a:ext cx="85680" cy="7920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358560" y="41544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1760" y="4375080"/>
            <a:ext cx="856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358560" y="433548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221760" y="4554360"/>
            <a:ext cx="856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347400" y="45147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221760" y="4735440"/>
            <a:ext cx="856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347400" y="46958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221760" y="4915080"/>
            <a:ext cx="85680" cy="806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347400" y="4875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221760" y="5095800"/>
            <a:ext cx="85680" cy="7956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221760" y="5275440"/>
            <a:ext cx="85680" cy="8064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221760" y="5456160"/>
            <a:ext cx="85680" cy="79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221760" y="5635800"/>
            <a:ext cx="85680" cy="8064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221760" y="5816520"/>
            <a:ext cx="85680" cy="7956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221760" y="5996160"/>
            <a:ext cx="85680" cy="792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221760" y="6176880"/>
            <a:ext cx="85680" cy="7956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359640" y="61358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41920" y="3614760"/>
            <a:ext cx="4992480" cy="2847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3073320" y="4749840"/>
            <a:ext cx="1447920" cy="23112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1331280 h 2311200"/>
              <a:gd name="textAreaBottom" fmla="*/ 1979640 h 2311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89440" y="5927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There are several other ways to co-operate as we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There are also other types of information that can be shared, and the information may flow from retailer to supplier just as well as from supplier to retailer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arly sales data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business and promotion plan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xception aler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rom a supply chain perspective true utilization of visibility is relatively hard to realize, but there seems to be huge potential benefi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ne size does not fit all. A key is to understand what needs to be planned and managed throughout the chain, why it is important, and - consequently – how to pl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re are few good planning concepts for business with high velocity, no ready product life cycle oriented planning concepts availab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nderstanding of roles across the Supply Chain seems to be essential for practical creation and utilization of visibilit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906120" cy="685476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5880" y="284292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need for planning and forecasting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ing and planning are needed to “translate” business decisions to appropriate action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"/>
          <p:cNvSpPr/>
          <p:nvPr/>
        </p:nvSpPr>
        <p:spPr>
          <a:xfrm>
            <a:off x="775440" y="2183760"/>
            <a:ext cx="2664360" cy="118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rtmen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10360" y="2856600"/>
            <a:ext cx="2895480" cy="145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entory management and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duction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urchasing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10200" y="2855880"/>
            <a:ext cx="132048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3"/>
            <a:endCxn id="58" idx="1"/>
          </p:cNvCxnSpPr>
          <p:nvPr/>
        </p:nvCxnSpPr>
        <p:spPr>
          <a:xfrm>
            <a:off x="3344760" y="2774880"/>
            <a:ext cx="866160" cy="372240"/>
          </a:xfrm>
          <a:prstGeom prst="bentConnector3">
            <a:avLst>
              <a:gd name="adj1" fmla="val 49896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" name=""/>
          <p:cNvCxnSpPr>
            <a:stCxn id="58" idx="3"/>
            <a:endCxn id="57" idx="1"/>
          </p:cNvCxnSpPr>
          <p:nvPr/>
        </p:nvCxnSpPr>
        <p:spPr>
          <a:xfrm>
            <a:off x="5530680" y="3146040"/>
            <a:ext cx="680400" cy="437400"/>
          </a:xfrm>
          <a:prstGeom prst="bentConnector3">
            <a:avLst>
              <a:gd name="adj1" fmla="val 4997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" name=""/>
          <p:cNvSpPr/>
          <p:nvPr/>
        </p:nvSpPr>
        <p:spPr>
          <a:xfrm>
            <a:off x="768240" y="43434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s are needed in every stage of the ch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EM: production, inventory, sourcing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istributor and retailer: purchasing and inventory management; shelf management; categ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ore operations: parameters for automatic orde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5360" y="6400800"/>
            <a:ext cx="48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Collaborative forecasting in practice ( Johanna Småros, T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What is “End-to-End” visibility?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685960"/>
            <a:ext cx="7694640" cy="34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Use efficiently and share with your suppliers the real demand and market trend inform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eacting proactively to changes downstream in the Supply Chain improve everyone´s performance, and benefits the whol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Analogy to driving on highway. You slow down or speed up when you see cars way ahead of you slowing down or speeding u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Concretely, visibility is seeing what´s going on volume-wise, mix-wise and otherwise, and using and sharing that for better busines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"/>
          <p:cNvSpPr/>
          <p:nvPr/>
        </p:nvSpPr>
        <p:spPr>
          <a:xfrm>
            <a:off x="7564320" y="1797120"/>
            <a:ext cx="1333440" cy="664200"/>
          </a:xfrm>
          <a:prstGeom prst="leftArrow">
            <a:avLst>
              <a:gd name="adj1" fmla="val 51741"/>
              <a:gd name="adj2" fmla="val 50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71520" y="181764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95480" y="180648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89640" y="1817640"/>
            <a:ext cx="134460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41960" y="1817640"/>
            <a:ext cx="1343160" cy="56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 from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74800" y="1214280"/>
            <a:ext cx="8586720" cy="5353560"/>
            <a:chOff x="874800" y="1214280"/>
            <a:chExt cx="8586720" cy="5353560"/>
          </a:xfrm>
        </p:grpSpPr>
        <p:sp>
          <p:nvSpPr>
            <p:cNvPr id="72" name=""/>
            <p:cNvSpPr/>
            <p:nvPr/>
          </p:nvSpPr>
          <p:spPr>
            <a:xfrm>
              <a:off x="3514680" y="2031840"/>
              <a:ext cx="3151080" cy="2387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22800" y="1214280"/>
              <a:ext cx="3503160" cy="7380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2880" y="4637160"/>
              <a:ext cx="3068640" cy="19306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4800" y="4572000"/>
              <a:ext cx="2965320" cy="165636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Projec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 Project - Fundamen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0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Nokia Sans Wide"/>
              </a:rPr>
              <a:t>study project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o study and clarify the principles of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tting up and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ownstream information in Demand-Supply Network management to improve the network efficiency end-to-en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alized as collaborative project includ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lcoteq Network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okia Mobile Phones &amp; Nokia Business Infrastructu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erlos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lected Mobile Operators (2pc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AI Research Institut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</a:t>
            </a: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 Project - E2E Visibility Defini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1195200"/>
            <a:ext cx="87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f this project is on demand visibility and utilization of it in the upstream D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5040" y="1841400"/>
            <a:ext cx="8764560" cy="4243680"/>
            <a:chOff x="635040" y="1841400"/>
            <a:chExt cx="8764560" cy="4243680"/>
          </a:xfrm>
        </p:grpSpPr>
        <p:grpSp>
          <p:nvGrpSpPr>
            <p:cNvPr id="83" name=""/>
            <p:cNvGrpSpPr/>
            <p:nvPr/>
          </p:nvGrpSpPr>
          <p:grpSpPr>
            <a:xfrm>
              <a:off x="2463840" y="4584240"/>
              <a:ext cx="1599840" cy="1013040"/>
              <a:chOff x="2463840" y="4584240"/>
              <a:chExt cx="1599840" cy="1013040"/>
            </a:xfrm>
          </p:grpSpPr>
          <p:graphicFrame>
            <p:nvGraphicFramePr>
              <p:cNvPr id="84" name=""/>
              <p:cNvGraphicFramePr/>
              <p:nvPr/>
            </p:nvGraphicFramePr>
            <p:xfrm>
              <a:off x="2463840" y="4584240"/>
              <a:ext cx="1561320" cy="62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63840" y="4584240"/>
                        <a:ext cx="156132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" name=""/>
              <p:cNvSpPr/>
              <p:nvPr/>
            </p:nvSpPr>
            <p:spPr>
              <a:xfrm>
                <a:off x="2463840" y="5284440"/>
                <a:ext cx="1599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Factory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416720" y="4584240"/>
              <a:ext cx="1447920" cy="1293840"/>
              <a:chOff x="7416720" y="4584240"/>
              <a:chExt cx="1447920" cy="129384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7416720" y="4584240"/>
              <a:ext cx="1428840" cy="587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416720" y="4584240"/>
                        <a:ext cx="142884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7491240" y="5346360"/>
                <a:ext cx="13734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-of-S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892840" y="4584240"/>
              <a:ext cx="1371600" cy="1231920"/>
              <a:chOff x="5892840" y="4584240"/>
              <a:chExt cx="1371600" cy="123192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5892840" y="4584240"/>
              <a:ext cx="1338480" cy="62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92840" y="4584240"/>
                        <a:ext cx="133848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" name=""/>
              <p:cNvSpPr/>
              <p:nvPr/>
            </p:nvSpPr>
            <p:spPr>
              <a:xfrm>
                <a:off x="5892840" y="5284440"/>
                <a:ext cx="13716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Trade 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140000" y="4517640"/>
              <a:ext cx="1371600" cy="1079640"/>
              <a:chOff x="4140000" y="4517640"/>
              <a:chExt cx="1371600" cy="107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40000" y="5284440"/>
                <a:ext cx="1371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N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40000" y="4517640"/>
                <a:ext cx="1371600" cy="75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"/>
            <p:cNvGrpSpPr/>
            <p:nvPr/>
          </p:nvGrpSpPr>
          <p:grpSpPr>
            <a:xfrm>
              <a:off x="635040" y="4279680"/>
              <a:ext cx="1447560" cy="1302840"/>
              <a:chOff x="635040" y="4279680"/>
              <a:chExt cx="1447560" cy="1302840"/>
            </a:xfrm>
          </p:grpSpPr>
          <p:pic>
            <p:nvPicPr>
              <p:cNvPr id="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39600" y="4279680"/>
                <a:ext cx="113472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635040" y="5269680"/>
                <a:ext cx="1447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pplier</a:t>
                </a: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1" name=""/>
            <p:cNvCxnSpPr>
              <a:stCxn id="97" idx="0"/>
            </p:cNvCxnSpPr>
            <p:nvPr/>
          </p:nvCxnSpPr>
          <p:spPr>
            <a:xfrm rot="5400000">
              <a:off x="4001400" y="3760200"/>
              <a:ext cx="66960" cy="1581840"/>
            </a:xfrm>
            <a:prstGeom prst="bentConnector3">
              <a:avLst>
                <a:gd name="adj1" fmla="val -3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>
              <a:endCxn id="97" idx="0"/>
            </p:cNvCxnSpPr>
            <p:nvPr/>
          </p:nvCxnSpPr>
          <p:spPr>
            <a:xfrm flipV="1" rot="16200000">
              <a:off x="5660640" y="3681720"/>
              <a:ext cx="66960" cy="1737720"/>
            </a:xfrm>
            <a:prstGeom prst="bentConnector3">
              <a:avLst>
                <a:gd name="adj1" fmla="val 4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>
              <a:stCxn id="99" idx="0"/>
            </p:cNvCxnSpPr>
            <p:nvPr/>
          </p:nvCxnSpPr>
          <p:spPr>
            <a:xfrm flipH="1" rot="16200000">
              <a:off x="4667040" y="1119240"/>
              <a:ext cx="304920" cy="6623640"/>
            </a:xfrm>
            <a:prstGeom prst="bentConnector3">
              <a:avLst>
                <a:gd name="adj1" fmla="val -74940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4" name=""/>
            <p:cNvSpPr/>
            <p:nvPr/>
          </p:nvSpPr>
          <p:spPr>
            <a:xfrm>
              <a:off x="6883200" y="1841400"/>
              <a:ext cx="2516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ht collection of channel data, POS information, other market 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17760" y="1841400"/>
              <a:ext cx="2284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olidation, sharing and usage of downstream visibilit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01720" y="1841400"/>
              <a:ext cx="2286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tilization of demand data upstream for production, forecasting, and replenish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06840" y="3593880"/>
              <a:ext cx="33526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2240" y="3593880"/>
              <a:ext cx="434340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68800" y="3669840"/>
              <a:ext cx="30574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5" idx="2"/>
              <a:endCxn id="107" idx="0"/>
            </p:cNvCxnSpPr>
            <p:nvPr/>
          </p:nvCxnSpPr>
          <p:spPr>
            <a:xfrm flipH="1">
              <a:off x="5283000" y="3031920"/>
              <a:ext cx="76680" cy="5623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2"/>
              <a:endCxn id="108" idx="0"/>
            </p:cNvCxnSpPr>
            <p:nvPr/>
          </p:nvCxnSpPr>
          <p:spPr>
            <a:xfrm>
              <a:off x="2844720" y="3306240"/>
              <a:ext cx="419760" cy="28764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9" idx="0"/>
            </p:cNvCxnSpPr>
            <p:nvPr/>
          </p:nvCxnSpPr>
          <p:spPr>
            <a:xfrm flipH="1">
              <a:off x="7497360" y="2815560"/>
              <a:ext cx="645120" cy="8542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387520" y="5925960"/>
              <a:ext cx="5715000" cy="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4160" y="5799600"/>
              <a:ext cx="10022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91360" y="579960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s drive E2E Concept crea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17" name=""/>
          <p:cNvSpPr/>
          <p:nvPr/>
        </p:nvSpPr>
        <p:spPr>
          <a:xfrm>
            <a:off x="5662440" y="917640"/>
            <a:ext cx="3908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Procee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Benchmar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urrent Stat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rocess mapping E2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ncept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il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evelopment roadmap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  <a:ea typeface="Arial"/>
              </a:rPr>
              <a:t>Concept elements are selected and developed based on following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needed to achieve E2E vi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bring tangible business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suitable to use in mobile phone business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1800" y="1474920"/>
            <a:ext cx="5046840" cy="3931200"/>
            <a:chOff x="361800" y="1474920"/>
            <a:chExt cx="5046840" cy="3931200"/>
          </a:xfrm>
        </p:grpSpPr>
        <p:sp>
          <p:nvSpPr>
            <p:cNvPr id="119" name=""/>
            <p:cNvSpPr/>
            <p:nvPr/>
          </p:nvSpPr>
          <p:spPr>
            <a:xfrm>
              <a:off x="1913400" y="2036880"/>
              <a:ext cx="1851840" cy="1826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8600" y="1474920"/>
              <a:ext cx="2504880" cy="543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029840"/>
              <a:ext cx="180360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800" y="3979800"/>
              <a:ext cx="174204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Findings and Concep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9:21:19Z</dcterms:created>
  <dc:creator>Aki Laiho</dc:creator>
  <dc:description>Nokia Standard Presentation Template - A4
v. 6 2002/06/12 Juhani Pitkänen
Nokia Corporate Fonts
Provided by: NBI\IMS\ITP\CP\Office Platforms
NBI Owner:  Eric Beasley</dc:description>
  <cp:keywords/>
  <dc:language>en-US</dc:language>
  <cp:lastModifiedBy>.</cp:lastModifiedBy>
  <cp:lastPrinted>2000-03-20T15:35:04Z</cp:lastPrinted>
  <dcterms:modified xsi:type="dcterms:W3CDTF">2006-10-25T02:43:41Z</dcterms:modified>
  <cp:revision>36</cp:revision>
  <dc:subject/>
  <dc:title>New PowerPoint Template</dc:title>
</cp:coreProperties>
</file>