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18F-8C77-478C-BF91-0CAE8D3B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EA1-4587-43E9-BDE8-BFF65FC7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80E-257A-4C2E-AAD1-82DB1AC9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A4A-AA9D-42CE-A504-4E4F4087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74D-34B8-4FA5-A640-CDD5A7E5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C94-7FFC-4559-B32C-EE44D8EB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6A6-7347-48F3-86F1-4B8E50B1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17C-B8FF-41F3-B597-BA1A390C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AA0-B577-45BB-8D0C-0F6B60ED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F92-D5FC-475A-A647-DDDF4E88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5AF-F19B-4F3D-8FE6-EE2F022D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852-F978-419D-995F-5E60EC59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2757-8AE7-4BEB-8CC6-85D06A949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is de Cas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75T Dirección de Ope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empresa planea la introducción de una nueva tecnología para el uso de energía solar a nivel domicilia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 tecnología tiene beneficios económicos de largo plazo para los clientes, aunque implica inversiones a los clientes en el corto plaz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icionalmente requiere de capacidades técnicas para instalar y mantener el equipamiento, que no están disponibles en Chile en el volumen suficiente para soportar un uso mas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les pide hacer un análisis cualitativo estratégico de este posible proyecto desde la perspectiva del diseño de su modelo operacional (El análisis cuantitativo lo dejaremos pendiente a pedido de uste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é elementos debería considerar en el diseño de su cadena de valor para asegurar una introducción exito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les son las claves para el negocio resul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omo estructuraría el modelo de oper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Qué barreras pueden existir al desarrollo de la estrateg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Debe orientarse la cadena a la eficiencia o a la respues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30:30Z</dcterms:created>
  <dc:creator>.</dc:creator>
  <dc:description/>
  <dc:language>en-US</dc:language>
  <cp:lastModifiedBy>.</cp:lastModifiedBy>
  <dcterms:modified xsi:type="dcterms:W3CDTF">2006-11-14T19:38:25Z</dcterms:modified>
  <cp:revision>3</cp:revision>
  <dc:subject/>
  <dc:title>Análisis de Caso 2</dc:title>
</cp:coreProperties>
</file>