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55.png" ContentType="image/png"/>
  <Override PartName="/ppt/media/image14.wmf" ContentType="image/x-wmf"/>
  <Override PartName="/ppt/media/image22.jpeg" ContentType="image/jpeg"/>
  <Override PartName="/ppt/media/image39.png" ContentType="image/png"/>
  <Override PartName="/ppt/media/image42.wmf" ContentType="image/x-wmf"/>
  <Override PartName="/ppt/media/image15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27.png" ContentType="image/png"/>
  <Override PartName="/ppt/media/image30.wmf" ContentType="image/x-wmf"/>
  <Override PartName="/ppt/media/image35.wmf" ContentType="image/x-wmf"/>
  <Override PartName="/ppt/media/image36.wmf" ContentType="image/x-wmf"/>
  <Override PartName="/ppt/media/image20.png" ContentType="image/png"/>
  <Override PartName="/ppt/media/image38.wmf" ContentType="image/x-wmf"/>
  <Override PartName="/ppt/media/image40.png" ContentType="image/png"/>
  <Override PartName="/ppt/media/image9.jpeg" ContentType="image/jpeg"/>
  <Override PartName="/ppt/media/image43.png" ContentType="image/png"/>
  <Override PartName="/ppt/media/image45.png" ContentType="image/png"/>
  <Override PartName="/ppt/media/image28.wmf" ContentType="image/x-wmf"/>
  <Override PartName="/ppt/media/image46.png" ContentType="image/png"/>
  <Override PartName="/ppt/media/image7.jpeg" ContentType="image/jpeg"/>
  <Override PartName="/ppt/media/image31.wmf" ContentType="image/x-wmf"/>
  <Override PartName="/ppt/media/image37.wmf" ContentType="image/x-wmf"/>
  <Override PartName="/ppt/media/image49.wmf" ContentType="image/x-wmf"/>
  <Override PartName="/ppt/media/image51.png" ContentType="image/png"/>
  <Override PartName="/ppt/media/image34.wmf" ContentType="image/x-wmf"/>
  <Override PartName="/ppt/media/image41.png" ContentType="image/png"/>
  <Override PartName="/ppt/media/image52.wmf" ContentType="image/x-wmf"/>
  <Override PartName="/ppt/media/image53.wmf" ContentType="image/x-wmf"/>
  <Override PartName="/ppt/media/image32.wmf" ContentType="image/x-wmf"/>
  <Override PartName="/ppt/media/image54.wmf" ContentType="image/x-wmf"/>
  <Override PartName="/ppt/media/image10.jpeg" ContentType="image/jpeg"/>
  <Override PartName="/ppt/media/image8.jpeg" ContentType="image/jpeg"/>
  <Override PartName="/ppt/media/image48.wmf" ContentType="image/x-wmf"/>
  <Override PartName="/ppt/media/image5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F6F02B-9239-49DC-B491-9509D2C67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343977-82E8-447E-882E-E57FCC028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21F99C-D941-4C60-9DC6-DB4C712CF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3DE4-2EC1-4A14-BC83-79FE8D9B0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2.wmf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2.wmf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ubr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1200" y="1365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6920" y="14367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6920" y="14367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72360" y="170028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5488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8992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63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74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0260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99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21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24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27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30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33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36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50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51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62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096400" y="129240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411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99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5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5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9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7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9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28600" y="1562040"/>
          <a:ext cx="8591400" cy="502776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plan estratégico d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Engel, D. Kollat, R. Blackwell, Consumer Behavior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 las necesidades a través de la 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l atractivo del mercado de referenc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Construyendo diferenciación de marcas en una época de paridad de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desarrollo para el lanzamiento de nuevos product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Posi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 elección de una estrategia de marke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Nunes, B. Johnson, Are some customers more equal than other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What is a strong brand?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Price, costs and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s decisiones estratégicas de comun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58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59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1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y cada uno de ellos con al menos 3 integrantes y máximo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tres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9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1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l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92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3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:45 – 09:50 Discusión acció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:50 – 10:15 Presentación Equip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15 – 10:30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30 – 10:55 Presentación Equip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55 – 11:20 Presentación Equip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20 – 11:45 Presentación Equi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603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04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6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14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5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7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26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8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324480" cy="10321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–10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6b61"/>
                </a:solidFill>
                <a:latin typeface="Arial"/>
              </a:rPr>
              <a:t>ANALYSE AND IDENTIFY MAR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14920" y="494172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981080" y="1893960"/>
            <a:ext cx="4724280" cy="4257720"/>
            <a:chOff x="1981080" y="1893960"/>
            <a:chExt cx="4724280" cy="4257720"/>
          </a:xfrm>
        </p:grpSpPr>
        <p:sp>
          <p:nvSpPr>
            <p:cNvPr id="638" name=""/>
            <p:cNvSpPr/>
            <p:nvPr/>
          </p:nvSpPr>
          <p:spPr>
            <a:xfrm>
              <a:off x="2317320" y="5971680"/>
              <a:ext cx="4388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240" y="2104200"/>
              <a:ext cx="105336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81080" y="1893960"/>
              <a:ext cx="4395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85480" y="2114280"/>
              <a:ext cx="10382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State requirements and prefer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5484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1940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9152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17680" y="2104200"/>
              <a:ext cx="105516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63560" y="210420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90160" y="570816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17680" y="5727240"/>
              <a:ext cx="105516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56000" y="570816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54040" y="2114280"/>
              <a:ext cx="969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current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16160" y="189396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98840" y="2114280"/>
              <a:ext cx="9741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current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40800" y="1893960"/>
              <a:ext cx="4363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32640" y="5785200"/>
              <a:ext cx="95904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alyse total mark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58720" y="5735160"/>
              <a:ext cx="9626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 Shell-preferred segmen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7360" y="5716440"/>
              <a:ext cx="10605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 customer opportuniti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82880" y="4344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01320" y="4344840"/>
              <a:ext cx="58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h dimens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14640" y="444420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 total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82880" y="4570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18600" y="4570920"/>
              <a:ext cx="36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ke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07800" y="467208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12480" y="4773600"/>
              <a:ext cx="315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982880" y="4900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11040" y="490032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optimu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07800" y="500148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12480" y="510408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82880" y="5231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08520" y="5231160"/>
              <a:ext cx="51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curr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00960" y="533268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ize of seg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15080" y="280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38920" y="280152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marke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40720" y="290268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ix by 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15080" y="302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9640" y="302940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competi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36040" y="313056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ket share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1800" y="323316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15080" y="3359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46120" y="335988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34960" y="3461400"/>
              <a:ext cx="58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strength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24520" y="356256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weaknesse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41800" y="36637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15080" y="379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38200" y="379044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ecast grow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39640" y="389160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spe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15080" y="4018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39640" y="4018320"/>
              <a:ext cx="51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35680" y="4119840"/>
              <a:ext cx="57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otential by 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15080" y="4246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47920" y="424692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competitiv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45760" y="4347720"/>
              <a:ext cx="25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en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5080" y="4474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31000" y="4474800"/>
              <a:ext cx="57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threa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45400" y="457740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15080" y="4702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38560" y="4702680"/>
              <a:ext cx="361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ynthesi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43600" y="480564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posi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42520" y="4906800"/>
              <a:ext cx="36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34600" y="500940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ttractivenes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41800" y="511056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115080" y="5235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38560" y="5235840"/>
              <a:ext cx="46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lect preferr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38920" y="5338800"/>
              <a:ext cx="33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50520" y="4598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380120" y="459828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78320" y="4699440"/>
              <a:ext cx="45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61040" y="480240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rease busines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382280" y="4903560"/>
              <a:ext cx="39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om exis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73640" y="500472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50520" y="5133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380120" y="513324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375080" y="523260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 to g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69320" y="533556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w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752480" y="1836720"/>
            <a:ext cx="5257800" cy="4716360"/>
          </a:xfrm>
          <a:prstGeom prst="rect">
            <a:avLst/>
          </a:prstGeom>
          <a:noFill/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400800" cy="10321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–12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6b61"/>
                </a:solidFill>
                <a:latin typeface="Arial"/>
              </a:rPr>
              <a:t>DEVELOP MARKETING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576680" y="2111400"/>
            <a:ext cx="2826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0" i="1" lang="es-ES" sz="500" spc="-1" strike="noStrike">
                <a:solidFill>
                  <a:srgbClr val="000000"/>
                </a:solidFill>
                <a:latin typeface="Arial"/>
              </a:rPr>
              <a:t>C1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38680" y="2117880"/>
            <a:ext cx="2826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0" i="1" lang="es-ES" sz="500" spc="-1" strike="noStrike">
                <a:solidFill>
                  <a:srgbClr val="000000"/>
                </a:solidFill>
                <a:latin typeface="Arial"/>
              </a:rPr>
              <a:t>C0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514600" y="1914480"/>
            <a:ext cx="4724280" cy="4173840"/>
            <a:chOff x="2514600" y="1914480"/>
            <a:chExt cx="4724280" cy="4173840"/>
          </a:xfrm>
        </p:grpSpPr>
        <p:sp>
          <p:nvSpPr>
            <p:cNvPr id="719" name=""/>
            <p:cNvSpPr/>
            <p:nvPr/>
          </p:nvSpPr>
          <p:spPr>
            <a:xfrm>
              <a:off x="2514600" y="5930280"/>
              <a:ext cx="4724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66840" y="5413680"/>
              <a:ext cx="3621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99240" y="5413680"/>
              <a:ext cx="3607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41720" y="56638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41720" y="19144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87800" y="5663880"/>
              <a:ext cx="86472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95360" y="19144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22720" y="1920960"/>
              <a:ext cx="8035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act to marketing infra-structure pla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41720" y="1920960"/>
              <a:ext cx="8571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proposed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34160" y="5670360"/>
              <a:ext cx="8737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velop marketing proposi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78080" y="5670360"/>
              <a:ext cx="87480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velop marketing infrastruc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65760" y="2652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75920" y="265608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08840" y="2656080"/>
              <a:ext cx="37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 cos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76640" y="2759760"/>
              <a:ext cx="29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gi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65760" y="2887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062600" y="2887920"/>
              <a:ext cx="42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ssess br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72680" y="299160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65760" y="3121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70160" y="3121560"/>
              <a:ext cx="55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promo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5760" y="325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66560" y="325296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71960" y="3356640"/>
              <a:ext cx="47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pport mater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65760" y="348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76640" y="348516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pric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68360" y="3588840"/>
              <a:ext cx="341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65760" y="371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62600" y="371844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card strate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73400" y="382212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r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5760" y="3952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60800" y="395388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associat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065840" y="405720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/brand suppor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71240" y="416088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65760" y="4287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69080" y="428760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fine stand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65480" y="439128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 and 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78080" y="4497840"/>
              <a:ext cx="283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 trad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65760" y="4626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64760" y="462636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72320" y="473328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-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71240" y="4836960"/>
              <a:ext cx="35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84200" y="4938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168440" y="493884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65760" y="506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66920" y="506844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sure third par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64400" y="517212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 br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74480" y="527724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pos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01400" y="460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97520" y="460152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sales-for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06880" y="4705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01400" y="483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09040" y="4836960"/>
              <a:ext cx="34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outl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09040" y="493884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twork/distribu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99320" y="5043960"/>
              <a:ext cx="42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rrang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01400" y="517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07600" y="51721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distribu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011560" y="527724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2286000" y="1523880"/>
            <a:ext cx="5486400" cy="4876920"/>
          </a:xfrm>
          <a:prstGeom prst="rect">
            <a:avLst/>
          </a:prstGeom>
          <a:noFill/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20920" y="46080"/>
            <a:ext cx="4698720" cy="209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marL="857160" indent="0">
              <a:lnSpc>
                <a:spcPct val="10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–3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6b61"/>
                </a:solidFill>
                <a:latin typeface="Arial"/>
              </a:rPr>
              <a:t>SELL TO CUSTOM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60520" y="357120"/>
            <a:ext cx="505764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463760" y="6738840"/>
            <a:ext cx="504504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472080" y="6738840"/>
            <a:ext cx="125100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564240" y="361800"/>
            <a:ext cx="115092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471680" y="347760"/>
            <a:ext cx="0" cy="637524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488960" y="382680"/>
            <a:ext cx="6225840" cy="6305400"/>
            <a:chOff x="1488960" y="382680"/>
            <a:chExt cx="6225840" cy="6305400"/>
          </a:xfrm>
        </p:grpSpPr>
        <p:sp>
          <p:nvSpPr>
            <p:cNvPr id="784" name=""/>
            <p:cNvSpPr/>
            <p:nvPr/>
          </p:nvSpPr>
          <p:spPr>
            <a:xfrm>
              <a:off x="4870080" y="60310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ff87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5" name=""/>
            <p:cNvGraphicFramePr/>
            <p:nvPr/>
          </p:nvGraphicFramePr>
          <p:xfrm>
            <a:off x="4860360" y="6389640"/>
            <a:ext cx="632880" cy="298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0360" y="6389640"/>
                      <a:ext cx="63288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7" name=""/>
            <p:cNvSpPr/>
            <p:nvPr/>
          </p:nvSpPr>
          <p:spPr>
            <a:xfrm>
              <a:off x="4656960" y="4084560"/>
              <a:ext cx="1090080" cy="1681560"/>
            </a:xfrm>
            <a:custGeom>
              <a:avLst/>
              <a:gdLst/>
              <a:ahLst/>
              <a:rect l="l" t="t" r="r" b="b"/>
              <a:pathLst>
                <a:path w="1116" h="1589">
                  <a:moveTo>
                    <a:pt x="0" y="0"/>
                  </a:moveTo>
                  <a:lnTo>
                    <a:pt x="165" y="0"/>
                  </a:lnTo>
                  <a:lnTo>
                    <a:pt x="165" y="1582"/>
                  </a:lnTo>
                  <a:lnTo>
                    <a:pt x="931" y="1588"/>
                  </a:lnTo>
                  <a:lnTo>
                    <a:pt x="931" y="0"/>
                  </a:lnTo>
                  <a:lnTo>
                    <a:pt x="1115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42000" y="5580000"/>
              <a:ext cx="6984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99680" y="3516120"/>
              <a:ext cx="299880" cy="441360"/>
            </a:xfrm>
            <a:custGeom>
              <a:avLst/>
              <a:gdLst/>
              <a:ahLst/>
              <a:rect l="l" t="t" r="r" b="b"/>
              <a:pathLst>
                <a:path w="307" h="417">
                  <a:moveTo>
                    <a:pt x="0" y="0"/>
                  </a:moveTo>
                  <a:lnTo>
                    <a:pt x="123" y="0"/>
                  </a:lnTo>
                  <a:lnTo>
                    <a:pt x="123" y="416"/>
                  </a:lnTo>
                  <a:lnTo>
                    <a:pt x="306" y="416"/>
                  </a:lnTo>
                  <a:lnTo>
                    <a:pt x="210" y="416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43920" y="3951000"/>
              <a:ext cx="407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696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896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088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85748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87440" y="334260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0988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36960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99560" y="3771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488960" y="3524760"/>
              <a:ext cx="1204560" cy="420120"/>
            </a:xfrm>
            <a:custGeom>
              <a:avLst/>
              <a:gdLst/>
              <a:ahLst/>
              <a:rect l="l" t="t" r="r" b="b"/>
              <a:pathLst>
                <a:path w="1233" h="397">
                  <a:moveTo>
                    <a:pt x="0" y="396"/>
                  </a:moveTo>
                  <a:lnTo>
                    <a:pt x="1087" y="396"/>
                  </a:lnTo>
                  <a:lnTo>
                    <a:pt x="1087" y="0"/>
                  </a:lnTo>
                  <a:lnTo>
                    <a:pt x="1232" y="0"/>
                  </a:lnTo>
                  <a:lnTo>
                    <a:pt x="1224" y="3"/>
                  </a:lnTo>
                  <a:lnTo>
                    <a:pt x="120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33840" y="3771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06400" y="33332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127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6432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845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5412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869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790880" y="32115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547960" y="3196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51352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28644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1832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76256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956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9544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4172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551920" y="4161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94480" y="6405480"/>
              <a:ext cx="2286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P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00600" y="545292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32840" y="3837960"/>
              <a:ext cx="4741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lan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05400" y="3837960"/>
              <a:ext cx="460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426480" y="378396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Imple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15520" y="3829320"/>
              <a:ext cx="62028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ake 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generate ord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54640" y="3354120"/>
              <a:ext cx="576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Find potent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ustomers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37280" y="335772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Negoti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87720" y="3357720"/>
              <a:ext cx="6051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e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d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ffering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144320" y="336384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pportuniti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43720" y="3349080"/>
              <a:ext cx="6051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e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d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ffering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626080" y="3875040"/>
              <a:ext cx="63864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vide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27680" y="5646600"/>
              <a:ext cx="519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spense 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44920" y="1748880"/>
              <a:ext cx="5641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Indic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30440" y="1792440"/>
              <a:ext cx="53352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gree 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109040" y="1748880"/>
              <a:ext cx="649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dvise stoc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nd place ord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14360" y="1756440"/>
              <a:ext cx="57168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Take deliver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from 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52080" y="1745640"/>
              <a:ext cx="3963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77720" y="6051960"/>
              <a:ext cx="457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spen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duct 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802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886760" y="4242240"/>
              <a:ext cx="60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sales foreca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888200" y="4308840"/>
              <a:ext cx="594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volume and price)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66960" y="4375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51200" y="4375800"/>
              <a:ext cx="49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 (group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66960" y="444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40760" y="444348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866960" y="4510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41120" y="4510080"/>
              <a:ext cx="28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rito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80200" y="459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67680" y="4593600"/>
              <a:ext cx="175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45440" y="459360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imate expect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870920" y="4660200"/>
              <a:ext cx="23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80200" y="474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885680" y="474372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epare opera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75600" y="4810680"/>
              <a:ext cx="33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 pla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80200" y="4894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78480" y="4894200"/>
              <a:ext cx="43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individ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78840" y="496080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867680" y="5028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36800" y="50288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PI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80200" y="5111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876320" y="5111280"/>
              <a:ext cx="36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us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77040" y="517896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76320" y="5245560"/>
              <a:ext cx="35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867680" y="53121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37520" y="5312160"/>
              <a:ext cx="22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PIT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5236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20080" y="4242240"/>
              <a:ext cx="37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just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619000" y="4308840"/>
              <a:ext cx="341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523600" y="439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16480" y="439236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25480" y="4459320"/>
              <a:ext cx="46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utlet/distribu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626560" y="4525920"/>
              <a:ext cx="51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886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94080" y="424224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391560" y="430884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 agreement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82200" y="43758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75360" y="444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55280" y="4443480"/>
              <a:ext cx="41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48080" y="45100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76080" y="457668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48440" y="457668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88600" y="4644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90120" y="464436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intain 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95160" y="471132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375360" y="4777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59600" y="477756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term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59600" y="4845600"/>
              <a:ext cx="48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cept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5360" y="4912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56000" y="4912200"/>
              <a:ext cx="40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 suppor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52400" y="4979880"/>
              <a:ext cx="33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376080" y="5046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48440" y="504684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88600" y="5113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94080" y="511308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87240" y="51811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-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95160" y="524772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5360" y="53143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9600" y="531432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term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49880" y="538200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27720" y="53820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376080" y="544860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48440" y="544860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88600" y="5532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390120" y="553248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t up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81840" y="559908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88600" y="5682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95880" y="5682600"/>
              <a:ext cx="59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79680" y="5749560"/>
              <a:ext cx="239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375360" y="5815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0320" y="5815800"/>
              <a:ext cx="50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ssue card(s)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53480" y="5883840"/>
              <a:ext cx="37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IN mail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375360" y="5950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52760" y="5950440"/>
              <a:ext cx="35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olen/lost/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58160" y="601812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amaged car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375360" y="6084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59960" y="608472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gotton PIN n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288600" y="616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90480" y="616860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HSE dat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88600" y="6251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92280" y="6251040"/>
              <a:ext cx="53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ssess contrac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88320" y="631872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isk (hedging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068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09400" y="424224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utomati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09400" y="430884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 gener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06800" y="439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11920" y="4392360"/>
              <a:ext cx="55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eive sales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06800" y="447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05080" y="447516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ept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93560" y="4542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77080" y="4542840"/>
              <a:ext cx="49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093560" y="4609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78520" y="460944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credit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68440" y="4677480"/>
              <a:ext cx="32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limi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3560" y="4743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75640" y="474372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vailab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093560" y="48106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176720" y="481068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distribu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70600" y="4878360"/>
              <a:ext cx="35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093560" y="49449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176720" y="494496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destin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93560" y="5011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77440" y="501156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mit to 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93560" y="5079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75280" y="5079240"/>
              <a:ext cx="444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 adv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68080" y="514620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93560" y="5212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75280" y="5212800"/>
              <a:ext cx="44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uthoris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06800" y="5296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09760" y="529632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est adv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00760" y="53629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06800" y="5446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12280" y="544644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order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97880" y="551340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06800" y="5596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11560" y="559692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price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06800" y="568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05440" y="56804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04360" y="5747400"/>
              <a:ext cx="37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mend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06800" y="5830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10840" y="583092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ake action to fulfi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98240" y="5897520"/>
              <a:ext cx="23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93560" y="5965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65560" y="5965200"/>
              <a:ext cx="248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uy 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93560" y="6031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64840" y="60318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93560" y="6098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168800" y="609876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trib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30440" y="2111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39880" y="2111760"/>
              <a:ext cx="60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arget customer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635920" y="217836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nd out sales inf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30440" y="226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37360" y="226224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llow up contacts &amp;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35920" y="232884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ind customers, in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618280" y="2396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699280" y="2396520"/>
              <a:ext cx="44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isit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18280" y="2471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703600" y="247176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alogue marke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618280" y="25426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04680" y="2542680"/>
              <a:ext cx="56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ding opportun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30440" y="261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37000" y="2613600"/>
              <a:ext cx="568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customer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25120" y="2680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18280" y="27478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703960" y="2747880"/>
              <a:ext cx="53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ing thei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04680" y="2814480"/>
              <a:ext cx="55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irements/profi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0440" y="2898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33760" y="289836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26200" y="296496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qui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30440" y="3048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36280" y="3048480"/>
              <a:ext cx="54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ck contacts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26200" y="3115080"/>
              <a:ext cx="32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94360" y="2280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00920" y="228024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 detail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401280" y="23479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 and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94440" y="24145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94360" y="2498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97320" y="2498040"/>
              <a:ext cx="48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gotiate term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95160" y="2565000"/>
              <a:ext cx="43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dition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94080" y="263160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 leve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294360" y="2715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95880" y="271512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xplore furt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394440" y="278172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89400" y="28494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382200" y="29163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65720" y="2916360"/>
              <a:ext cx="51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7080" y="2982960"/>
              <a:ext cx="30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82200" y="3049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65360" y="304956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vise on 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64640" y="3117240"/>
              <a:ext cx="32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12560" y="243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15160" y="243252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ek new ord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114440" y="2500200"/>
              <a:ext cx="46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proactive)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99320" y="256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73840" y="2567160"/>
              <a:ext cx="31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le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12560" y="2650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120200" y="265068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courage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20200" y="271728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o consider expan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20560" y="2783880"/>
              <a:ext cx="59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s (reactive)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99320" y="2850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82480" y="285048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re or differ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73120" y="291852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99320" y="2984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82840" y="298476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promo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99320" y="3051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77080" y="3051720"/>
              <a:ext cx="506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fer special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79240" y="311940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 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3224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5512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99384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26480" y="874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633040" y="87444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quest 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26200" y="94140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rom 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26480" y="1024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32680" y="102492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and asses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29440" y="1091520"/>
              <a:ext cx="47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information fro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20800" y="115956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26480" y="12420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31960" y="124200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Handle 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20800" y="130968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26480" y="139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33400" y="13921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engage or agre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26560" y="145980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urther ac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69880" y="52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71040" y="522360"/>
              <a:ext cx="45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detail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69600" y="58896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269880" y="672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84360" y="668520"/>
              <a:ext cx="59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termine acceptab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62040" y="7390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9880" y="822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74640" y="822600"/>
              <a:ext cx="51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egotiate contra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62040" y="88956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57720" y="956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34400" y="956160"/>
              <a:ext cx="336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ndard 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70560" y="956160"/>
              <a:ext cx="22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38000" y="1023840"/>
              <a:ext cx="43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nd 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357720" y="1090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428640" y="10904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357720" y="11574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431520" y="115740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57720" y="1225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432240" y="1225080"/>
              <a:ext cx="30636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69880" y="1307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75360" y="138996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uthorise 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63840" y="145764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08600" y="1004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111200" y="100476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dvise supplier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04000" y="1072440"/>
              <a:ext cx="35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ock leve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008600" y="1155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09040" y="115524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lace order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09400" y="1222920"/>
              <a:ext cx="45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oduct/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08600" y="1305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13360" y="1305360"/>
              <a:ext cx="53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se order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08600" y="138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05800" y="1389240"/>
              <a:ext cx="37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Query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08600" y="1472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08320" y="1472760"/>
              <a:ext cx="41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ng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794120" y="382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898520" y="382680"/>
              <a:ext cx="52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acceptab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87720" y="449280"/>
              <a:ext cx="28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794120" y="525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894920" y="525240"/>
              <a:ext cx="43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889520" y="59220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vailab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794120" y="675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92040" y="67572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98080" y="75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99600" y="759240"/>
              <a:ext cx="54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to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798080" y="842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888440" y="842040"/>
              <a:ext cx="309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lect 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01920" y="842040"/>
              <a:ext cx="361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in 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890600" y="90972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94120" y="993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896360" y="99324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lect subsidia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890960" y="1059840"/>
              <a:ext cx="51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oduct or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94120" y="114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88080" y="1143720"/>
              <a:ext cx="39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Use facil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794120" y="1225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893480" y="122580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 for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798080" y="1309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94200" y="1309680"/>
              <a:ext cx="433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ccept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543280" y="1015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647320" y="101556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epare to receiv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635800" y="10821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43280" y="1165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644440" y="1165680"/>
              <a:ext cx="47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543280" y="1248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648760" y="124812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nfirm that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639400" y="1315800"/>
              <a:ext cx="367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is comple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43280" y="139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48760" y="139860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mplain or reject i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640480" y="146628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ot satisfi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800960" y="2753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907520" y="275328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00680" y="2819880"/>
              <a:ext cx="40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888800" y="2887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963680" y="288756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uch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88800" y="2954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963320" y="29545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ee gif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888800" y="3022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967640" y="302220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off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00960" y="3104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906440" y="3104640"/>
              <a:ext cx="542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551200" y="243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70360" y="242532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63520" y="2491560"/>
              <a:ext cx="40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651640" y="2559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27960" y="255960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uch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651640" y="2626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27240" y="262620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ee gif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51640" y="2692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31560" y="269280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off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51640" y="2760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20760" y="2760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79800" y="27608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mote value-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34440" y="282708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ed 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651640" y="28940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33720" y="2894040"/>
              <a:ext cx="42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mote ot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726880" y="296172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51200" y="3051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68200" y="304416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omplai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62440" y="3112200"/>
              <a:ext cx="37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que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806720" y="4245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14000" y="4245480"/>
              <a:ext cx="57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nd authori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12920" y="431316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06720" y="43959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911840" y="439596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pture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98880" y="4463640"/>
              <a:ext cx="25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ai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06720" y="4546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912560" y="4546080"/>
              <a:ext cx="536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ny retur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806720" y="4629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913280" y="4629600"/>
              <a:ext cx="548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payment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911120" y="469620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/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06720" y="4779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09680" y="477972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HSE dat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806720" y="486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12200" y="4862520"/>
              <a:ext cx="534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erate outlet site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01400" y="4930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94560" y="4996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976640" y="499680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plenish non-oi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69440" y="5063400"/>
              <a:ext cx="30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94560" y="5131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80240" y="513108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summary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78080" y="519804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transac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795920" y="5270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904280" y="5270760"/>
              <a:ext cx="62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omplain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888800" y="534636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550120" y="4240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680800" y="424008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679720" y="4306680"/>
              <a:ext cx="49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664600" y="43736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748840" y="437364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ical 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50120" y="4457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682600" y="4457160"/>
              <a:ext cx="55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ommerc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85120" y="452376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oad transport (CRT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674680" y="459036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550120" y="4673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675040" y="4673880"/>
              <a:ext cx="39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fle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674680" y="474084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550120" y="4824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682960" y="482436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oint of sa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682960" y="489096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POS) services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64600" y="49590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47760" y="4959000"/>
              <a:ext cx="46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messag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664600" y="5025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48840" y="502524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IN change fac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797720" y="1564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534280" y="1564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373200" y="130644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mmit to contract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263040" y="1391040"/>
              <a:ext cx="224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94120" y="139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07160" y="1389240"/>
              <a:ext cx="6372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ccept promotional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HSE mater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 flipH="1">
            <a:off x="2459160" y="436680"/>
            <a:ext cx="505296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2468160" y="6735600"/>
            <a:ext cx="503892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502400" y="439560"/>
            <a:ext cx="0" cy="629928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1484280" y="6735600"/>
            <a:ext cx="93816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1517400" y="439560"/>
            <a:ext cx="87948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444320" y="119160"/>
            <a:ext cx="4699080" cy="209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marL="857160" indent="0">
              <a:lnSpc>
                <a:spcPct val="10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–3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6b61"/>
                </a:solidFill>
                <a:latin typeface="Arial"/>
              </a:rPr>
              <a:t>SELL TO CUSTOMER (cont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494000" y="639720"/>
            <a:ext cx="5725440" cy="5770800"/>
            <a:chOff x="1494000" y="639720"/>
            <a:chExt cx="5725440" cy="5770800"/>
          </a:xfrm>
        </p:grpSpPr>
        <p:sp>
          <p:nvSpPr>
            <p:cNvPr id="1195" name=""/>
            <p:cNvSpPr/>
            <p:nvPr/>
          </p:nvSpPr>
          <p:spPr>
            <a:xfrm>
              <a:off x="1494000" y="3931560"/>
              <a:ext cx="5529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00320" y="372960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39760" y="3726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00320" y="325872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319280" y="325656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60108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2612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8140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86056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811840" y="16174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073480" y="1617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329000" y="16174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57720" y="313272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27960" y="313380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397040" y="3277800"/>
              <a:ext cx="5166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vi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ion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921280" y="3279960"/>
              <a:ext cx="4312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latio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57000" y="1729440"/>
              <a:ext cx="50616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Pay invo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848560" y="1729440"/>
              <a:ext cx="60048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Verify accou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340160" y="1729440"/>
              <a:ext cx="65088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ceive invo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61720" y="3794040"/>
              <a:ext cx="469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02600" y="3748320"/>
              <a:ext cx="4694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sell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ettle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352760" y="3794040"/>
              <a:ext cx="618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quest 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ke 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12440" y="3794040"/>
              <a:ext cx="4100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33880" y="3796200"/>
              <a:ext cx="4053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00796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596640" y="374760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3480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6744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3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0584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53484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6636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08680" y="4089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735520" y="4080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66680" y="4080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5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007960" y="1233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105160" y="1233360"/>
              <a:ext cx="37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007960" y="1316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109480" y="131688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transf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07960" y="1400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08400" y="1400400"/>
              <a:ext cx="42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37680" y="877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39920" y="877680"/>
              <a:ext cx="48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833440" y="94536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37680" y="1028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35240" y="102816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ac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13520" y="1028160"/>
              <a:ext cx="184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833440" y="109584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37680" y="1178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835240" y="117828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pute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35600" y="124596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crepa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37680" y="1328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843880" y="1328400"/>
              <a:ext cx="57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egotiate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21920" y="1396080"/>
              <a:ext cx="42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f any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01084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16680" y="4199400"/>
              <a:ext cx="568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eive payment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97960" y="42660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68520" y="4266000"/>
              <a:ext cx="22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97960" y="4332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171040" y="433260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qu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97960" y="44002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74280" y="440028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it c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97960" y="44668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66360" y="4466880"/>
              <a:ext cx="16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228280" y="44668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c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097960" y="453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77520" y="453348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nk transf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097960" y="4601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74280" y="4601160"/>
              <a:ext cx="336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nk draf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097960" y="46681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0320" y="4668120"/>
              <a:ext cx="263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fse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10840" y="4751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11640" y="475164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firm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0840" y="4834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112360" y="483444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gister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010840" y="49179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112000" y="4917960"/>
              <a:ext cx="45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vert foreig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105520" y="4984560"/>
              <a:ext cx="309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rre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010840" y="5068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115600" y="506808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ch and alloca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113080" y="5135760"/>
              <a:ext cx="48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 again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104440" y="520236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98680" y="52689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169240" y="5268960"/>
              <a:ext cx="244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F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4056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43160" y="419940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h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32360" y="4266000"/>
              <a:ext cx="25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40560" y="4349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42080" y="4349520"/>
              <a:ext cx="43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nsfer inter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845680" y="441612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any accou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40560" y="4499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43520" y="4499640"/>
              <a:ext cx="48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status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831640" y="45666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40560" y="4650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848200" y="4650120"/>
              <a:ext cx="59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llow up payment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839560" y="47167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on-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40560" y="4800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41360" y="4800600"/>
              <a:ext cx="43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deb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839560" y="486684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40560" y="4950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44240" y="495072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42080" y="5016960"/>
              <a:ext cx="46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 within th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37400" y="5085000"/>
              <a:ext cx="35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40560" y="5167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846760" y="516744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agre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838840" y="523512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with resell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40560" y="5317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843160" y="5317920"/>
              <a:ext cx="48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ccount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845320" y="538560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lated 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841000" y="5452200"/>
              <a:ext cx="431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827680" y="5518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909760" y="551880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27680" y="5586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05800" y="5586480"/>
              <a:ext cx="38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t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47244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575040" y="419940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gregate ac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563160" y="4266000"/>
              <a:ext cx="23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472440" y="4349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571800" y="434952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actua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576120" y="441612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ainst target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580800" y="4483080"/>
              <a:ext cx="59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ket, customer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65680" y="455076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59200" y="46173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32280" y="46173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559200" y="46839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37680" y="4683960"/>
              <a:ext cx="37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/reba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59200" y="47516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32280" y="4751640"/>
              <a:ext cx="26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g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59200" y="4818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38400" y="481824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 leve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72440" y="490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74680" y="4902120"/>
              <a:ext cx="50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individ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71080" y="496872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59920" y="50349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30120" y="5034960"/>
              <a:ext cx="23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MI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72440" y="5118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572160" y="511884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us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569280" y="518652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68560" y="5253120"/>
              <a:ext cx="35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59920" y="532008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630840" y="5320080"/>
              <a:ext cx="22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MIT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72440" y="540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79720" y="5403600"/>
              <a:ext cx="60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deviation fro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62080" y="5470200"/>
              <a:ext cx="20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472440" y="555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563160" y="555372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579720" y="5620320"/>
              <a:ext cx="582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ommendation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571080" y="568800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mprov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63840" y="639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63920" y="63972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63840" y="722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365000" y="722160"/>
              <a:ext cx="47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atch invoice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356720" y="78984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363920" y="856440"/>
              <a:ext cx="44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63840" y="940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52040" y="940320"/>
              <a:ext cx="184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37000" y="94032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ch invoice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62480" y="1006920"/>
              <a:ext cx="40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iginal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63840" y="109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66440" y="109044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ice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57440" y="115704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263840" y="1240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59600" y="124056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Query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361400" y="130752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crepa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263840" y="1390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367880" y="139068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uthorise 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832120" y="4202640"/>
              <a:ext cx="653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product and service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809080" y="4285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14920" y="428508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firm delivery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02680" y="43527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809080" y="4435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917080" y="443520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ote amendments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03040" y="450288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809080" y="4585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916360" y="458532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 returns mad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809080" y="4669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912040" y="4669200"/>
              <a:ext cx="46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ck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914920" y="4735800"/>
              <a:ext cx="536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iner invento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809080" y="4819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907360" y="481932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914560" y="488628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alculate valu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16360" y="495396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livered product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902680" y="50205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896920" y="508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969280" y="5087160"/>
              <a:ext cx="26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96920" y="5154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0800" y="515484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971440" y="522144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96920" y="52880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81880" y="528804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b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71080" y="535608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24920" y="543960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card account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09080" y="5522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907360" y="552204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14560" y="558972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alculate valu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910240" y="5656320"/>
              <a:ext cx="433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896920" y="57229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980800" y="572292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 transac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96920" y="5790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980800" y="579060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971440" y="585756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896920" y="5924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81880" y="592416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b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080" y="599184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825640" y="607428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card acquirer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09080" y="6157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000" y="6157800"/>
              <a:ext cx="57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value to b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13840" y="6224760"/>
              <a:ext cx="51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laimed from c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04120" y="6292440"/>
              <a:ext cx="295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38800" y="4202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45000" y="420264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633120" y="426924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26640" y="4335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697560" y="43358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626640" y="4403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09440" y="4403520"/>
              <a:ext cx="48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701160" y="447012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626640" y="4536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700800" y="4536720"/>
              <a:ext cx="29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705120" y="460476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just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270320" y="4202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68600" y="4202640"/>
              <a:ext cx="41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ustomer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270320" y="4285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71480" y="4285080"/>
              <a:ext cx="48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ard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270320" y="436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372200" y="4368600"/>
              <a:ext cx="48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ard 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57800" y="445212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70320" y="4534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69320" y="4534920"/>
              <a:ext cx="42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redi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76520" y="4602600"/>
              <a:ext cx="58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ocument (self-bill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363560" y="466920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voice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70320" y="4752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73280" y="475272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 payment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77240" y="4819320"/>
              <a:ext cx="588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seller/distributor vi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7080" y="48862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34840" y="488628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dit bank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31240" y="495396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357080" y="5020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30520" y="502056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qu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357080" y="508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35560" y="5087160"/>
              <a:ext cx="387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dit goo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31240" y="515484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359960" y="5237280"/>
              <a:ext cx="207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l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70320" y="5320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374360" y="5320800"/>
              <a:ext cx="521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query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357080" y="5388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436280" y="538848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voice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57080" y="5455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36640" y="54554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29080" y="552204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7080" y="5589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442760" y="5589720"/>
              <a:ext cx="52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 back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57080" y="56563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435200" y="565632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30520" y="572292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269600" y="281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75440" y="2818440"/>
              <a:ext cx="56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other 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64640" y="2885040"/>
              <a:ext cx="33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financial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69600" y="2968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76160" y="2968560"/>
              <a:ext cx="58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nd out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374360" y="3035160"/>
              <a:ext cx="562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 with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747760" y="264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51800" y="264924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ct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747760" y="2731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847480" y="273168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isit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747760" y="2815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47120" y="2815200"/>
              <a:ext cx="41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ter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842440" y="2881800"/>
              <a:ext cx="30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n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747760" y="2965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850720" y="296532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843160" y="303228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qui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30280" y="18223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628640"/>
            <a:ext cx="1228680" cy="38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43200" y="1593720"/>
            <a:ext cx="1181160" cy="45720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593720"/>
            <a:ext cx="117144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tuación Futur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Visió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1628640"/>
            <a:ext cx="1171440" cy="4572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29440" y="1593720"/>
            <a:ext cx="1171440" cy="4572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lan de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89960" y="1593720"/>
            <a:ext cx="11714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nitor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80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o de un Plan de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25760" y="2206800"/>
            <a:ext cx="13716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Situación de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Análisis 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Análisis F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68720" y="2206800"/>
            <a:ext cx="1371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ecimiento de los 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ción de las 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7520" y="2206800"/>
            <a:ext cx="13716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o/benef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nog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 esp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os humanos neces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56360" y="2206800"/>
            <a:ext cx="1371600" cy="1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ción de 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ización de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85200" y="2206800"/>
            <a:ext cx="13716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36920" y="99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0001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205000"/>
            <a:ext cx="108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os: RRHH, información, TI, fuentes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z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4267080" cy="295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</cp:lastModifiedBy>
  <cp:lastPrinted>2000-05-08T17:12:16Z</cp:lastPrinted>
  <dcterms:modified xsi:type="dcterms:W3CDTF">2006-09-29T11:04:07Z</dcterms:modified>
  <cp:revision>453</cp:revision>
  <dc:subject/>
  <dc:title>UCAD Call Centre Transition Plan</dc:title>
</cp:coreProperties>
</file>