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image7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08D-58F1-4E7D-AB85-9CAC03A7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095-8C71-4561-B75B-DC2A942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510-0E6E-416D-9A46-B603CF3F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247-7485-42EA-B84F-A21CEE2C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0846-8ACA-4284-B67D-C82A22D3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C557-E4F8-491E-87BE-A480D37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BA84-5C08-4614-9ABF-2D17F804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6E0D-140B-4925-9110-6BD16A8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D31-E716-43FA-B86E-107123D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6834-EA23-4023-81BE-52ED73BF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DC69-6AF8-4D9C-9643-8EB6BB9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2BF-C477-4F3E-9243-2E547341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869F-F67D-4767-A546-44AA31D8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EA8-7C7E-41BE-BF35-1442C92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197D-871D-43FF-B3B7-91F31EA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65B6-0F2D-4E28-8294-0B6B6AF0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1BBE-863A-49AB-B937-F1D3A92D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B05-3CCB-48BF-A9FF-C5787E9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A04-D01B-4AE2-BC91-D97E702B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FCB-3438-48E9-8E02-D4A969E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FFE-E83F-4C7A-A718-FF10C8CF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AE1-4258-40CD-BAB3-038D77C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D53-9F34-4735-9A9A-DBFCAC6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112-28DA-496B-81B1-908FB91E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DFCB-C7A3-440F-97B2-6B205BAEC9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8D9A-9F35-4F25-9978-E06BCC973B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39600"/>
            <a:ext cx="9144000" cy="692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93680" y="1584360"/>
            <a:ext cx="3478320" cy="155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6000" y="1484280"/>
            <a:ext cx="313704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16000" y="4265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20000" y="4437000"/>
            <a:ext cx="2016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Magdalena Carra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Oscar La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gela Lóp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Juan Naran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Ana Cecilia Pil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  <a:ea typeface="Tahoma"/>
              </a:rPr>
              <a:t>Regis Ramí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00360" y="3068640"/>
            <a:ext cx="31906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997440" y="429408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MARKETING RE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08000" y="6262560"/>
            <a:ext cx="3311640" cy="479520"/>
            <a:chOff x="108000" y="6262560"/>
            <a:chExt cx="3311640" cy="479520"/>
          </a:xfrm>
        </p:grpSpPr>
        <p:sp>
          <p:nvSpPr>
            <p:cNvPr id="229" name=""/>
            <p:cNvSpPr/>
            <p:nvPr/>
          </p:nvSpPr>
          <p:spPr>
            <a:xfrm>
              <a:off x="10800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836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8720" y="65498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63100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476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800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6836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20720" y="62625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8440" y="65498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528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. CHILENAS TOTALES Y DE SALMÓ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160" y="20620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0620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79640" y="2187720"/>
            <a:ext cx="5638680" cy="3257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03280" y="14130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  <a:ea typeface="Tahoma"/>
              </a:rPr>
              <a:t>2005: 39,536 millones v/s 1,721 millones USD FOB 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73272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020000" y="6524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6334200"/>
            <a:ext cx="3311640" cy="479520"/>
            <a:chOff x="108000" y="6334200"/>
            <a:chExt cx="3311640" cy="479520"/>
          </a:xfrm>
        </p:grpSpPr>
        <p:sp>
          <p:nvSpPr>
            <p:cNvPr id="24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728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0720" y="633420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CALIZACIÓN INDUSTRIA SALMONER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920" y="16444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59640" y="6453360"/>
            <a:ext cx="353880" cy="3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020000" y="649764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79280" y="1382760"/>
          <a:ext cx="5832720" cy="4494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382760"/>
                    <a:ext cx="583272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083280" y="1809720"/>
            <a:ext cx="295272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Existen 30 empresas productoras y comercializadoras de salmón y trucha. El 95% concentrado en la X y el 5% en la XI Regió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Tahoma"/>
                <a:ea typeface="Tahoma"/>
              </a:rPr>
              <a:t>Hay alrededor de 200 empresas proveedoras o relacionadas a la industr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66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98560" y="170028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776240"/>
            <a:ext cx="79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2349360"/>
            <a:ext cx="2879640" cy="273528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JETIV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4797360"/>
            <a:ext cx="136872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ac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3280" y="1413000"/>
            <a:ext cx="129528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trategi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a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484280"/>
            <a:ext cx="1224000" cy="100800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oposi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 v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941720"/>
            <a:ext cx="1224000" cy="1008360"/>
          </a:xfrm>
          <a:prstGeom prst="ellipse">
            <a:avLst/>
          </a:prstGeom>
          <a:solidFill>
            <a:srgbClr val="ffcc00">
              <a:alpha val="4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98920" y="2349360"/>
            <a:ext cx="64908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842920" y="4653000"/>
            <a:ext cx="576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4510080"/>
            <a:ext cx="64944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651280" y="2349360"/>
            <a:ext cx="71892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29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TIVOS PLAN DE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325520"/>
            <a:ext cx="79200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ntitativos a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Ventas estimadas - $ 12,500,000 pesos mens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50 unidades en arrie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Rentabilidad de los flujos no menor a un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bjetivos Cualit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ducar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a los clientes 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Hacer de RELSA una marca reconocida 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- Ofrecer un servicio innovador sin abandonar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la oferta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Capacitar a los ejecutivos de nego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- Lograr las primeras ventas embl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1773360"/>
            <a:ext cx="8064360" cy="12952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3645000"/>
            <a:ext cx="8064360" cy="2305080"/>
          </a:xfrm>
          <a:prstGeom prst="rect">
            <a:avLst/>
          </a:prstGeom>
          <a:solidFill>
            <a:srgbClr val="ff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08000" y="6308640"/>
            <a:ext cx="2951280" cy="479520"/>
            <a:chOff x="108000" y="6308640"/>
            <a:chExt cx="2951280" cy="479520"/>
          </a:xfrm>
        </p:grpSpPr>
        <p:grpSp>
          <p:nvGrpSpPr>
            <p:cNvPr id="313" name=""/>
            <p:cNvGrpSpPr/>
            <p:nvPr/>
          </p:nvGrpSpPr>
          <p:grpSpPr>
            <a:xfrm>
              <a:off x="108000" y="6308640"/>
              <a:ext cx="2879640" cy="479520"/>
              <a:chOff x="108000" y="6308640"/>
              <a:chExt cx="2879640" cy="479520"/>
            </a:xfrm>
          </p:grpSpPr>
          <p:sp>
            <p:nvSpPr>
              <p:cNvPr id="314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4764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0800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800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Estrateg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39640" y="4762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CIONES ASOC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5640" y="15238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17002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6560" y="1565280"/>
            <a:ext cx="82821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harlas edu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studios de fact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atálogo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oyarse en Salmón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vestigar las empresas del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ratar ejecutiv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ciones 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557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2205000"/>
            <a:ext cx="511164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81360"/>
            <a:ext cx="511164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3357720"/>
            <a:ext cx="518508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360" y="3933720"/>
            <a:ext cx="51832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6560" y="4581360"/>
            <a:ext cx="5185080" cy="43200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5229360"/>
            <a:ext cx="5184720" cy="431640"/>
          </a:xfrm>
          <a:prstGeom prst="rect">
            <a:avLst/>
          </a:prstGeom>
          <a:solidFill>
            <a:srgbClr val="ffcc00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07836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41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620640"/>
            <a:ext cx="7129080" cy="6857640"/>
            <a:chOff x="971640" y="620640"/>
            <a:chExt cx="7129080" cy="6857640"/>
          </a:xfrm>
        </p:grpSpPr>
        <p:pic>
          <p:nvPicPr>
            <p:cNvPr id="35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971640" y="620640"/>
              <a:ext cx="712908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76960" y="4811400"/>
              <a:ext cx="341100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6920" y="2708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1052640"/>
            <a:ext cx="8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i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1197000"/>
            <a:ext cx="9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pal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26920" y="227664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274920" y="4292640"/>
          <a:ext cx="2592360" cy="174924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Flota Pr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77,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62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63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OFERT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800280" y="1484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76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77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PLAN D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50920" y="1341360"/>
          <a:ext cx="8642160" cy="4824360"/>
        </p:xfrm>
        <a:graphic>
          <a:graphicData uri="http://schemas.openxmlformats.org/drawingml/2006/table">
            <a:tbl>
              <a:tblPr/>
              <a:tblGrid>
                <a:gridCol w="2087640"/>
                <a:gridCol w="628560"/>
                <a:gridCol w="739800"/>
                <a:gridCol w="671400"/>
                <a:gridCol w="658800"/>
                <a:gridCol w="654120"/>
                <a:gridCol w="655560"/>
                <a:gridCol w="617400"/>
                <a:gridCol w="617760"/>
                <a:gridCol w="1311120"/>
              </a:tblGrid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/06 –En/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 – Abr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 – Jul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 – Oct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 – Dic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Recl, Sel, Co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y XI Reg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-Cap, Plan Tr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. Plan Trb. X y XI R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pos. prov. Fl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. Ofic. Pto. Mon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. Clientes Se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Sem. Leas.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p. Salmón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. Apoy. Public. y Pág. WEB Rel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min. Leasig Op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. Ofer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5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ut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contr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293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lación tall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108000" y="6308640"/>
            <a:ext cx="3240000" cy="479520"/>
            <a:chOff x="108000" y="6308640"/>
            <a:chExt cx="3240000" cy="479520"/>
          </a:xfrm>
        </p:grpSpPr>
        <p:grpSp>
          <p:nvGrpSpPr>
            <p:cNvPr id="390" name=""/>
            <p:cNvGrpSpPr/>
            <p:nvPr/>
          </p:nvGrpSpPr>
          <p:grpSpPr>
            <a:xfrm>
              <a:off x="108000" y="6308640"/>
              <a:ext cx="3240000" cy="479520"/>
              <a:chOff x="108000" y="6308640"/>
              <a:chExt cx="3240000" cy="47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10800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836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8720" y="6595920"/>
                <a:ext cx="420480" cy="19224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8728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764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08000" y="635616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68360" y="6595920"/>
                <a:ext cx="420840" cy="1922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68360" y="6308640"/>
                <a:ext cx="1079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6384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55640" y="47628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11280" y="1557360"/>
          <a:ext cx="8137080" cy="4032000"/>
        </p:xfrm>
        <a:graphic>
          <a:graphicData uri="http://schemas.openxmlformats.org/drawingml/2006/table">
            <a:tbl>
              <a:tblPr/>
              <a:tblGrid>
                <a:gridCol w="3255480"/>
                <a:gridCol w="2810520"/>
                <a:gridCol w="20710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sos chilen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respect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 de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vo Fi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RH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ota (50 un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inversión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50,2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05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INGRES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63640" y="1463760"/>
          <a:ext cx="6066000" cy="376560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ota Arren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úmero de Flota Esti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12,5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18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1628640"/>
            <a:ext cx="475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luster Salmo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strateg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Plan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Evalu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  <a:ea typeface="Tahoma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7336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230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811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38760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933720"/>
            <a:ext cx="565200" cy="25740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6724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504360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548320"/>
            <a:ext cx="565200" cy="257040"/>
          </a:xfrm>
          <a:custGeom>
            <a:avLst/>
            <a:gdLst>
              <a:gd name="textAreaLeft" fmla="*/ 0 w 565200"/>
              <a:gd name="textAreaRight" fmla="*/ 565560 w 56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SUPUESTO DE E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763640" y="1268280"/>
          <a:ext cx="6066000" cy="4883040"/>
        </p:xfrm>
        <a:graphic>
          <a:graphicData uri="http://schemas.openxmlformats.org/drawingml/2006/table">
            <a:tbl>
              <a:tblPr/>
              <a:tblGrid>
                <a:gridCol w="3256200"/>
                <a:gridCol w="28098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ción de Fl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7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o Personal del 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al de Gest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Administr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GRESOS MEN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6,725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32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627280" y="63342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08000" y="6381720"/>
            <a:ext cx="2951280" cy="432000"/>
            <a:chOff x="108000" y="6381720"/>
            <a:chExt cx="2951280" cy="432000"/>
          </a:xfrm>
        </p:grpSpPr>
        <p:sp>
          <p:nvSpPr>
            <p:cNvPr id="443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68360" y="63817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84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11280" y="5013360"/>
            <a:ext cx="4248000" cy="576360"/>
          </a:xfrm>
          <a:prstGeom prst="rect">
            <a:avLst/>
          </a:prstGeom>
          <a:solidFill>
            <a:srgbClr val="99cc00">
              <a:alpha val="45000"/>
            </a:srgbClr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1.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2565360"/>
            <a:ext cx="4248000" cy="2016000"/>
          </a:xfrm>
          <a:prstGeom prst="rect">
            <a:avLst/>
          </a:prstGeom>
          <a:solidFill>
            <a:srgbClr val="800080">
              <a:alpha val="38000"/>
            </a:srgbClr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CTIVIDADES DIREC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42.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2339280" y="-313560"/>
            <a:ext cx="793800" cy="4103640"/>
          </a:xfrm>
          <a:custGeom>
            <a:avLst/>
            <a:gdLst/>
            <a:ahLst/>
            <a:rect l="l" t="t" r="r" b="b"/>
            <a:pathLst>
              <a:path w="640" h="2356">
                <a:moveTo>
                  <a:pt x="0" y="0"/>
                </a:moveTo>
                <a:lnTo>
                  <a:pt x="0" y="2356"/>
                </a:lnTo>
                <a:lnTo>
                  <a:pt x="640" y="1419"/>
                </a:lnTo>
                <a:lnTo>
                  <a:pt x="640" y="9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05000" y="1386000"/>
            <a:ext cx="10951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Tahoma"/>
              </a:rPr>
              <a:t>MAR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46.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628640"/>
            <a:ext cx="172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564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NA DE VALOR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01400" y="2565360"/>
            <a:ext cx="25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AN ESPE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D =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$224,131,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08000" y="6308640"/>
            <a:ext cx="3959280" cy="480960"/>
            <a:chOff x="108000" y="6308640"/>
            <a:chExt cx="3959280" cy="480960"/>
          </a:xfrm>
        </p:grpSpPr>
        <p:sp>
          <p:nvSpPr>
            <p:cNvPr id="461" name=""/>
            <p:cNvSpPr/>
            <p:nvPr/>
          </p:nvSpPr>
          <p:spPr>
            <a:xfrm>
              <a:off x="10800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36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65959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728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4764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8000" y="659592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8360" y="659772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8764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8440" y="633240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39640" y="4762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49440" y="1370160"/>
            <a:ext cx="845964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TUACIÓN DEL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9880" y="5730840"/>
            <a:ext cx="205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0368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/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34136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472608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7080" y="56228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65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>
            <a:off x="2339280" y="4294080"/>
            <a:ext cx="864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>
            <a:off x="4427280" y="479736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508360" y="2494080"/>
            <a:ext cx="86436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>
            <a:off x="5508360" y="4365720"/>
            <a:ext cx="9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798240" y="2684520"/>
            <a:ext cx="185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neficios 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ey de subcontra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53020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7120" y="5229360"/>
            <a:ext cx="210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mpresas más foc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su cor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0400" y="6211800"/>
            <a:ext cx="21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ra del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evancia de l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4960" y="105264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sificación de tecnolog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17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4360" y="20685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666699"/>
              </a:gs>
              <a:gs pos="50000">
                <a:srgbClr val="cc99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 flipV="1">
            <a:off x="2194920" y="2493720"/>
            <a:ext cx="10436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36040" y="2644920"/>
            <a:ext cx="185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mente concent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liviana 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ota pesa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V="1">
            <a:off x="4427280" y="191556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020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DUST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1080" y="3260880"/>
            <a:ext cx="1469880" cy="12492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iv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08520" y="155736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71264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3835080" y="4870440"/>
            <a:ext cx="1150920" cy="1512720"/>
          </a:xfrm>
          <a:prstGeom prst="downArrowCallout">
            <a:avLst>
              <a:gd name="adj1" fmla="val 25002"/>
              <a:gd name="adj2" fmla="val 25000"/>
              <a:gd name="adj3" fmla="val 21906"/>
              <a:gd name="adj4" fmla="val 66667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men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676200" y="3094560"/>
            <a:ext cx="1184040" cy="1789200"/>
          </a:xfrm>
          <a:prstGeom prst="downArrowCallout">
            <a:avLst>
              <a:gd name="adj1" fmla="val 25002"/>
              <a:gd name="adj2" fmla="val 25000"/>
              <a:gd name="adj3" fmla="val 25185"/>
              <a:gd name="adj4" fmla="val 73079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674720" y="2838600"/>
            <a:ext cx="1184400" cy="2016000"/>
          </a:xfrm>
          <a:prstGeom prst="downArrowCallout">
            <a:avLst>
              <a:gd name="adj1" fmla="val 25095"/>
              <a:gd name="adj2" fmla="val 26014"/>
              <a:gd name="adj3" fmla="val 30236"/>
              <a:gd name="adj4" fmla="val 71745"/>
            </a:avLst>
          </a:prstGeom>
          <a:solidFill>
            <a:srgbClr val="3366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de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3197160" y="1758960"/>
            <a:ext cx="432000" cy="590400"/>
          </a:xfrm>
          <a:prstGeom prst="upArrow">
            <a:avLst>
              <a:gd name="adj1" fmla="val 54898"/>
              <a:gd name="adj2" fmla="val 7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48768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461080" y="3709800"/>
            <a:ext cx="431640" cy="590760"/>
          </a:xfrm>
          <a:prstGeom prst="upArrow">
            <a:avLst>
              <a:gd name="adj1" fmla="val 54898"/>
              <a:gd name="adj2" fmla="val 798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5361120"/>
            <a:ext cx="431640" cy="590400"/>
          </a:xfrm>
          <a:prstGeom prst="upArrow">
            <a:avLst>
              <a:gd name="adj1" fmla="val 54898"/>
              <a:gd name="adj2" fmla="val 79788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5485680" y="3621960"/>
            <a:ext cx="442800" cy="574560"/>
          </a:xfrm>
          <a:prstGeom prst="upArrow">
            <a:avLst>
              <a:gd name="adj1" fmla="val 54898"/>
              <a:gd name="adj2" fmla="val 7569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8000" y="6334200"/>
            <a:ext cx="2581200" cy="479520"/>
            <a:chOff x="108000" y="6334200"/>
            <a:chExt cx="2581200" cy="479520"/>
          </a:xfrm>
        </p:grpSpPr>
        <p:sp>
          <p:nvSpPr>
            <p:cNvPr id="142" name=""/>
            <p:cNvSpPr/>
            <p:nvPr/>
          </p:nvSpPr>
          <p:spPr>
            <a:xfrm>
              <a:off x="10800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872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360" y="633420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349360"/>
            <a:ext cx="3384360" cy="2735280"/>
          </a:xfrm>
          <a:prstGeom prst="hexagon">
            <a:avLst>
              <a:gd name="adj" fmla="val 30932"/>
              <a:gd name="vf" fmla="val 115470"/>
            </a:avLst>
          </a:prstGeom>
          <a:gradFill rotWithShape="0">
            <a:gsLst>
              <a:gs pos="0">
                <a:srgbClr val="a2c7de"/>
              </a:gs>
              <a:gs pos="50000">
                <a:srgbClr val="eaeaea"/>
              </a:gs>
              <a:gs pos="100000">
                <a:srgbClr val="a2c7d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rvicios Integrales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Liviana 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quinaria 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lota Pesada 24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35880" y="18493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08360" y="6094440"/>
            <a:ext cx="1513080" cy="503280"/>
          </a:xfrm>
          <a:prstGeom prst="flowChartTerminator">
            <a:avLst/>
          </a:prstGeom>
          <a:gradFill rotWithShape="0">
            <a:gsLst>
              <a:gs pos="0">
                <a:srgbClr val="006699"/>
              </a:gs>
              <a:gs pos="50000">
                <a:srgbClr val="84bea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.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508464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200" y="177336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808080"/>
              </a:gs>
              <a:gs pos="50000">
                <a:srgbClr val="ccccff">
                  <a:alpha val="98039"/>
                </a:srgbClr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4941720"/>
            <a:ext cx="1512720" cy="503280"/>
          </a:xfrm>
          <a:prstGeom prst="flowChartTerminator">
            <a:avLst/>
          </a:prstGeom>
          <a:gradFill rotWithShape="0">
            <a:gsLst>
              <a:gs pos="0">
                <a:srgbClr val="bbe0e3"/>
              </a:gs>
              <a:gs pos="50000">
                <a:srgbClr val="ffffcc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9" idx="3"/>
          </p:cNvCxnSpPr>
          <p:nvPr/>
        </p:nvCxnSpPr>
        <p:spPr>
          <a:xfrm flipH="1" flipV="1">
            <a:off x="2257200" y="2428200"/>
            <a:ext cx="659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H="1">
            <a:off x="2339640" y="4654440"/>
            <a:ext cx="5752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>
            <a:off x="4500720" y="5300280"/>
            <a:ext cx="216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6084720" y="2420280"/>
            <a:ext cx="504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>
            <a:off x="5940000" y="4652640"/>
            <a:ext cx="6483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6698160" y="2352600"/>
            <a:ext cx="20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ferta técnico econó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son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tratos a largo pla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iempo 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200" y="5459400"/>
            <a:ext cx="137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li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1320" y="229068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co desarrol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9280" y="5780160"/>
            <a:ext cx="20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rcad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8000" y="6237360"/>
            <a:ext cx="2581200" cy="504360"/>
            <a:chOff x="108000" y="6237360"/>
            <a:chExt cx="2581200" cy="504360"/>
          </a:xfrm>
        </p:grpSpPr>
        <p:sp>
          <p:nvSpPr>
            <p:cNvPr id="168" name=""/>
            <p:cNvSpPr/>
            <p:nvPr/>
          </p:nvSpPr>
          <p:spPr>
            <a:xfrm>
              <a:off x="10800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631008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8720" y="6549840"/>
              <a:ext cx="420480" cy="1918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8728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4764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654984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6920" y="623736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álisis In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38440" y="655020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0920" y="1125360"/>
          <a:ext cx="8713800" cy="5337000"/>
        </p:xfrm>
        <a:graphic>
          <a:graphicData uri="http://schemas.openxmlformats.org/drawingml/2006/table">
            <a:tbl>
              <a:tblPr/>
              <a:tblGrid>
                <a:gridCol w="4124160"/>
                <a:gridCol w="45896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Fortal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xperiencia Leasing Opera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lta concentración de clientes en min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nfoque en flota pesada (Maquinar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existe estrategia comercial defini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Número de licitaciones ganadas v/s cotizad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Alta capacidad econó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Área de Marketing dedicada a actividades publicitaria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No hay segmentación de clientes definid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Desconocimiento de la compe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Gestión de venta reactiva y no pro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jecutivos de negocio desconocen oferta que se ajuste a cada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81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47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5084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4600" y="1341360"/>
          <a:ext cx="8254800" cy="4751640"/>
        </p:xfrm>
        <a:graphic>
          <a:graphicData uri="http://schemas.openxmlformats.org/drawingml/2006/table">
            <a:tbl>
              <a:tblPr/>
              <a:tblGrid>
                <a:gridCol w="4056120"/>
                <a:gridCol w="4198680"/>
              </a:tblGrid>
              <a:tr h="66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ena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Oport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Entrada de nuevos competidores que se enfoquen en el Leasing Operativo de flota pesada y maquin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mpresa y mercado en crecimiento en Chi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Utilización de TI para mejorar  proces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Sistemas de información en los vehículos para mantenimiento (GPS, otro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Exploración nuevos sectores económicos (forestal, cluster salmonero, etc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08000" y="6308640"/>
            <a:ext cx="2581200" cy="505080"/>
            <a:chOff x="108000" y="6308640"/>
            <a:chExt cx="2581200" cy="505080"/>
          </a:xfrm>
        </p:grpSpPr>
        <p:sp>
          <p:nvSpPr>
            <p:cNvPr id="194" name=""/>
            <p:cNvSpPr/>
            <p:nvPr/>
          </p:nvSpPr>
          <p:spPr>
            <a:xfrm>
              <a:off x="10800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8360" y="662148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8720" y="638172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4764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68360" y="66214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8920" y="6308640"/>
              <a:ext cx="107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638440" y="6621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8569080" cy="2638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443640" y="2852640"/>
            <a:ext cx="1138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08000" y="6237360"/>
            <a:ext cx="3311640" cy="479520"/>
            <a:chOff x="108000" y="6237360"/>
            <a:chExt cx="3311640" cy="479520"/>
          </a:xfrm>
        </p:grpSpPr>
        <p:sp>
          <p:nvSpPr>
            <p:cNvPr id="210" name=""/>
            <p:cNvSpPr/>
            <p:nvPr/>
          </p:nvSpPr>
          <p:spPr>
            <a:xfrm>
              <a:off x="10800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36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6524640"/>
              <a:ext cx="420480" cy="19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628488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76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836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0720" y="62373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almone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38440" y="6524640"/>
              <a:ext cx="420840" cy="1922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INDUSTRIA SALMO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2133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160" y="1700280"/>
          <a:ext cx="1725480" cy="41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1700280"/>
                    <a:ext cx="1725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619280" y="1557360"/>
            <a:ext cx="727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hile es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2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xportador mundial de salmón y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1°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tru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 US$ 159 millones exportados en 1991 se llegó 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S$1,721 millon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n el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 la última década la industria se expandió a una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asa promedio de 22%,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logrando convertirse en el cuarto sector exportador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presenta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totales del país y el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56%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de las exportaciones pesqu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49764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uente: SalmónChile A.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659640" y="6381720"/>
            <a:ext cx="3538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2:18:45Z</dcterms:created>
  <dc:creator>mcarrasco</dc:creator>
  <dc:description/>
  <dc:language>en-US</dc:language>
  <cp:lastModifiedBy>Jorge Lara</cp:lastModifiedBy>
  <dcterms:modified xsi:type="dcterms:W3CDTF">2006-11-18T18:15:03Z</dcterms:modified>
  <cp:revision>59</cp:revision>
  <dc:subject/>
  <dc:title>Slide 1</dc:title>
</cp:coreProperties>
</file>