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CD80-7B8E-4128-860B-1DA192112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66FA-405E-4545-8906-FF44F5992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2E21-3363-4256-B945-F3C6612B4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2373-CF5E-46B1-9DB8-AFC79173E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B2DF-A4E7-458A-9E0D-C90393458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2198-36C3-4F76-9F25-CE68B66BE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F016-7028-4FBC-AE52-B4D55AC9B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C251-AE82-43D2-B199-2613FD3FB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6A9F-7BAF-417F-9FEA-A19C0E9F8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2D47-A1E1-4609-A6DD-5A9FDC797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BAD2-490D-4487-9F91-F00271EFE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D974-8F42-4477-9A65-14117095E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4141-6D6C-4BFE-AAEC-C76D1A8D27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210F-4006-4D6D-94B4-E43498478D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70F9-B426-48C7-8613-E936AEAC6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F94E-D856-40F0-9966-BEFCAE15FF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4D96-1F2A-4E65-A3FD-487EAC56CD4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9BDA-77B9-4EA1-B3BB-0355DB7E173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5B31-0F2F-4BDD-ACAD-0E1EDE958D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CB3B-876D-443B-A782-89B2783ACB0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A1E9-6F40-4BCE-8665-2D11257DEB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91FB-135E-41D5-B507-B7D834DE93E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C51D-D432-465B-869D-745A6373072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4023-F613-4157-9AA5-DF9E631AA1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BBAF-E36C-4F9B-A6C1-73E3C609D9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6209-D2C2-40C5-AAF6-CEC0F7FE71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1876-5379-4A9F-9F9E-7912A8424F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7863-0B5E-45A5-A80D-BB77D74404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EF0B-E3A9-40E6-8236-89C410B5DA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1F14-F2F4-4B7F-A833-7343FD3B22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2136-A790-4DED-B0B5-7A612E4301A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ADAD-9038-486E-971D-1A424A39A8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2527-7E4B-4E1B-BB1E-D141FF2E87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043C-35BD-436F-BF77-BD98554956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94DE-BEA1-4558-9FFC-AE70D16B9D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A5C8-26F6-4DAC-8922-543FD707A6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D2FA-DBE7-4941-9112-BA02A0C935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BB93-175D-4946-8E73-B368154EF9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8B5D-2834-47A6-8250-A17C909233F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CFD4-285A-496A-8112-F50557CEB11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AC28-2C09-4C55-833B-A9141869819F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D806-13CC-4ED0-86B5-1CFF201547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6BC3-C1D2-45E4-9472-F069228C0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7467-EF43-4E30-A419-83E1C859E6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A788-7001-4A4C-842B-FAB6120EE3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93FE-CFC5-46C4-9EF9-07EC6E5C34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6-10-04T20:01:18Z</dcterms:modified>
  <cp:revision>407</cp:revision>
  <dc:subject/>
  <dc:title>77n</dc:title>
</cp:coreProperties>
</file>