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F3BBD-0107-4E33-B7B8-474FF96F9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46AE3-BA7D-4289-A8F1-D0EF7446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DFE0D-B570-44AC-89B6-5329CB14D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AA994-B1E2-41E3-A584-C833B1068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7510-1369-4BD7-9DAF-CF9170039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46C8-5341-4554-AF61-EEDCFFFE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9F87-3F47-4502-B671-0F46DB2C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6419-E5E4-46B2-80F1-AF833CAB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0CF8-388B-44E0-9B7F-8F50526A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F3BD-C331-455E-816F-E97EC6E0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38E4-EA56-4DAF-8D7F-BFD7BEAF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02677-7637-42BA-A5CF-B57E5CF8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666B-FD81-4EDA-91A2-B31BE7C5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18E63-F740-4322-869F-936E8E11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7928-DAB3-4347-9342-55DDFD24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57B0-2CCF-498B-A364-9B0D19099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8200-08E3-4C0C-88BA-E36DBB8F3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2E3D4-BCBE-45B0-AEB9-4A374791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D6638-CC64-4954-B064-22146164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99D93-81AC-49F5-9A85-AAD24FA6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E93D1-EFC0-48AC-8D7C-44EE2C4F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CA7E4-E769-409F-B83B-CC3F6B81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9EA5B-A241-4002-8349-1EF4CAD6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6AFF3-0125-45B8-AA17-6C940B32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F1EF-8ACF-4498-8D68-0AA4D8325797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197E-B0B0-4A32-9676-94E1161A14CA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ffffff"/>
                </a:solidFill>
                <a:latin typeface="Arial"/>
              </a:rPr>
              <a:t>MARCA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LA CREACIÓN DE CONCIENCIA DE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impedimento es la gran cantidad de información recibida por los consumidores                                                               (La sociedad sobre inform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requiere una base de ventas altas. Por eso muchas empresas prefieren usar un nombre en muchos mercado-productos.                                                                          (General Electric, Honda, Luchet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o de canales alternativos.                                      (promociones, patrocinio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ALIDAD PERCIB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Calidad Percibida es un Driver de la Performance Financi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o se crea la Percepción de C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be existir Calidad de ver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os errores se pa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lidad en  dimensión importante para los consum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 importante entender que los consumidores usan pequeños trucos para evaluar la c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n algunos casos se puede “capacitar” a los  consum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EALT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Lealtad es Ren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ómo aumentar la “Lealtad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l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gramas de Frecu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atabase marke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ASOCIACIONES DE LA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el elemento más importante del valor de mar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responde a las distintas asociaciones que hace el consumidor al oir o ver el nombre de la mar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onjunto de esas Asociaciones es l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MAGE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la mar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s asociaciones pueden incluir entre otr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ributos del Produ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celebr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símb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 importante es l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DENTIDAD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dentidad gobierna las Asoci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¿POR QUÉ ES DIFICIL CONSTRUIR MARC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dentidad de Marca es un conjunto UNICO  de asociaciones de marca que la estrategia aspira a crear o mantener. Estas Asociaciones representan lo que la marca significa y representa una promesa a los clientes de parte de los miembros de la organiz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¿QUÉ ES IDENTIDAD DE MARCA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028880" y="609480"/>
            <a:ext cx="7086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MAGEN DE MA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ómo es la Marca percibida actual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DENTIDAD DE MA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ómo quiere la empresa que la Marca sea percibida por sus cl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685800"/>
            <a:ext cx="914400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Trampa de la Imagen de Marc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curre cuando existe una imagen posi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o tiende a ser lo que el cliente dice que 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agen de Marca Tác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dentidad de Marca Estraté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TRAMPAS EN LA IDENTIDAD DE MAR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685800"/>
            <a:ext cx="914400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Trampa de la Fijación en los Atributos del Produ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Marca es más que un Produ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mitaciones de Identidades basadas en Atribu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permiten la diferenci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n fáciles de copi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umen un comportamiento r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mitan las estrategias de Extensión de Mar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ucen Flexibilidad Estratégica en mercados cambi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TRAMPAS EN LA IDENTIDAD DE MAR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68200" y="304920"/>
            <a:ext cx="8607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RGANIZ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ERS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IMBO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UATRO PERSPECTIVAS DE LA IDENTIDAD DE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ÓMO AYUDAN LAS MARCAS A LOS CONSUMI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implifican la elección rutinari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(si todas las semanas compro jabón, no tengo que tomar una decisión cada vez, simplemente “echo” Le Sancy en el car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ducen el riesgo en decisiones más compleja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(Cuando compro un equipo de audio la marca Sony me indica que ciertas cosas estoy seguro que NO me van a pasa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na marca me puede producir beneficios emocional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Por algo la gente compra Gucci, o anda mostrando la Marca de algunos de sus compra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eneran algún sentido de “pertenenci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”. (La gente que tiene un computador Apple siente cierto grado de identificación con otros que usan la misma marca, y eso les hace sentirse bi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A MARCA COMO PRODUC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ociación con la Clase Producto. (Nestlé Lácte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problema con las Extensi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ociación con Atributos del producto (Peligro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lidad/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u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ís o Reg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24000" y="549360"/>
            <a:ext cx="8530920" cy="53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a marca como Organiz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ocalizada en atributos de la organización y no del producto.(Caso Saturn, Banco de Ch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a Marca como Perso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personalidad de una marca puede ser la base para una relación con los consumi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a Marca como Símbo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símbolo puede proveer cohesión a la identidad y permitir mayor reconocimiento y record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POLITICA DE</a:t>
            </a: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MAR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gún la mezcla de produ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por 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Paragu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por Línea de Produ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Doble (o Trip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MARCA POR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 cada producto la empresa le asigna una marca y un posicionamiento específ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s: Detergentes OMO, DRIVE, SK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la política tradicional de empresas como Procter &amp; Gamble y Le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ENTAJA:  La empresa no “juega” su reputación en el resultado de un producto en el merc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3000" y="1647720"/>
            <a:ext cx="68580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MARCA PARAGU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marca Paraguas acoge a varias Categorías de Produ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uchas empresas usan su nombre como marca Paraguas. Daewoo, Sony, IBM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1793880"/>
            <a:ext cx="79250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MARCA POR LÍNEA DE PRODU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un intermedio entre la marca Paraguas y la Marca por producto. Se usa sobretodo cuando el producto no es de mucho volumen de ventas.  Es muy costoso una marca disti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habla de extensión de mar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mplo: Salsa de Tomate Carozzi. Los refrescos en polvo son Cari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16477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JERARQUÍAS DE MAR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marca es más amplia que la ot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 haber varios niveles.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Nestlé,  La Lechera, Producto específ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da uno manda un mensaje disti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estlé....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Lechera....Natural/Tradi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cha Asada....  Producto específ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las marcas pueden ser un activo tan valioso, ¿porqué no se contabiliz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¿Qué es el Valor de Marca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81160" y="762120"/>
            <a:ext cx="678168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rincipales atributos de la Marca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(Young&amp;Rubica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FERENCI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rcas diferentes, claramente diferenciadas por la gente, con identidad propia, ún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LEV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esten de acuerdo con las expectativas, necesidades, anhelos y fantasías  de las persona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haya generado en el respeto y la confianza de la población general. Proceso lento que requiere conocimiento y una cierta re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OCIM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sean conocidas y estén presentes en el mundo cotidiano de las personas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38040" y="212760"/>
            <a:ext cx="8467920" cy="10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¿QUÉ ES EL VALOR DE MARCA?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(Aak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Valor de Marca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es un conjunto de Activos ligados al nombre o símbolo de una marca que agregan (o restan)  valor al producto o servicio entregado por la empres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4 categorías mayores de estos activos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CIENCIA DE MA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ALTAD DE MA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LIDAD PERCIB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OCIACIONES DE LA MA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15840" y="611280"/>
            <a:ext cx="792180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CONOCIMI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onoce usted esta mar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CORD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Marcas de esta clase Producto conoce us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Top of M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ONCIENCIA DE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54080" y="382680"/>
            <a:ext cx="8683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1700280"/>
            <a:ext cx="7315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Marca Familiar tiene venta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 Mantequilla de maní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2971800"/>
            <a:ext cx="297180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I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19720" y="2971800"/>
            <a:ext cx="335268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ON MARCA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2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7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RECONOCIMIENTO DE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14400" y="228600"/>
            <a:ext cx="7315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14400" y="1557360"/>
            <a:ext cx="7315200" cy="46735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RECONOCIMIENTO Vs. RECORD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7T19:30:38Z</dcterms:created>
  <dc:creator>maximo bosch</dc:creator>
  <dc:description/>
  <dc:language>en-US</dc:language>
  <cp:lastModifiedBy>William Young</cp:lastModifiedBy>
  <dcterms:modified xsi:type="dcterms:W3CDTF">2006-10-04T03:57:19Z</dcterms:modified>
  <cp:revision>47</cp:revision>
  <dc:subject/>
  <dc:title>Sin título de diapositiva</dc:title>
</cp:coreProperties>
</file>