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1D92A-2CBB-415E-87F3-E8A28D652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E6F6E-15F9-47C6-81FA-F22E31218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4FACD-1AD1-46C1-BADD-784F3774D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9098E-DE74-4B2B-AB1B-54C4509E0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CCFC3-C340-41EF-8A2C-99913E4A4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CBFDB-B899-4ABE-9910-5842A49D2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E7C2B-0F5A-4BAA-A285-5B6B8A72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12520-B907-4509-8C4E-A31E2396E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40254-DA41-4365-9F84-0080EC02B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CC588-6989-4589-B874-BC13B4DCA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7B43-CB61-42B9-9AB7-D400FDE90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3A55-D01A-4B32-9421-1110C137D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E3B2-C478-4C8F-9542-C68D691A9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20"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21"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22" name=""/>
          <p:cNvCxnSpPr>
            <a:stCxn id="120" idx="2"/>
            <a:endCxn id="121"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23" name=""/>
          <p:cNvCxnSpPr>
            <a:stCxn id="124" idx="3"/>
            <a:endCxn id="125" idx="1"/>
          </p:cNvCxnSpPr>
          <p:nvPr/>
        </p:nvCxnSpPr>
        <p:spPr>
          <a:xfrm>
            <a:off x="5854680" y="3920760"/>
            <a:ext cx="527760" cy="1080"/>
          </a:xfrm>
          <a:prstGeom prst="straightConnector1">
            <a:avLst/>
          </a:prstGeom>
          <a:ln w="38160">
            <a:solidFill>
              <a:srgbClr val="000000"/>
            </a:solidFill>
            <a:miter/>
            <a:headEnd len="med" type="triangle" w="med"/>
          </a:ln>
        </p:spPr>
      </p:cxnSp>
      <p:sp>
        <p:nvSpPr>
          <p:cNvPr id="126"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24"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27"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28" name=""/>
          <p:cNvCxnSpPr>
            <a:stCxn id="126" idx="2"/>
            <a:endCxn id="124"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29" name=""/>
          <p:cNvCxnSpPr>
            <a:stCxn id="124" idx="2"/>
            <a:endCxn id="127"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25"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30" name=""/>
          <p:cNvCxnSpPr>
            <a:stCxn id="131" idx="2"/>
            <a:endCxn id="125" idx="0"/>
          </p:cNvCxnSpPr>
          <p:nvPr/>
        </p:nvCxnSpPr>
        <p:spPr>
          <a:xfrm>
            <a:off x="7505280" y="2755440"/>
            <a:ext cx="1080" cy="731160"/>
          </a:xfrm>
          <a:prstGeom prst="straightConnector1">
            <a:avLst/>
          </a:prstGeom>
          <a:ln w="38160">
            <a:solidFill>
              <a:srgbClr val="000000"/>
            </a:solidFill>
            <a:miter/>
            <a:tailEnd len="med" type="triangle" w="med"/>
          </a:ln>
        </p:spPr>
      </p:cxnSp>
      <p:sp>
        <p:nvSpPr>
          <p:cNvPr id="131"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32" name=""/>
          <p:cNvCxnSpPr>
            <a:stCxn id="121" idx="3"/>
            <a:endCxn id="124"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33"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4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4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5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5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8" name=""/>
          <p:cNvCxnSpPr>
            <a:stCxn id="156" idx="0"/>
          </p:cNvCxnSpPr>
          <p:nvPr/>
        </p:nvCxnSpPr>
        <p:spPr>
          <a:xfrm>
            <a:off x="4572000" y="1828800"/>
            <a:ext cx="1372320" cy="2572560"/>
          </a:xfrm>
          <a:prstGeom prst="straightConnector1">
            <a:avLst/>
          </a:prstGeom>
          <a:ln w="0">
            <a:noFill/>
          </a:ln>
        </p:spPr>
      </p:cxnSp>
      <p:grpSp>
        <p:nvGrpSpPr>
          <p:cNvPr id="159" name=""/>
          <p:cNvGrpSpPr/>
          <p:nvPr/>
        </p:nvGrpSpPr>
        <p:grpSpPr>
          <a:xfrm>
            <a:off x="5410080" y="2362320"/>
            <a:ext cx="3429000" cy="2809800"/>
            <a:chOff x="5410080" y="2362320"/>
            <a:chExt cx="3429000" cy="2809800"/>
          </a:xfrm>
        </p:grpSpPr>
        <p:sp>
          <p:nvSpPr>
            <p:cNvPr id="16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62" name=""/>
          <p:cNvGrpSpPr/>
          <p:nvPr/>
        </p:nvGrpSpPr>
        <p:grpSpPr>
          <a:xfrm>
            <a:off x="152280" y="2438280"/>
            <a:ext cx="5029200" cy="3820320"/>
            <a:chOff x="152280" y="2438280"/>
            <a:chExt cx="5029200" cy="3820320"/>
          </a:xfrm>
        </p:grpSpPr>
        <p:sp>
          <p:nvSpPr>
            <p:cNvPr id="16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6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6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1)</a:t>
            </a:r>
            <a:endParaRPr b="0" lang="en-US" sz="4400" spc="-1" strike="noStrike">
              <a:solidFill>
                <a:srgbClr val="000000"/>
              </a:solidFill>
              <a:latin typeface="Times New Roman"/>
            </a:endParaRPr>
          </a:p>
        </p:txBody>
      </p:sp>
      <p:sp>
        <p:nvSpPr>
          <p:cNvPr id="170"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Un grupo musical se presentan dos sábados en la noche cada mes con un nuevo repertorio en cada recita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Gastos por present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generales fijo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ensayo</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4.5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de presentación</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2.000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stos variables</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1 [$/espectado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presentante fijó el precio en 10 [$/espectad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apacidad: 1.100 asientos.</a:t>
            </a:r>
            <a:endParaRPr b="0" lang="en-US" sz="24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jemplo</a:t>
            </a:r>
            <a:r>
              <a:rPr b="0" lang="es-MX"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73"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máxima utilidad se alcanzaría copando la capacidad del recin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11.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1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11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900</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eneralmente van sólo 900 person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Ingres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I(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9.0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stos:</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8.9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eneficio:</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U(900) =</a:t>
            </a:r>
            <a:r>
              <a:rPr b="0" lang="es-ES" sz="2400" spc="-1" strike="noStrike">
                <a:solidFill>
                  <a:srgbClr val="000000"/>
                </a:solidFill>
                <a:latin typeface="Times New Roman"/>
                <a:ea typeface="Times New Roman"/>
              </a:rPr>
              <a:t>	</a:t>
            </a:r>
            <a:r>
              <a:rPr b="0" lang="es-ES" sz="2400" spc="-1" strike="noStrike">
                <a:solidFill>
                  <a:srgbClr val="000099"/>
                </a:solidFill>
                <a:latin typeface="Times New Roman"/>
                <a:ea typeface="Times New Roman"/>
              </a:rPr>
              <a:t>$    100</a:t>
            </a:r>
            <a:endParaRPr b="0" lang="en-US" sz="2400" spc="-1" strike="noStrike">
              <a:solidFill>
                <a:srgbClr val="000000"/>
              </a:solidFill>
              <a:latin typeface="Times New Roman"/>
            </a:endParaRPr>
          </a:p>
        </p:txBody>
      </p:sp>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6"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3"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6"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9"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9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2"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5"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7"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9"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2"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4"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7"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8"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10"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1"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2"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4"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5"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7"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9"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3"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4"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5"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7"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30"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1"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7"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8"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9"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4"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6" name=""/>
          <p:cNvGraphicFramePr/>
          <p:nvPr/>
        </p:nvGraphicFramePr>
        <p:xfrm>
          <a:off x="455760" y="2900520"/>
          <a:ext cx="8216640" cy="3411360"/>
        </p:xfrm>
        <a:graphic>
          <a:graphicData uri="http://schemas.openxmlformats.org/presentationml/2006/ole">
            <p:oleObj progId="Excel.Sheet.12" r:id="rId1" spid="">
              <p:embed/>
              <p:pic>
                <p:nvPicPr>
                  <p:cNvPr id="247"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8"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 name=""/>
          <p:cNvGraphicFramePr/>
          <p:nvPr/>
        </p:nvGraphicFramePr>
        <p:xfrm>
          <a:off x="0" y="1143000"/>
          <a:ext cx="9144000" cy="5084640"/>
        </p:xfrm>
        <a:graphic>
          <a:graphicData uri="http://schemas.openxmlformats.org/presentationml/2006/ole">
            <p:oleObj progId="Excel.Sheet.12" r:id="rId1" spid="">
              <p:embed/>
              <p:pic>
                <p:nvPicPr>
                  <p:cNvPr id="250" name="" descr=""/>
                  <p:cNvPicPr/>
                  <p:nvPr/>
                </p:nvPicPr>
                <p:blipFill>
                  <a:blip r:embed="rId2"/>
                  <a:stretch/>
                </p:blipFill>
                <p:spPr>
                  <a:xfrm>
                    <a:off x="0" y="1143000"/>
                    <a:ext cx="9144000" cy="5084640"/>
                  </a:xfrm>
                  <a:prstGeom prst="rect">
                    <a:avLst/>
                  </a:prstGeom>
                  <a:ln w="0">
                    <a:noFill/>
                  </a:ln>
                </p:spPr>
              </p:pic>
            </p:oleObj>
          </a:graphicData>
        </a:graphic>
      </p:graphicFrame>
      <p:sp>
        <p:nvSpPr>
          <p:cNvPr id="251"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2"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3"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228600" y="1011240"/>
            <a:ext cx="8534520" cy="5619600"/>
            <a:chOff x="228600" y="1011240"/>
            <a:chExt cx="8534520" cy="5619600"/>
          </a:xfrm>
        </p:grpSpPr>
        <p:sp>
          <p:nvSpPr>
            <p:cNvPr id="255"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7"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8"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60"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1"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2361960" y="3068280"/>
              <a:ext cx="228960" cy="228600"/>
              <a:chOff x="2361960" y="3068280"/>
              <a:chExt cx="228960" cy="228600"/>
            </a:xfrm>
          </p:grpSpPr>
          <p:sp>
            <p:nvSpPr>
              <p:cNvPr id="266"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3047760" y="4135320"/>
              <a:ext cx="228960" cy="228600"/>
              <a:chOff x="3047760" y="4135320"/>
              <a:chExt cx="228960" cy="228600"/>
            </a:xfrm>
          </p:grpSpPr>
          <p:sp>
            <p:nvSpPr>
              <p:cNvPr id="269"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3"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4"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5"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6" name=""/>
            <p:cNvGrpSpPr/>
            <p:nvPr/>
          </p:nvGrpSpPr>
          <p:grpSpPr>
            <a:xfrm>
              <a:off x="2095200" y="2369880"/>
              <a:ext cx="228960" cy="228600"/>
              <a:chOff x="2095200" y="2369880"/>
              <a:chExt cx="228960" cy="228600"/>
            </a:xfrm>
          </p:grpSpPr>
          <p:sp>
            <p:nvSpPr>
              <p:cNvPr id="277"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62160" y="4439880"/>
              <a:ext cx="228960" cy="228600"/>
              <a:chOff x="3962160" y="4439880"/>
              <a:chExt cx="228960" cy="228600"/>
            </a:xfrm>
          </p:grpSpPr>
          <p:sp>
            <p:nvSpPr>
              <p:cNvPr id="280"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4"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2158920" y="457200"/>
            <a:ext cx="3327480" cy="4800600"/>
            <a:chOff x="2158920" y="457200"/>
            <a:chExt cx="3327480" cy="4800600"/>
          </a:xfrm>
        </p:grpSpPr>
        <p:sp>
          <p:nvSpPr>
            <p:cNvPr id="286"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8"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90"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1"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3"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4"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2361960" y="2209320"/>
            <a:ext cx="228960" cy="228600"/>
            <a:chOff x="2361960" y="2209320"/>
            <a:chExt cx="228960" cy="228600"/>
          </a:xfrm>
        </p:grpSpPr>
        <p:sp>
          <p:nvSpPr>
            <p:cNvPr id="299"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3047760" y="3276360"/>
            <a:ext cx="228960" cy="228600"/>
            <a:chOff x="3047760" y="3276360"/>
            <a:chExt cx="228960" cy="228600"/>
          </a:xfrm>
        </p:grpSpPr>
        <p:sp>
          <p:nvSpPr>
            <p:cNvPr id="302"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6"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7"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8"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9" name=""/>
          <p:cNvGrpSpPr/>
          <p:nvPr/>
        </p:nvGrpSpPr>
        <p:grpSpPr>
          <a:xfrm>
            <a:off x="2095200" y="1510920"/>
            <a:ext cx="228960" cy="228600"/>
            <a:chOff x="2095200" y="1510920"/>
            <a:chExt cx="228960" cy="228600"/>
          </a:xfrm>
        </p:grpSpPr>
        <p:sp>
          <p:nvSpPr>
            <p:cNvPr id="310"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962160" y="3580920"/>
            <a:ext cx="228960" cy="228600"/>
            <a:chOff x="3962160" y="3580920"/>
            <a:chExt cx="228960" cy="228600"/>
          </a:xfrm>
        </p:grpSpPr>
        <p:sp>
          <p:nvSpPr>
            <p:cNvPr id="313"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143000" y="2705040"/>
            <a:ext cx="7391520" cy="685800"/>
            <a:chOff x="1143000" y="2705040"/>
            <a:chExt cx="7391520" cy="685800"/>
          </a:xfrm>
        </p:grpSpPr>
        <p:sp>
          <p:nvSpPr>
            <p:cNvPr id="316"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1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6-10-18T16:50:48Z</dcterms:modified>
  <cp:revision>31</cp:revision>
  <dc:subject/>
  <dc:title>PRICING</dc:title>
</cp:coreProperties>
</file>