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9F85-24BE-46E8-8EDA-7F09A922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DC4A-6C29-4695-983C-C735E2D3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57A-2249-4993-9449-5D5EBC3E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BC5A-F08D-4921-A064-DD0F96D4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9634-D194-400E-9AF1-F6F50521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DDEB-A091-4F0F-A3A9-878C21E5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3B59-E9C3-4CA3-9B77-FE1371ED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789F-7E4E-42EC-865A-ADBB1A39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AFF-21DB-4DE2-8E31-259C2C90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B7B9-F3BF-4400-99C1-0F79F570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C046-AED2-4E97-BA90-837DA37E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263A-09FA-4612-A8E7-483E2F47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4B23-02BD-443E-BB2A-EC8BBE666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calor por condu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29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51424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6400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238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100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895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45720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5284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02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715000" y="1149480"/>
                <a:ext cx="2143080" cy="49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x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990720" y="2666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27672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181480" y="2819520"/>
                <a:ext cx="2714760" cy="337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7" name=""/>
          <p:cNvGraphicFramePr/>
          <p:nvPr/>
        </p:nvGraphicFramePr>
        <p:xfrm>
          <a:off x="304920" y="762120"/>
          <a:ext cx="44956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495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30492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de calor por conducción y conve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28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8000" y="38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40720" y="5013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95280" y="0"/>
                <a:ext cx="3583080" cy="487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/>
                        </m:bar>
                      </m:e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w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Δx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419720" y="762120"/>
                <a:ext cx="4508280" cy="19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4191120" y="1522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00360" y="260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87640" y="1268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2060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5013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852640"/>
            <a:ext cx="31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716360" y="3429000"/>
                <a:ext cx="123192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732720" y="3357720"/>
                <a:ext cx="15127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471920" y="4724280"/>
                <a:ext cx="13543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333360"/>
            <a:ext cx="77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395280" y="33336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333360"/>
            <a:ext cx="72007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emplazando en (7) el flujo de calor expresado en términos de la resistencia en el fluído caliente (ecuación (1),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508640" y="334008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11280" y="1557360"/>
                <a:ext cx="417672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755640" y="342900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55640" y="4076640"/>
                <a:ext cx="439272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1280" y="40464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907920"/>
                <a:ext cx="4824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684360" y="260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 se puede escribir, en términos de resistencia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2133720"/>
            <a:ext cx="612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mente, para los otro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203640" y="2781360"/>
                <a:ext cx="39560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900000" y="3716280"/>
            <a:ext cx="136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348000" y="3860640"/>
                <a:ext cx="38307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755640" y="5229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sea, cada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es proporcional a la importancia relativa de la resistencia respectiva con respecto a la resistencia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333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sea,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3:20:14Z</dcterms:created>
  <dc:creator>Tomás Vargas </dc:creator>
  <dc:description/>
  <dc:language>en-US</dc:language>
  <cp:lastModifiedBy>Tomas Vargas</cp:lastModifiedBy>
  <dcterms:modified xsi:type="dcterms:W3CDTF">2006-08-02T20:01:07Z</dcterms:modified>
  <cp:revision>10</cp:revision>
  <dc:subject/>
  <dc:title>Presentación de PowerPoint</dc:title>
</cp:coreProperties>
</file>