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983F-9982-47FC-9513-88B4AA079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73C4-2DBE-4CD3-85D0-8EE576F0C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CA5F-49D4-4CB3-86AF-AD83F5584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72ED-446B-403C-9AE3-4C584D168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19DA-ACD8-4EA4-A065-5E5DF5FA7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6529-FC3E-4E49-AE30-B2051B4E9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9AD3-E4C8-4920-886D-ADC63EBF9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FDC7-C9DC-4193-836E-18E12A0BB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2C4C-D8B7-4B41-902F-4EDC51820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F487-5EF9-4B12-941B-F6445D626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6008-C917-4BFE-9728-CADA3C3D8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5408-CB95-4ED4-9EF2-90FF214D1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73362-181E-44AF-A944-2F22B4CF2BDB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304920"/>
            <a:ext cx="876312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EQUIPOS DE INTERCAMBIO DE CALOR CON SUPERFICIES EXTENDI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En el caso de flujo de calor entre dos fluídos a través de una pared cilíndrica se determinó que la resistencia está dada por la expresión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71952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2120" y="2819520"/>
            <a:ext cx="7772400" cy="21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Si h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&lt;&lt;h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(p.ej. calentamiento de aire estanco en exterior con vapor condensante en interior) la resistencia principal  está dada en película de  aire (término D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R disminuye si D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se aumen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Efecto aumento D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066680" y="5181480"/>
            <a:ext cx="990720" cy="1067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95280" y="5410080"/>
            <a:ext cx="53352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191120" y="3581280"/>
            <a:ext cx="1600200" cy="152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724280" y="4038480"/>
            <a:ext cx="609840" cy="609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010280" y="5562720"/>
            <a:ext cx="60984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77120" y="5029200"/>
            <a:ext cx="1560240" cy="1573200"/>
          </a:xfrm>
          <a:custGeom>
            <a:avLst/>
            <a:gdLst/>
            <a:ahLst/>
            <a:rect l="l" t="t" r="r" b="b"/>
            <a:pathLst>
              <a:path w="983" h="991">
                <a:moveTo>
                  <a:pt x="468" y="249"/>
                </a:moveTo>
                <a:cubicBezTo>
                  <a:pt x="476" y="46"/>
                  <a:pt x="412" y="0"/>
                  <a:pt x="556" y="22"/>
                </a:cubicBezTo>
                <a:cubicBezTo>
                  <a:pt x="559" y="98"/>
                  <a:pt x="548" y="175"/>
                  <a:pt x="564" y="249"/>
                </a:cubicBezTo>
                <a:cubicBezTo>
                  <a:pt x="567" y="264"/>
                  <a:pt x="594" y="252"/>
                  <a:pt x="608" y="258"/>
                </a:cubicBezTo>
                <a:cubicBezTo>
                  <a:pt x="652" y="276"/>
                  <a:pt x="620" y="288"/>
                  <a:pt x="687" y="302"/>
                </a:cubicBezTo>
                <a:cubicBezTo>
                  <a:pt x="699" y="299"/>
                  <a:pt x="712" y="300"/>
                  <a:pt x="722" y="293"/>
                </a:cubicBezTo>
                <a:cubicBezTo>
                  <a:pt x="731" y="287"/>
                  <a:pt x="733" y="275"/>
                  <a:pt x="739" y="267"/>
                </a:cubicBezTo>
                <a:cubicBezTo>
                  <a:pt x="757" y="244"/>
                  <a:pt x="773" y="232"/>
                  <a:pt x="800" y="223"/>
                </a:cubicBezTo>
                <a:cubicBezTo>
                  <a:pt x="851" y="172"/>
                  <a:pt x="827" y="190"/>
                  <a:pt x="870" y="162"/>
                </a:cubicBezTo>
                <a:cubicBezTo>
                  <a:pt x="926" y="177"/>
                  <a:pt x="895" y="184"/>
                  <a:pt x="940" y="214"/>
                </a:cubicBezTo>
                <a:cubicBezTo>
                  <a:pt x="926" y="254"/>
                  <a:pt x="910" y="246"/>
                  <a:pt x="887" y="275"/>
                </a:cubicBezTo>
                <a:cubicBezTo>
                  <a:pt x="880" y="283"/>
                  <a:pt x="878" y="295"/>
                  <a:pt x="870" y="302"/>
                </a:cubicBezTo>
                <a:cubicBezTo>
                  <a:pt x="863" y="308"/>
                  <a:pt x="853" y="307"/>
                  <a:pt x="844" y="310"/>
                </a:cubicBezTo>
                <a:cubicBezTo>
                  <a:pt x="818" y="328"/>
                  <a:pt x="795" y="335"/>
                  <a:pt x="765" y="345"/>
                </a:cubicBezTo>
                <a:cubicBezTo>
                  <a:pt x="762" y="354"/>
                  <a:pt x="761" y="363"/>
                  <a:pt x="756" y="371"/>
                </a:cubicBezTo>
                <a:cubicBezTo>
                  <a:pt x="752" y="378"/>
                  <a:pt x="739" y="381"/>
                  <a:pt x="739" y="389"/>
                </a:cubicBezTo>
                <a:cubicBezTo>
                  <a:pt x="739" y="402"/>
                  <a:pt x="766" y="424"/>
                  <a:pt x="774" y="432"/>
                </a:cubicBezTo>
                <a:cubicBezTo>
                  <a:pt x="771" y="467"/>
                  <a:pt x="762" y="502"/>
                  <a:pt x="765" y="537"/>
                </a:cubicBezTo>
                <a:cubicBezTo>
                  <a:pt x="766" y="550"/>
                  <a:pt x="838" y="594"/>
                  <a:pt x="852" y="598"/>
                </a:cubicBezTo>
                <a:cubicBezTo>
                  <a:pt x="878" y="624"/>
                  <a:pt x="895" y="633"/>
                  <a:pt x="931" y="642"/>
                </a:cubicBezTo>
                <a:cubicBezTo>
                  <a:pt x="961" y="661"/>
                  <a:pt x="973" y="669"/>
                  <a:pt x="983" y="703"/>
                </a:cubicBezTo>
                <a:cubicBezTo>
                  <a:pt x="974" y="709"/>
                  <a:pt x="964" y="712"/>
                  <a:pt x="957" y="720"/>
                </a:cubicBezTo>
                <a:cubicBezTo>
                  <a:pt x="943" y="736"/>
                  <a:pt x="922" y="773"/>
                  <a:pt x="922" y="773"/>
                </a:cubicBezTo>
                <a:cubicBezTo>
                  <a:pt x="855" y="750"/>
                  <a:pt x="834" y="672"/>
                  <a:pt x="765" y="651"/>
                </a:cubicBezTo>
                <a:cubicBezTo>
                  <a:pt x="759" y="645"/>
                  <a:pt x="756" y="633"/>
                  <a:pt x="748" y="633"/>
                </a:cubicBezTo>
                <a:cubicBezTo>
                  <a:pt x="728" y="633"/>
                  <a:pt x="728" y="669"/>
                  <a:pt x="722" y="677"/>
                </a:cubicBezTo>
                <a:cubicBezTo>
                  <a:pt x="699" y="707"/>
                  <a:pt x="666" y="734"/>
                  <a:pt x="634" y="755"/>
                </a:cubicBezTo>
                <a:cubicBezTo>
                  <a:pt x="641" y="775"/>
                  <a:pt x="654" y="840"/>
                  <a:pt x="669" y="860"/>
                </a:cubicBezTo>
                <a:cubicBezTo>
                  <a:pt x="682" y="877"/>
                  <a:pt x="713" y="904"/>
                  <a:pt x="713" y="904"/>
                </a:cubicBezTo>
                <a:cubicBezTo>
                  <a:pt x="727" y="945"/>
                  <a:pt x="708" y="952"/>
                  <a:pt x="695" y="991"/>
                </a:cubicBezTo>
                <a:cubicBezTo>
                  <a:pt x="678" y="988"/>
                  <a:pt x="659" y="990"/>
                  <a:pt x="643" y="982"/>
                </a:cubicBezTo>
                <a:cubicBezTo>
                  <a:pt x="634" y="977"/>
                  <a:pt x="630" y="965"/>
                  <a:pt x="626" y="956"/>
                </a:cubicBezTo>
                <a:cubicBezTo>
                  <a:pt x="607" y="913"/>
                  <a:pt x="607" y="859"/>
                  <a:pt x="573" y="825"/>
                </a:cubicBezTo>
                <a:cubicBezTo>
                  <a:pt x="556" y="776"/>
                  <a:pt x="509" y="788"/>
                  <a:pt x="460" y="782"/>
                </a:cubicBezTo>
                <a:cubicBezTo>
                  <a:pt x="416" y="767"/>
                  <a:pt x="418" y="792"/>
                  <a:pt x="381" y="816"/>
                </a:cubicBezTo>
                <a:cubicBezTo>
                  <a:pt x="362" y="872"/>
                  <a:pt x="319" y="916"/>
                  <a:pt x="276" y="956"/>
                </a:cubicBezTo>
                <a:cubicBezTo>
                  <a:pt x="233" y="945"/>
                  <a:pt x="198" y="954"/>
                  <a:pt x="224" y="895"/>
                </a:cubicBezTo>
                <a:cubicBezTo>
                  <a:pt x="227" y="887"/>
                  <a:pt x="236" y="884"/>
                  <a:pt x="242" y="878"/>
                </a:cubicBezTo>
                <a:cubicBezTo>
                  <a:pt x="252" y="845"/>
                  <a:pt x="270" y="820"/>
                  <a:pt x="285" y="790"/>
                </a:cubicBezTo>
                <a:cubicBezTo>
                  <a:pt x="289" y="782"/>
                  <a:pt x="289" y="772"/>
                  <a:pt x="294" y="764"/>
                </a:cubicBezTo>
                <a:cubicBezTo>
                  <a:pt x="307" y="745"/>
                  <a:pt x="325" y="731"/>
                  <a:pt x="338" y="712"/>
                </a:cubicBezTo>
                <a:cubicBezTo>
                  <a:pt x="312" y="686"/>
                  <a:pt x="281" y="662"/>
                  <a:pt x="250" y="642"/>
                </a:cubicBezTo>
                <a:cubicBezTo>
                  <a:pt x="183" y="651"/>
                  <a:pt x="124" y="673"/>
                  <a:pt x="58" y="686"/>
                </a:cubicBezTo>
                <a:cubicBezTo>
                  <a:pt x="41" y="683"/>
                  <a:pt x="17" y="691"/>
                  <a:pt x="6" y="677"/>
                </a:cubicBezTo>
                <a:cubicBezTo>
                  <a:pt x="0" y="669"/>
                  <a:pt x="23" y="588"/>
                  <a:pt x="41" y="581"/>
                </a:cubicBezTo>
                <a:cubicBezTo>
                  <a:pt x="57" y="575"/>
                  <a:pt x="76" y="576"/>
                  <a:pt x="93" y="572"/>
                </a:cubicBezTo>
                <a:cubicBezTo>
                  <a:pt x="142" y="561"/>
                  <a:pt x="182" y="544"/>
                  <a:pt x="233" y="537"/>
                </a:cubicBezTo>
                <a:cubicBezTo>
                  <a:pt x="260" y="458"/>
                  <a:pt x="224" y="563"/>
                  <a:pt x="250" y="485"/>
                </a:cubicBezTo>
                <a:cubicBezTo>
                  <a:pt x="256" y="467"/>
                  <a:pt x="268" y="432"/>
                  <a:pt x="268" y="432"/>
                </a:cubicBezTo>
                <a:cubicBezTo>
                  <a:pt x="252" y="386"/>
                  <a:pt x="216" y="380"/>
                  <a:pt x="189" y="345"/>
                </a:cubicBezTo>
                <a:cubicBezTo>
                  <a:pt x="176" y="328"/>
                  <a:pt x="154" y="293"/>
                  <a:pt x="154" y="293"/>
                </a:cubicBezTo>
                <a:cubicBezTo>
                  <a:pt x="144" y="259"/>
                  <a:pt x="132" y="251"/>
                  <a:pt x="102" y="232"/>
                </a:cubicBezTo>
                <a:cubicBezTo>
                  <a:pt x="114" y="198"/>
                  <a:pt x="138" y="170"/>
                  <a:pt x="163" y="144"/>
                </a:cubicBezTo>
                <a:cubicBezTo>
                  <a:pt x="210" y="193"/>
                  <a:pt x="151" y="127"/>
                  <a:pt x="189" y="188"/>
                </a:cubicBezTo>
                <a:cubicBezTo>
                  <a:pt x="204" y="213"/>
                  <a:pt x="228" y="231"/>
                  <a:pt x="250" y="249"/>
                </a:cubicBezTo>
                <a:cubicBezTo>
                  <a:pt x="280" y="273"/>
                  <a:pt x="271" y="288"/>
                  <a:pt x="311" y="302"/>
                </a:cubicBezTo>
                <a:cubicBezTo>
                  <a:pt x="391" y="275"/>
                  <a:pt x="292" y="313"/>
                  <a:pt x="355" y="275"/>
                </a:cubicBezTo>
                <a:cubicBezTo>
                  <a:pt x="371" y="266"/>
                  <a:pt x="390" y="264"/>
                  <a:pt x="407" y="258"/>
                </a:cubicBezTo>
                <a:cubicBezTo>
                  <a:pt x="413" y="252"/>
                  <a:pt x="417" y="241"/>
                  <a:pt x="425" y="240"/>
                </a:cubicBezTo>
                <a:cubicBezTo>
                  <a:pt x="439" y="238"/>
                  <a:pt x="468" y="249"/>
                  <a:pt x="468" y="249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010280" y="5562720"/>
            <a:ext cx="53352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362320" y="4876560"/>
            <a:ext cx="16002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43200" y="5943600"/>
            <a:ext cx="32767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477120" y="4114800"/>
            <a:ext cx="266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Intercambiadores con aletas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2971800" y="1600200"/>
                <a:ext cx="2819520" cy="12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533520"/>
            <a:ext cx="609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riterios para el diseño y dimensionamiento de equipos de intercambio de calor con ale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971800" y="251460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28954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746520" y="2527200"/>
            <a:ext cx="139680" cy="343080"/>
          </a:xfrm>
          <a:custGeom>
            <a:avLst/>
            <a:gdLst/>
            <a:ahLst/>
            <a:rect l="l" t="t" r="r" b="b"/>
            <a:pathLst>
              <a:path w="88" h="216">
                <a:moveTo>
                  <a:pt x="88" y="0"/>
                </a:moveTo>
                <a:cubicBezTo>
                  <a:pt x="40" y="16"/>
                  <a:pt x="16" y="49"/>
                  <a:pt x="0" y="96"/>
                </a:cubicBezTo>
                <a:cubicBezTo>
                  <a:pt x="12" y="132"/>
                  <a:pt x="35" y="161"/>
                  <a:pt x="56" y="192"/>
                </a:cubicBezTo>
                <a:cubicBezTo>
                  <a:pt x="61" y="200"/>
                  <a:pt x="62" y="216"/>
                  <a:pt x="72" y="216"/>
                </a:cubicBezTo>
                <a:cubicBezTo>
                  <a:pt x="77" y="216"/>
                  <a:pt x="83" y="216"/>
                  <a:pt x="88" y="2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000680" y="2527200"/>
            <a:ext cx="380880" cy="373320"/>
          </a:xfrm>
          <a:custGeom>
            <a:avLst/>
            <a:gdLst/>
            <a:ahLst/>
            <a:rect l="l" t="t" r="r" b="b"/>
            <a:pathLst>
              <a:path w="240" h="235">
                <a:moveTo>
                  <a:pt x="88" y="0"/>
                </a:moveTo>
                <a:cubicBezTo>
                  <a:pt x="72" y="5"/>
                  <a:pt x="49" y="2"/>
                  <a:pt x="40" y="16"/>
                </a:cubicBezTo>
                <a:cubicBezTo>
                  <a:pt x="24" y="40"/>
                  <a:pt x="16" y="64"/>
                  <a:pt x="0" y="88"/>
                </a:cubicBezTo>
                <a:cubicBezTo>
                  <a:pt x="3" y="104"/>
                  <a:pt x="1" y="121"/>
                  <a:pt x="8" y="136"/>
                </a:cubicBezTo>
                <a:cubicBezTo>
                  <a:pt x="12" y="145"/>
                  <a:pt x="25" y="145"/>
                  <a:pt x="32" y="152"/>
                </a:cubicBezTo>
                <a:cubicBezTo>
                  <a:pt x="85" y="205"/>
                  <a:pt x="8" y="149"/>
                  <a:pt x="72" y="192"/>
                </a:cubicBezTo>
                <a:cubicBezTo>
                  <a:pt x="100" y="235"/>
                  <a:pt x="107" y="233"/>
                  <a:pt x="160" y="224"/>
                </a:cubicBezTo>
                <a:cubicBezTo>
                  <a:pt x="185" y="199"/>
                  <a:pt x="207" y="193"/>
                  <a:pt x="232" y="168"/>
                </a:cubicBezTo>
                <a:cubicBezTo>
                  <a:pt x="235" y="155"/>
                  <a:pt x="240" y="142"/>
                  <a:pt x="240" y="128"/>
                </a:cubicBezTo>
                <a:cubicBezTo>
                  <a:pt x="240" y="3"/>
                  <a:pt x="203" y="0"/>
                  <a:pt x="88" y="0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86200" y="2971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91120" y="2971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657600" y="3200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4190760" y="3200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9880" y="320040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d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743200" y="1600200"/>
            <a:ext cx="254160" cy="927000"/>
          </a:xfrm>
          <a:custGeom>
            <a:avLst/>
            <a:gdLst/>
            <a:ahLst/>
            <a:rect l="l" t="t" r="r" b="b"/>
            <a:pathLst>
              <a:path w="160" h="584">
                <a:moveTo>
                  <a:pt x="144" y="584"/>
                </a:moveTo>
                <a:cubicBezTo>
                  <a:pt x="152" y="508"/>
                  <a:pt x="160" y="432"/>
                  <a:pt x="144" y="344"/>
                </a:cubicBezTo>
                <a:cubicBezTo>
                  <a:pt x="128" y="256"/>
                  <a:pt x="72" y="112"/>
                  <a:pt x="48" y="56"/>
                </a:cubicBezTo>
                <a:cubicBezTo>
                  <a:pt x="24" y="0"/>
                  <a:pt x="8" y="16"/>
                  <a:pt x="0" y="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819520" y="2895480"/>
            <a:ext cx="177840" cy="685800"/>
          </a:xfrm>
          <a:custGeom>
            <a:avLst/>
            <a:gdLst/>
            <a:ahLst/>
            <a:rect l="l" t="t" r="r" b="b"/>
            <a:pathLst>
              <a:path w="112" h="432">
                <a:moveTo>
                  <a:pt x="96" y="0"/>
                </a:moveTo>
                <a:cubicBezTo>
                  <a:pt x="104" y="36"/>
                  <a:pt x="112" y="72"/>
                  <a:pt x="96" y="144"/>
                </a:cubicBezTo>
                <a:cubicBezTo>
                  <a:pt x="80" y="216"/>
                  <a:pt x="16" y="384"/>
                  <a:pt x="0" y="43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438280" y="1600200"/>
            <a:ext cx="330480" cy="2057400"/>
          </a:xfrm>
          <a:custGeom>
            <a:avLst/>
            <a:gdLst/>
            <a:ahLst/>
            <a:rect l="l" t="t" r="r" b="b"/>
            <a:pathLst>
              <a:path w="208" h="1296">
                <a:moveTo>
                  <a:pt x="0" y="0"/>
                </a:moveTo>
                <a:cubicBezTo>
                  <a:pt x="32" y="40"/>
                  <a:pt x="64" y="80"/>
                  <a:pt x="96" y="144"/>
                </a:cubicBezTo>
                <a:cubicBezTo>
                  <a:pt x="128" y="208"/>
                  <a:pt x="176" y="304"/>
                  <a:pt x="192" y="384"/>
                </a:cubicBezTo>
                <a:cubicBezTo>
                  <a:pt x="208" y="464"/>
                  <a:pt x="192" y="560"/>
                  <a:pt x="192" y="624"/>
                </a:cubicBezTo>
                <a:cubicBezTo>
                  <a:pt x="192" y="688"/>
                  <a:pt x="192" y="720"/>
                  <a:pt x="192" y="768"/>
                </a:cubicBezTo>
                <a:cubicBezTo>
                  <a:pt x="192" y="816"/>
                  <a:pt x="200" y="856"/>
                  <a:pt x="192" y="912"/>
                </a:cubicBezTo>
                <a:cubicBezTo>
                  <a:pt x="184" y="968"/>
                  <a:pt x="168" y="1040"/>
                  <a:pt x="144" y="1104"/>
                </a:cubicBezTo>
                <a:cubicBezTo>
                  <a:pt x="120" y="1168"/>
                  <a:pt x="64" y="1264"/>
                  <a:pt x="48" y="129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048120" y="251460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352680" y="26668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724280" y="25146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495680" y="2743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4038480" y="2133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86200" y="1752480"/>
            <a:ext cx="533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191120" y="1981080"/>
            <a:ext cx="838080" cy="685800"/>
          </a:xfrm>
          <a:custGeom>
            <a:avLst/>
            <a:gdLst/>
            <a:ahLst/>
            <a:rect l="l" t="t" r="r" b="b"/>
            <a:pathLst>
              <a:path w="528" h="432">
                <a:moveTo>
                  <a:pt x="0" y="432"/>
                </a:moveTo>
                <a:cubicBezTo>
                  <a:pt x="124" y="372"/>
                  <a:pt x="248" y="312"/>
                  <a:pt x="336" y="240"/>
                </a:cubicBezTo>
                <a:cubicBezTo>
                  <a:pt x="424" y="168"/>
                  <a:pt x="476" y="84"/>
                  <a:pt x="52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5029200" y="182844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029200" y="152388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A(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943600" y="160020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253120" y="2133720"/>
            <a:ext cx="3678120" cy="174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calor que entra por conducció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calor que sale por condu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calor que sale por conve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895480" y="1828800"/>
            <a:ext cx="685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733920" y="263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52280" y="3962520"/>
                <a:ext cx="2438640" cy="23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kA</m:t>
                        </m:r>
                        <m:sSub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T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x</m:t>
                                    </m:r>
                                  </m:den>
                                </m:f>
                              </m:e>
                            </m:d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kA</m:t>
                        </m:r>
                        <m:sSub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T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x</m:t>
                                    </m:r>
                                  </m:den>
                                </m:f>
                              </m:e>
                            </m:d>
                          </m:e>
                          <m:sub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sub>
                        </m:sSub>
                      </m:e>
                      <m:e/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hS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T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∞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area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perímetro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36050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5335560" y="4724280"/>
                <a:ext cx="380844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kA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den>
                        </m:f>
                      </m:e>
                    </m:d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h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T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∞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4" name=""/>
          <p:cNvSpPr/>
          <p:nvPr/>
        </p:nvSpPr>
        <p:spPr>
          <a:xfrm>
            <a:off x="3068640" y="4952880"/>
            <a:ext cx="1324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= q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+q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62320" y="5029200"/>
            <a:ext cx="533160" cy="304920"/>
          </a:xfrm>
          <a:prstGeom prst="rightArrow">
            <a:avLst>
              <a:gd name="adj1" fmla="val 50000"/>
              <a:gd name="adj2" fmla="val 4371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724280" y="5029200"/>
            <a:ext cx="533520" cy="304920"/>
          </a:xfrm>
          <a:prstGeom prst="rightArrow">
            <a:avLst>
              <a:gd name="adj1" fmla="val 50000"/>
              <a:gd name="adj2" fmla="val 4374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595800" y="506520"/>
            <a:ext cx="591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En caso de aletas de sección uniforme, A(x)=A, P(x)=P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la ecuación se simplifica 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705720" y="152280"/>
            <a:ext cx="1560240" cy="1573200"/>
          </a:xfrm>
          <a:custGeom>
            <a:avLst/>
            <a:gdLst/>
            <a:ahLst/>
            <a:rect l="l" t="t" r="r" b="b"/>
            <a:pathLst>
              <a:path w="983" h="991">
                <a:moveTo>
                  <a:pt x="468" y="249"/>
                </a:moveTo>
                <a:cubicBezTo>
                  <a:pt x="476" y="46"/>
                  <a:pt x="412" y="0"/>
                  <a:pt x="556" y="22"/>
                </a:cubicBezTo>
                <a:cubicBezTo>
                  <a:pt x="559" y="98"/>
                  <a:pt x="548" y="175"/>
                  <a:pt x="564" y="249"/>
                </a:cubicBezTo>
                <a:cubicBezTo>
                  <a:pt x="567" y="264"/>
                  <a:pt x="594" y="252"/>
                  <a:pt x="608" y="258"/>
                </a:cubicBezTo>
                <a:cubicBezTo>
                  <a:pt x="652" y="276"/>
                  <a:pt x="620" y="288"/>
                  <a:pt x="687" y="302"/>
                </a:cubicBezTo>
                <a:cubicBezTo>
                  <a:pt x="699" y="299"/>
                  <a:pt x="712" y="300"/>
                  <a:pt x="722" y="293"/>
                </a:cubicBezTo>
                <a:cubicBezTo>
                  <a:pt x="731" y="287"/>
                  <a:pt x="733" y="275"/>
                  <a:pt x="739" y="267"/>
                </a:cubicBezTo>
                <a:cubicBezTo>
                  <a:pt x="757" y="244"/>
                  <a:pt x="773" y="232"/>
                  <a:pt x="800" y="223"/>
                </a:cubicBezTo>
                <a:cubicBezTo>
                  <a:pt x="851" y="172"/>
                  <a:pt x="827" y="190"/>
                  <a:pt x="870" y="162"/>
                </a:cubicBezTo>
                <a:cubicBezTo>
                  <a:pt x="926" y="177"/>
                  <a:pt x="895" y="184"/>
                  <a:pt x="940" y="214"/>
                </a:cubicBezTo>
                <a:cubicBezTo>
                  <a:pt x="926" y="254"/>
                  <a:pt x="910" y="246"/>
                  <a:pt x="887" y="275"/>
                </a:cubicBezTo>
                <a:cubicBezTo>
                  <a:pt x="880" y="283"/>
                  <a:pt x="878" y="295"/>
                  <a:pt x="870" y="302"/>
                </a:cubicBezTo>
                <a:cubicBezTo>
                  <a:pt x="863" y="308"/>
                  <a:pt x="853" y="307"/>
                  <a:pt x="844" y="310"/>
                </a:cubicBezTo>
                <a:cubicBezTo>
                  <a:pt x="818" y="328"/>
                  <a:pt x="795" y="335"/>
                  <a:pt x="765" y="345"/>
                </a:cubicBezTo>
                <a:cubicBezTo>
                  <a:pt x="762" y="354"/>
                  <a:pt x="761" y="363"/>
                  <a:pt x="756" y="371"/>
                </a:cubicBezTo>
                <a:cubicBezTo>
                  <a:pt x="752" y="378"/>
                  <a:pt x="739" y="381"/>
                  <a:pt x="739" y="389"/>
                </a:cubicBezTo>
                <a:cubicBezTo>
                  <a:pt x="739" y="402"/>
                  <a:pt x="766" y="424"/>
                  <a:pt x="774" y="432"/>
                </a:cubicBezTo>
                <a:cubicBezTo>
                  <a:pt x="771" y="467"/>
                  <a:pt x="762" y="502"/>
                  <a:pt x="765" y="537"/>
                </a:cubicBezTo>
                <a:cubicBezTo>
                  <a:pt x="766" y="550"/>
                  <a:pt x="838" y="594"/>
                  <a:pt x="852" y="598"/>
                </a:cubicBezTo>
                <a:cubicBezTo>
                  <a:pt x="878" y="624"/>
                  <a:pt x="895" y="633"/>
                  <a:pt x="931" y="642"/>
                </a:cubicBezTo>
                <a:cubicBezTo>
                  <a:pt x="961" y="661"/>
                  <a:pt x="973" y="669"/>
                  <a:pt x="983" y="703"/>
                </a:cubicBezTo>
                <a:cubicBezTo>
                  <a:pt x="974" y="709"/>
                  <a:pt x="964" y="712"/>
                  <a:pt x="957" y="720"/>
                </a:cubicBezTo>
                <a:cubicBezTo>
                  <a:pt x="943" y="736"/>
                  <a:pt x="922" y="773"/>
                  <a:pt x="922" y="773"/>
                </a:cubicBezTo>
                <a:cubicBezTo>
                  <a:pt x="855" y="750"/>
                  <a:pt x="834" y="672"/>
                  <a:pt x="765" y="651"/>
                </a:cubicBezTo>
                <a:cubicBezTo>
                  <a:pt x="759" y="645"/>
                  <a:pt x="756" y="633"/>
                  <a:pt x="748" y="633"/>
                </a:cubicBezTo>
                <a:cubicBezTo>
                  <a:pt x="728" y="633"/>
                  <a:pt x="728" y="669"/>
                  <a:pt x="722" y="677"/>
                </a:cubicBezTo>
                <a:cubicBezTo>
                  <a:pt x="699" y="707"/>
                  <a:pt x="666" y="734"/>
                  <a:pt x="634" y="755"/>
                </a:cubicBezTo>
                <a:cubicBezTo>
                  <a:pt x="641" y="775"/>
                  <a:pt x="654" y="840"/>
                  <a:pt x="669" y="860"/>
                </a:cubicBezTo>
                <a:cubicBezTo>
                  <a:pt x="682" y="877"/>
                  <a:pt x="713" y="904"/>
                  <a:pt x="713" y="904"/>
                </a:cubicBezTo>
                <a:cubicBezTo>
                  <a:pt x="727" y="945"/>
                  <a:pt x="708" y="952"/>
                  <a:pt x="695" y="991"/>
                </a:cubicBezTo>
                <a:cubicBezTo>
                  <a:pt x="678" y="988"/>
                  <a:pt x="659" y="990"/>
                  <a:pt x="643" y="982"/>
                </a:cubicBezTo>
                <a:cubicBezTo>
                  <a:pt x="634" y="977"/>
                  <a:pt x="630" y="965"/>
                  <a:pt x="626" y="956"/>
                </a:cubicBezTo>
                <a:cubicBezTo>
                  <a:pt x="607" y="913"/>
                  <a:pt x="607" y="859"/>
                  <a:pt x="573" y="825"/>
                </a:cubicBezTo>
                <a:cubicBezTo>
                  <a:pt x="556" y="776"/>
                  <a:pt x="509" y="788"/>
                  <a:pt x="460" y="782"/>
                </a:cubicBezTo>
                <a:cubicBezTo>
                  <a:pt x="416" y="767"/>
                  <a:pt x="418" y="792"/>
                  <a:pt x="381" y="816"/>
                </a:cubicBezTo>
                <a:cubicBezTo>
                  <a:pt x="362" y="872"/>
                  <a:pt x="319" y="916"/>
                  <a:pt x="276" y="956"/>
                </a:cubicBezTo>
                <a:cubicBezTo>
                  <a:pt x="233" y="945"/>
                  <a:pt x="198" y="954"/>
                  <a:pt x="224" y="895"/>
                </a:cubicBezTo>
                <a:cubicBezTo>
                  <a:pt x="227" y="887"/>
                  <a:pt x="236" y="884"/>
                  <a:pt x="242" y="878"/>
                </a:cubicBezTo>
                <a:cubicBezTo>
                  <a:pt x="252" y="845"/>
                  <a:pt x="270" y="820"/>
                  <a:pt x="285" y="790"/>
                </a:cubicBezTo>
                <a:cubicBezTo>
                  <a:pt x="289" y="782"/>
                  <a:pt x="289" y="772"/>
                  <a:pt x="294" y="764"/>
                </a:cubicBezTo>
                <a:cubicBezTo>
                  <a:pt x="307" y="745"/>
                  <a:pt x="325" y="731"/>
                  <a:pt x="338" y="712"/>
                </a:cubicBezTo>
                <a:cubicBezTo>
                  <a:pt x="312" y="686"/>
                  <a:pt x="281" y="662"/>
                  <a:pt x="250" y="642"/>
                </a:cubicBezTo>
                <a:cubicBezTo>
                  <a:pt x="183" y="651"/>
                  <a:pt x="124" y="673"/>
                  <a:pt x="58" y="686"/>
                </a:cubicBezTo>
                <a:cubicBezTo>
                  <a:pt x="41" y="683"/>
                  <a:pt x="17" y="691"/>
                  <a:pt x="6" y="677"/>
                </a:cubicBezTo>
                <a:cubicBezTo>
                  <a:pt x="0" y="669"/>
                  <a:pt x="23" y="588"/>
                  <a:pt x="41" y="581"/>
                </a:cubicBezTo>
                <a:cubicBezTo>
                  <a:pt x="57" y="575"/>
                  <a:pt x="76" y="576"/>
                  <a:pt x="93" y="572"/>
                </a:cubicBezTo>
                <a:cubicBezTo>
                  <a:pt x="142" y="561"/>
                  <a:pt x="182" y="544"/>
                  <a:pt x="233" y="537"/>
                </a:cubicBezTo>
                <a:cubicBezTo>
                  <a:pt x="260" y="458"/>
                  <a:pt x="224" y="563"/>
                  <a:pt x="250" y="485"/>
                </a:cubicBezTo>
                <a:cubicBezTo>
                  <a:pt x="256" y="467"/>
                  <a:pt x="268" y="432"/>
                  <a:pt x="268" y="432"/>
                </a:cubicBezTo>
                <a:cubicBezTo>
                  <a:pt x="252" y="386"/>
                  <a:pt x="216" y="380"/>
                  <a:pt x="189" y="345"/>
                </a:cubicBezTo>
                <a:cubicBezTo>
                  <a:pt x="176" y="328"/>
                  <a:pt x="154" y="293"/>
                  <a:pt x="154" y="293"/>
                </a:cubicBezTo>
                <a:cubicBezTo>
                  <a:pt x="144" y="259"/>
                  <a:pt x="132" y="251"/>
                  <a:pt x="102" y="232"/>
                </a:cubicBezTo>
                <a:cubicBezTo>
                  <a:pt x="114" y="198"/>
                  <a:pt x="138" y="170"/>
                  <a:pt x="163" y="144"/>
                </a:cubicBezTo>
                <a:cubicBezTo>
                  <a:pt x="210" y="193"/>
                  <a:pt x="151" y="127"/>
                  <a:pt x="189" y="188"/>
                </a:cubicBezTo>
                <a:cubicBezTo>
                  <a:pt x="204" y="213"/>
                  <a:pt x="228" y="231"/>
                  <a:pt x="250" y="249"/>
                </a:cubicBezTo>
                <a:cubicBezTo>
                  <a:pt x="280" y="273"/>
                  <a:pt x="271" y="288"/>
                  <a:pt x="311" y="302"/>
                </a:cubicBezTo>
                <a:cubicBezTo>
                  <a:pt x="391" y="275"/>
                  <a:pt x="292" y="313"/>
                  <a:pt x="355" y="275"/>
                </a:cubicBezTo>
                <a:cubicBezTo>
                  <a:pt x="371" y="266"/>
                  <a:pt x="390" y="264"/>
                  <a:pt x="407" y="258"/>
                </a:cubicBezTo>
                <a:cubicBezTo>
                  <a:pt x="413" y="252"/>
                  <a:pt x="417" y="241"/>
                  <a:pt x="425" y="240"/>
                </a:cubicBezTo>
                <a:cubicBezTo>
                  <a:pt x="439" y="238"/>
                  <a:pt x="468" y="249"/>
                  <a:pt x="468" y="249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238880" y="685800"/>
            <a:ext cx="53352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776760" y="31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1295280" y="1371600"/>
                <a:ext cx="281952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T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kA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T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∞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92" name=""/>
          <p:cNvSpPr/>
          <p:nvPr/>
        </p:nvSpPr>
        <p:spPr>
          <a:xfrm>
            <a:off x="762120" y="2514600"/>
            <a:ext cx="769608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Con condiciones de borde T(0) = T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y dT/dx =0  en x = L (largo aleta), se llega 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767040" y="287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1143000" y="3657600"/>
                <a:ext cx="2438280" cy="168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∞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∞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cosh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m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L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cosh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den>
                        </m:f>
                      </m:e>
                      <m:e/>
                      <m:e>
                        <m:r>
                          <m:t xml:space="preserve">m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hP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kA</m:t>
                                </m:r>
                              </m:den>
                            </m:f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"/>
          <p:cNvSpPr/>
          <p:nvPr/>
        </p:nvSpPr>
        <p:spPr>
          <a:xfrm flipV="1">
            <a:off x="5562720" y="350496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562720" y="548640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30524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4495680" y="4191120"/>
                <a:ext cx="91440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T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∞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∞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867280" y="54100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x                  L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562720" y="3733920"/>
            <a:ext cx="2361960" cy="1676160"/>
          </a:xfrm>
          <a:custGeom>
            <a:avLst/>
            <a:gdLst/>
            <a:ahLst/>
            <a:rect l="l" t="t" r="r" b="b"/>
            <a:pathLst>
              <a:path w="1488" h="1056">
                <a:moveTo>
                  <a:pt x="0" y="0"/>
                </a:moveTo>
                <a:cubicBezTo>
                  <a:pt x="28" y="152"/>
                  <a:pt x="56" y="304"/>
                  <a:pt x="144" y="432"/>
                </a:cubicBezTo>
                <a:cubicBezTo>
                  <a:pt x="232" y="560"/>
                  <a:pt x="304" y="664"/>
                  <a:pt x="528" y="768"/>
                </a:cubicBezTo>
                <a:cubicBezTo>
                  <a:pt x="752" y="872"/>
                  <a:pt x="1328" y="1008"/>
                  <a:pt x="1488" y="105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562720" y="3809880"/>
            <a:ext cx="2361960" cy="1447920"/>
          </a:xfrm>
          <a:custGeom>
            <a:avLst/>
            <a:gdLst/>
            <a:ahLst/>
            <a:rect l="l" t="t" r="r" b="b"/>
            <a:pathLst>
              <a:path w="1488" h="912">
                <a:moveTo>
                  <a:pt x="0" y="0"/>
                </a:moveTo>
                <a:cubicBezTo>
                  <a:pt x="60" y="108"/>
                  <a:pt x="120" y="216"/>
                  <a:pt x="288" y="336"/>
                </a:cubicBezTo>
                <a:cubicBezTo>
                  <a:pt x="456" y="456"/>
                  <a:pt x="808" y="624"/>
                  <a:pt x="1008" y="720"/>
                </a:cubicBezTo>
                <a:cubicBezTo>
                  <a:pt x="1208" y="816"/>
                  <a:pt x="1348" y="864"/>
                  <a:pt x="1488" y="9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3733920"/>
            <a:ext cx="2438280" cy="990360"/>
          </a:xfrm>
          <a:custGeom>
            <a:avLst/>
            <a:gdLst/>
            <a:ahLst/>
            <a:rect l="l" t="t" r="r" b="b"/>
            <a:pathLst>
              <a:path w="1536" h="624">
                <a:moveTo>
                  <a:pt x="0" y="0"/>
                </a:moveTo>
                <a:cubicBezTo>
                  <a:pt x="92" y="80"/>
                  <a:pt x="184" y="160"/>
                  <a:pt x="336" y="240"/>
                </a:cubicBezTo>
                <a:cubicBezTo>
                  <a:pt x="488" y="320"/>
                  <a:pt x="712" y="416"/>
                  <a:pt x="912" y="480"/>
                </a:cubicBezTo>
                <a:cubicBezTo>
                  <a:pt x="1112" y="544"/>
                  <a:pt x="1324" y="584"/>
                  <a:pt x="153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952880" y="342900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24600" y="1219320"/>
            <a:ext cx="447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934320" y="990720"/>
            <a:ext cx="685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924680" y="53352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48920" y="152280"/>
            <a:ext cx="395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El calor total transferido por aleta 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00536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0536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73392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8600" y="1676520"/>
            <a:ext cx="8915400" cy="42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En la práctica para aplicar lo anterior al diseño se introduce el concepto de eficiencia de alet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= q/q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en que q es el calor real transmitido por la aleta (el calculado anteriormente) y q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el calor máximo que es posible transferir por la aleta (caso en que T(x)=T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). De este modo q se puede expresar com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q = A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h </a:t>
            </a:r>
            <a:r>
              <a:rPr b="0" lang="es-MX" sz="20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(T - T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73392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1143000" y="609480"/>
                <a:ext cx="251460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S</m:t>
                            </m:r>
                          </m:sub>
                          <m:sup/>
                          <m:e>
                            <m:r>
                              <m:t xml:space="preserve">h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∞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e>
                        </m:nary>
                      </m:e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A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m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∞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tanh</m:t>
                        </m:r>
                        <m:r>
                          <m:rPr>
                            <m:lit/>
                            <m:nor/>
                          </m:rPr>
                          <m:t xml:space="preserve">mh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914400" y="380880"/>
            <a:ext cx="6781680" cy="36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Luego el calor total transmitido por las aletas (área A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) y la superficie exterior del tubo libre de aletas (A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) 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h(T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- T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) + A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h(T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- T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) = h(A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+A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s-MX" sz="20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)(T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- T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Reemplazando en la expresion de la resistencia se llega 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73860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1219320" y="2666880"/>
                <a:ext cx="4495680" cy="141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η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914400" y="4267080"/>
            <a:ext cx="609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Si la eficiencia de la aleta aumenta, disminuye la resistencia a la transferencia de calor. ¿qué diseño de aleta produce buenas eficiencia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4T05:42:27Z</dcterms:created>
  <dc:creator>Tomás Vargas </dc:creator>
  <dc:description/>
  <dc:language>en-US</dc:language>
  <cp:lastModifiedBy>Tomas Vargas</cp:lastModifiedBy>
  <dcterms:modified xsi:type="dcterms:W3CDTF">2006-08-07T20:32:19Z</dcterms:modified>
  <cp:revision>9</cp:revision>
  <dc:subject/>
  <dc:title>Presentación de PowerPoint</dc:title>
</cp:coreProperties>
</file>