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561-B370-4D83-ADF5-752A3137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9FE-144B-4373-9EFB-6D8179E6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AC3-D9A6-479C-A6A4-79F08BB9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6C4-6A21-406E-AAAD-B714AA9E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4755-768A-49A1-A5E0-D7C12BD7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73F7-6525-47C8-9136-6FE0560B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27B8-CA5A-4E46-A19F-B3F16595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47FE-E32F-4835-AE89-5A41A44D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9421-4F24-4309-85E5-03A73139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5233-D648-4C5A-B31E-A377B4B5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CC85-1B88-4A99-AC69-966AA9B8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AF7-C2EC-4971-AA8D-809F696C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BB07-3115-47A8-A6BF-11F4440C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35AD-4F1E-415D-A7A1-3CA0B460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7CF0-4ABC-4459-8AB1-1EAFFA86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A738-EB10-46EA-8EB8-E0C55547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1CEF-99EB-4B42-AA98-005621DB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95C-2355-45C0-B3C9-BC765893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56B-F98E-488B-8C8C-A09FB0F4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BD3-820B-4CEA-89F5-D8EE0F5A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694-D590-41C3-9777-58842491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B26-05AF-4108-B62A-CD5D49AA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A97-943B-4036-9D1E-8F4738C7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765-CCB8-43B7-A8AC-E907AC53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F18F-8273-482F-B97F-30C1797DD8D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E1DF-59F6-4A47-B98E-CAB2E5D5DA5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alizar el comportamiento de un Intercambiador de Calor en General, fluido frío, fluido  cali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5562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207440" y="3581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erencia de Cal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743200"/>
                <a:ext cx="434340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17480" y="190512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 Global de Transferencia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81080" y="2895480"/>
            <a:ext cx="5334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16765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114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1600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676520"/>
            <a:ext cx="2209680" cy="121896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20040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1152" y="0"/>
                </a:moveTo>
                <a:cubicBezTo>
                  <a:pt x="1140" y="96"/>
                  <a:pt x="1128" y="192"/>
                  <a:pt x="1056" y="288"/>
                </a:cubicBezTo>
                <a:cubicBezTo>
                  <a:pt x="984" y="384"/>
                  <a:pt x="896" y="504"/>
                  <a:pt x="720" y="576"/>
                </a:cubicBezTo>
                <a:cubicBezTo>
                  <a:pt x="544" y="648"/>
                  <a:pt x="272" y="684"/>
                  <a:pt x="0" y="7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895120"/>
            <a:ext cx="7621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057400"/>
            <a:ext cx="1143000" cy="990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8720" y="685800"/>
            <a:ext cx="30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s Loc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6410520" cy="2190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55640" y="3390840"/>
            <a:ext cx="6419880" cy="3467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 de Haz de Tub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 de Camisa Do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943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07080" y="838080"/>
            <a:ext cx="540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so de Convección sobre superfic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3733920"/>
            <a:ext cx="5333760" cy="10666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6668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2514600"/>
            <a:ext cx="2210040" cy="121932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2971800"/>
            <a:ext cx="1371600" cy="12193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190760" y="3733920"/>
            <a:ext cx="99036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4572000"/>
            <a:ext cx="1828800" cy="1371600"/>
          </a:xfrm>
          <a:custGeom>
            <a:avLst/>
            <a:gdLst/>
            <a:ahLst/>
            <a:rect l="l" t="t" r="r" b="b"/>
            <a:pathLst>
              <a:path w="816" h="624">
                <a:moveTo>
                  <a:pt x="0" y="624"/>
                </a:moveTo>
                <a:cubicBezTo>
                  <a:pt x="160" y="416"/>
                  <a:pt x="320" y="208"/>
                  <a:pt x="384" y="192"/>
                </a:cubicBezTo>
                <a:cubicBezTo>
                  <a:pt x="448" y="176"/>
                  <a:pt x="312" y="560"/>
                  <a:pt x="384" y="528"/>
                </a:cubicBezTo>
                <a:cubicBezTo>
                  <a:pt x="456" y="496"/>
                  <a:pt x="736" y="96"/>
                  <a:pt x="816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657240" y="2286000"/>
            <a:ext cx="289548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6-08-02T18:05:18Z</dcterms:modified>
  <cp:revision>314</cp:revision>
  <dc:subject/>
  <dc:title>Reactor Agitado</dc:title>
</cp:coreProperties>
</file>