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C88-1B7B-461E-BB5F-6EA1AF21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3C3-B060-4EA2-9C4D-15C1F3BC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461-6B42-4874-83A1-9D674AA3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249-B04E-4EAA-896A-969419C7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72EE-D548-4AF1-8289-8261BD09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6A83-A602-42FC-884D-4D03DED6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4C6F-B5E0-457A-BE9A-EA3341B8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4DD6-A06E-44D3-BFC6-BC59C871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248E-C393-46D5-BF5D-828DC5F0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2281-7E7C-4F4A-B57C-6444DF59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85A9-9D5A-4385-BB01-BFD34D0C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319-CC5B-40AC-B7A3-64B3BA26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C2FB-7032-42D9-8547-A707695C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D6BB-AF6D-4281-8514-45D540D0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6823-318F-4B62-B70D-C49E2300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801C-F40B-4242-B741-3EFFCA3C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C0D0-BA7C-4B27-BFA8-E8A80D68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F86-9D12-4E87-BFA3-5ECF1653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2E7-9398-480C-BA26-239F55BD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B38-2DA3-4535-BD16-3B004765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DF5E-9571-4062-9A84-AF8FC563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D1C-71F3-49BB-ABD6-063172AA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B02-5F2A-4DC4-9C15-3732685B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1EA-BD74-4439-BBFF-FC156443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3B8F-FF7B-4299-BD6E-39BEFBDE9A3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ABB3-47F6-4787-9BEF-DF89667E4D7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oxid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generación de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 más un rectificador de corriente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pueden realizar se pueden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Angel Sanhueza</cp:lastModifiedBy>
  <dcterms:modified xsi:type="dcterms:W3CDTF">2006-08-02T02:43:03Z</dcterms:modified>
  <cp:revision>16</cp:revision>
  <dc:subject/>
  <dc:title>Electro-obtención (EW)</dc:title>
</cp:coreProperties>
</file>