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81C-4349-4152-93FD-3980E69A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B45-1971-408B-90D3-94B0E852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AEC-6134-4245-B0E1-C4E3A4CA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85C-72ED-411F-8352-D2A1BA56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30D-85A4-4A59-987B-491DED4C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02E-2368-4708-90D9-C513323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315-7166-43B9-BF2A-3224A055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4B8-5C9F-4D90-92B0-9A839EAB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CB3-7CC0-4AE1-A079-E097D792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65C-85CE-4851-81D6-013F9CC4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012-1313-4CFB-A73E-2FB7602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F5C-BDE7-48FE-9777-E3D1FC85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4631-7402-42A1-9CC5-FA33012D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es un secador de material particulado dispuesto en 4 bandejas, el que permite controlar la velocidad y la temperatura del flujo de aire, el cual es impulsado por un 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107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emás se cuenta con una balanza digital que permite registrar en el tiempo la masa del sólido, y por lo tanto la pérdida de humeda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determina con velocímetro digital de paletas y con un sicrómetro se determinan las temperaturas del flujo de a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6880" cy="597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la velocidad de secado, la cantidad de agua evaporada 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260280"/>
          <a:ext cx="828036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036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60280"/>
          <a:ext cx="8642160" cy="60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4216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45440" cy="597708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74680"/>
            <a:ext cx="8205840" cy="632304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en la remoción de humedad de una sustancia, involucrando los fenómenos de transferencia de calor y masa, en forma 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ocurr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el sólido pierd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calor del aire, es el que se emplea en la evaporación del agua que se va incorporando al aire a medida que transcurre el proceso de seca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circular una corriente de aire caliente por sobre el material a 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determina el tipo de producto final que buscamos, 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 y semillas los niveles son 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la humedad final que buscamos está por debajo de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 del aire normal o del medio ambiente, es necesario realizar un proceso controlado de secado utilizando aire calentado por cualquier fuente de energ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georgette</cp:lastModifiedBy>
  <dcterms:modified xsi:type="dcterms:W3CDTF">2006-07-30T23:55:55Z</dcterms:modified>
  <cp:revision>6</cp:revision>
  <dc:subject/>
  <dc:title>El proceso de secado consiste en la remoción de humedad de una sustancia, involucrando los fenómenos de transferencia de calor y masa, en forma simultanea.</dc:title>
</cp:coreProperties>
</file>