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B84-B53A-43AD-830F-DD777C46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747-06B5-4CA9-8831-24D91310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CEF-909B-4F94-B3ED-BD39E239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081-F894-4512-BF21-F626CE15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9451-076B-4AB8-98B8-81026ECB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AE41-9910-42EE-8F75-11BBB821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BA2B-A5C3-4E7B-B3E7-612CF947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114A-1FE6-4F5B-B2DB-D64BD109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E639-ACEE-4749-B2E9-FBF28619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4DDE-6F2D-4817-8FCB-E5866BAD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2DF5-80B8-4482-9418-30E9E9C8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C09-7C81-42D9-A063-2DB9D062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FC1E-C02A-4C0B-BABC-74D5271D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C02B-EEFB-447C-8ADC-8FD7D414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B279-524C-485B-9820-852EE271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8939-A93A-415C-A7AF-D1D6BCCA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8F07-D706-47B9-88A5-3C5DD28C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6EB-50E9-4A22-BBDC-41464885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52E-2DD8-4A50-A47C-38255DAF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F25-847B-4DBA-9425-BD805A54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70A-A8DE-400F-9C3E-6AB52B1C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8AD-2042-443F-B054-02E4200B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4EF2-EAA2-4842-BB83-48D4154C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974-61F2-48CC-9B32-82B138BE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018E-3BCF-472E-AEC8-B688AEE0D1F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4AC7-64AD-43E8-8301-5FB17BF0837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990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  v/s  t                       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1219320"/>
            <a:ext cx="15238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6-08-09T17:27:24Z</dcterms:modified>
  <cp:revision>305</cp:revision>
  <dc:subject/>
  <dc:title>Reactor Agitado</dc:title>
</cp:coreProperties>
</file>