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D473-09EF-43E6-AB1A-DE0644C91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6E9D-29F6-4F15-9857-EC3F6E0B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7A68-A85B-4773-BE81-079A3B908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F66A-7C64-4628-AE8E-01EA7F2D8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BE12-736B-4985-A532-9D55ED24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F1EE-28B1-47FD-8C7B-87C9A019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F7E4-E47C-4663-9BE2-598FD974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D010-143E-4E58-B831-369D6028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F764-6FCC-40E1-B8F4-B114E6A0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0CE9-91DB-43EA-9ADB-89F92358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CFF8-ECBC-4158-9911-8D5F9C49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C979-C24A-415D-9766-F1C16C58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47E1-B677-42F6-BA8A-68BDE5311CE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 experiencia está diseñada para poder estudiar los fenómenos 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erencia simultánea de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lo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teri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alibración de las placas orificio</a:t>
            </a:r>
            <a:br>
              <a:rPr sz="4400"/>
            </a:br>
            <a:br>
              <a:rPr sz="18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1) Aire: Q (m</a:t>
            </a:r>
            <a:r>
              <a:rPr b="1" lang="es-E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/hr) = 3.01 ×</a:t>
            </a:r>
            <a:r>
              <a:rPr b="1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3600" spc="-1" strike="noStrike" baseline="30000">
                <a:solidFill>
                  <a:srgbClr val="000000"/>
                </a:solidFill>
                <a:latin typeface="Arial"/>
              </a:rPr>
              <a:t>0.49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,</a:t>
            </a:r>
            <a:br>
              <a:rPr sz="36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h (cm. CCl</a:t>
            </a:r>
            <a:r>
              <a:rPr b="0" lang="es-E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), a 18º C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2) Agua: Q (L/min.) = 1.04 ×</a:t>
            </a:r>
            <a:r>
              <a:rPr b="1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3600" spc="-1" strike="noStrike" baseline="30000">
                <a:solidFill>
                  <a:srgbClr val="000000"/>
                </a:solidFill>
                <a:latin typeface="Arial"/>
              </a:rPr>
              <a:t>0.51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h (cm. Hg.)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43280" y="368280"/>
            <a:ext cx="5256000" cy="612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balance de materia en una torre de enfriamiento 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+ 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G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+ 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nd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es el gasto másico del 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es el gasto másico del ag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 y 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e refieren a la entrada y a la salida respectiv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balance de energía global 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*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G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+ L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*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L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G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*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G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+ L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*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L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nde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es la entalpía de la corriente respectiv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IBLIOGRAF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eybal, R.E.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Operaciones de Transferencia de Masa.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ª edición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 Graw Hill. México, 198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Ketta, R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cyclopedia of Chemical Processing &amp; Design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el Dekker In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. 11. New York, 19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oust, A.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Principios de Operaciones Unitarias.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ª edición. C.E.C.S.A. México, 196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ry, R. &amp; Green, D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rry’s ChemicalEngineer’sHandbook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ª edi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 Graw Hill. NewYork, 198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ificar los balances de masa y de energía en una torre de enfriamient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icar las variables que afectan su operació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render el proceso de enfriamiento como una transferencia simultanea de masa y de calo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operaciones más sencillas en las que se presenta una transferencia simultanea 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a y calor son l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umidificació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y la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shumidificació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estas operaciones solamente está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olucradas dos fases y dos componentes: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a fase líquid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agua generalmente) y una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s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aseos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ompuesta por un gas incondensable a temperatura ambiente y en el que la primera 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cuentra como vapo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o se logra mediante el contacto directo con aire, el cual se encuentra a una temperatura menor que el agua. El equipo en el que se realiza esta operación es conocido como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Torre de Enfriamien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equipo corresponde a un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a rellena cilíndrica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altura del relleno es 40" y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ámetro de la columna es 6"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relleno corresponde 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llo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sching de 3/4"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cilindro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ecos de vidrio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ircuito de agua está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ituido por un estanqu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ostatizado, una bomb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ífuga, tuberías de cob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", una manguera d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torno de líquido al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nque,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a placa orificio (conectada 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manómetro de H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ircuito de aire está conformado por un compresor, tuberías de cobre de 3/4", una placa orificio (conectada a un manómetro de, CC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y dos pares de termocuplas, a la entrada y salida del aire de la tor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emás se dispone 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ocuplas a la entrad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a la salida de la columna para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r la temperatura del agua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8T20:03:50Z</dcterms:created>
  <dc:creator>georgette</dc:creator>
  <dc:description/>
  <dc:language>en-US</dc:language>
  <cp:lastModifiedBy>georgette</cp:lastModifiedBy>
  <dcterms:modified xsi:type="dcterms:W3CDTF">2006-08-06T21:42:25Z</dcterms:modified>
  <cp:revision>10</cp:revision>
  <dc:subject/>
  <dc:title>Esta experiencia está diseñada para poder estudiar los fenómenos de transferencia simultánea de calor y materia que ocurren durante una operación de humidificación de aire utilizando agua caliente.</dc:title>
</cp:coreProperties>
</file>