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809-FB24-47BA-94C5-04178043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33F-419E-4407-BC3F-88311089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8BB-FF33-4263-B771-1BDB6355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BCE-FFFC-456C-B5C8-4D9A8BC5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CB6-054A-4F60-9C31-34434A59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922E-6F3A-4D88-863E-34AB2F8A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72D1-5FD2-4AA3-9B9B-0F6C6BF9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7642-8BC5-4CE3-848D-BCB54307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5C03-3ED0-49A0-8CF4-21D6205B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DCE4-FC06-43F5-B9AF-EF61B46E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8A7E-8B96-47E3-A487-8C626E23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69A-94B6-4C60-946F-1E5A11F8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015B-F454-43DB-8E4B-76E15883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30F7-8B6C-47E2-AB1C-63F48CB4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A872-1336-4F09-BC0A-CF4B091F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548E-FAF5-4080-BED7-7CB4FEE7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A7B0-1B27-4E03-8F06-7E217A34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B18-B23F-49AE-A908-88404108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B58-2FBD-45D2-90F3-027B3C91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3F3-09DB-47F0-9189-37AFEA43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F76-44E3-4446-AB8D-86AAAAAD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AB0-63CD-443F-B36C-F9970BB2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288-B9CF-49E5-925C-1B6D625D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FF5-F197-4309-B75C-951873B5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7c8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7c8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0BD6-53FA-424D-81D1-3158CCB09DE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7c89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AC6C-14E1-4A10-B713-D3A5FCDE391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"/>
              </a:rPr>
              <a:t>Columna de Absorción</a:t>
            </a:r>
            <a:br>
              <a:rPr sz="3600"/>
            </a:b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1076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Importancia de Columna de Absorción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Retirar contaminantes gaseosos de una corriente producto que pueden afectar a la especificación final o grado de pureza. (por combustión, eliminar olores, humo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8" name="" descr="Torre de absorción final"/>
          <p:cNvPicPr/>
          <p:nvPr/>
        </p:nvPicPr>
        <p:blipFill>
          <a:blip r:embed="rId1"/>
          <a:stretch/>
        </p:blipFill>
        <p:spPr>
          <a:xfrm>
            <a:off x="7093080" y="4005360"/>
            <a:ext cx="1877760" cy="2852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35640" y="4076640"/>
            <a:ext cx="12193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Torre de absorción final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4221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1" name="" descr="Torres de secado y absorción"/>
          <p:cNvPicPr/>
          <p:nvPr/>
        </p:nvPicPr>
        <p:blipFill>
          <a:blip r:embed="rId2"/>
          <a:stretch/>
        </p:blipFill>
        <p:spPr>
          <a:xfrm>
            <a:off x="1547640" y="4149720"/>
            <a:ext cx="1913040" cy="270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067280" y="5877000"/>
            <a:ext cx="1295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Torres de secado y absorc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6165720"/>
            <a:ext cx="533160" cy="304920"/>
          </a:xfrm>
          <a:prstGeom prst="leftArrow">
            <a:avLst>
              <a:gd name="adj1" fmla="val 50000"/>
              <a:gd name="adj2" fmla="val 43713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Montaje Experimental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2362320"/>
          <a:ext cx="592776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592776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4800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stanque alimentac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876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lo hidraulico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733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 aire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52578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ircuito aire comprimido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27432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n regulador de pres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50292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omba Centrífuga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38862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038480"/>
            <a:ext cx="152640" cy="381240"/>
          </a:xfrm>
          <a:prstGeom prst="upArrow">
            <a:avLst>
              <a:gd name="adj1" fmla="val 50000"/>
              <a:gd name="adj2" fmla="val 62441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800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3048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Columna de Absorción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0400" y="2514600"/>
            <a:ext cx="2543040" cy="339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3520" y="396252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440" y="2514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Preguntas o Cometarios?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01:50:25Z</dcterms:created>
  <dc:creator>Consuelo Sepulveda</dc:creator>
  <dc:description/>
  <dc:language>en-US</dc:language>
  <cp:lastModifiedBy>Marcela Valle</cp:lastModifiedBy>
  <dcterms:modified xsi:type="dcterms:W3CDTF">2006-08-16T04:20:22Z</dcterms:modified>
  <cp:revision>15</cp:revision>
  <dc:subject/>
  <dc:title>Torre de Absorcion</dc:title>
</cp:coreProperties>
</file>