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B32-BA05-48C1-9425-26333FDD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3A1-C2BB-4BA7-BBC1-9CE19B1C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6C6-C01C-4E45-85E9-B399065F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C29-509E-4525-83B4-2355D546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A173-0DAC-494B-9302-009E6717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FDDB-6255-4E90-806E-8432D8C9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F6D0-23C5-4B68-8127-3701178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A24A-AC36-4B1A-A73A-D6FC2C1A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6B4-89DC-48D8-AC24-0988F47E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F675-3CEE-4C0A-9D28-5CC0F155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810A-73F7-4220-8E07-068668D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187-6246-470C-B4A4-5C9EDBA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F16B-8D76-425C-80B0-99990A9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C1D4-89AB-462F-A6CC-B7F208D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4FD2-E616-49F3-9808-1B0DE50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446-E138-4C88-8B76-819B6679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3D7-B3F8-4AB1-A4A2-0BAAF9D5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7B3-2144-4CA2-B705-B4CB5ACC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29A-1E45-4C1D-92E6-E9F0CC57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823-2894-434D-9970-AA3DF372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B12-4811-49C4-9BBC-87418E5C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E64-352E-43EF-831B-D3F8E6C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743-CD17-4857-9062-EA62897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556-84E7-40E3-8020-C5A55D0A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4809-D11D-41FB-9647-77FC5739F60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336F-04FF-4401-AF10-F2E5209E9F3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rre de destil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6-08-16T16:37:45Z</dcterms:modified>
  <cp:revision>28</cp:revision>
  <dc:subject/>
  <dc:title>Electro-obtención (EW)</dc:title>
</cp:coreProperties>
</file>