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21EA-D56E-49FC-90F0-8FC1AC81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069-0528-4BBD-ACE6-015AAD88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EE2-07E3-406D-891C-D09FF0D4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FB3B-0AE0-4B97-881D-206FC7C5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35B-A059-42BC-AEAB-AA9889A4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E82-D079-4BE4-A6E7-C4B1AE27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D0E-5C09-43C1-A1BC-D093ABCD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BFC-B393-4F35-99C2-E788F5C8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471-93C6-4000-84B4-3D504915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425-184B-4E3C-B3BA-D1DBF7E0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5EF-0D96-4D01-9F0C-124B9C1C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D30-5620-4E52-B91C-CA4DAAC3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A70B-43CA-4134-ACEC-17D30772B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tamarugo.cec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éneos y heterogé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2-9-16/1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90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4 de Agosto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IN ROM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celulasa psicrofi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M.Elena Lienqueo  Prof. Integrante: Leandro Herre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ÍNEZ VE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Optimización del cultivo de células HEK 293 en suspensión para el crecimiento y producción de adeno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Z.Gerdtzen Prof Co-guía: B.Andrews  Prof. Integrante: I.Rappa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1 de Agosto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UDINICH ABARCA, MAR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integrado de flujos metabólicos y regulación génica en levaduras</a:t>
            </a:r>
            <a:r>
              <a:rPr b="1" lang="es-ES" sz="1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Asenjo  Prof Co-guía: I. Rapaport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7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eneos y heteroge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4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63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8-02T21:04:25Z</dcterms:modified>
  <cp:revision>126</cp:revision>
  <dc:subject/>
  <dc:title>El ingeniero, etica y sociedad</dc:title>
</cp:coreProperties>
</file>