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0D3B-AE7B-4B50-BEE9-53EA3DA9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B3C6-6CCE-4F19-821D-640B1E29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88D2-AD68-47FB-8862-605143BC0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30CD-80FF-45E4-A97C-3CE7F4008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86B5-92E8-4B20-9568-4063ACAF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71F6-D71D-47DC-A083-E0237639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C5DE-67DA-4730-A76C-7AE1801E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9A04-9D52-4769-B7E9-52C3B109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551F-67D4-472F-8248-70F31DF5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53AA-8654-41DD-B7D1-9B20178C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2101-90BD-44EC-9DCA-CB25AA53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5FFE-BBC8-4EAA-B1AB-F19AEAD7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6621-3066-4459-B51C-CA0E35C47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Simulación geoestadística: conceptos y algorit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odelo multigaussia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56228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que es lejos el más sencillo de to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82880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efini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na función aleatoria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tiene una distribución multigaussiana si toda combinación lineal ponderada de sus valores sigue una distribución Gaussi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8796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 requiere en particular que el histograma sea Gauss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4290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odelo posee propiedades interesan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39625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aracteriza por sus dos primeros momentos (media y variogra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4798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lquier variograma es compatible con la distribución multi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501336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teorema del límite central facilita la búsqueda de algoritmos de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stintos modelos de distribución espaci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modeloscontinuos" descr=""/>
          <p:cNvPicPr/>
          <p:nvPr/>
        </p:nvPicPr>
        <p:blipFill>
          <a:blip r:embed="rId1"/>
          <a:stretch/>
        </p:blipFill>
        <p:spPr>
          <a:xfrm>
            <a:off x="824040" y="1154160"/>
            <a:ext cx="4814640" cy="5398920"/>
          </a:xfrm>
          <a:prstGeom prst="rect">
            <a:avLst/>
          </a:prstGeom>
          <a:ln w="0">
            <a:noFill/>
          </a:ln>
        </p:spPr>
      </p:pic>
      <p:pic>
        <p:nvPicPr>
          <p:cNvPr id="103" name="modeloscategoricos" descr=""/>
          <p:cNvPicPr/>
          <p:nvPr/>
        </p:nvPicPr>
        <p:blipFill>
          <a:blip r:embed="rId2"/>
          <a:stretch/>
        </p:blipFill>
        <p:spPr>
          <a:xfrm>
            <a:off x="5715000" y="1066680"/>
            <a:ext cx="234324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validar la calidad de un algoritmo de simulació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190512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ar el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gram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el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gram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un conjunto de realizaciones con el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modelo (a causa de las fluctuaciones, no se debe considerar cada variograma por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eparado, sino que el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medio sobre todas las realizacion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44792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studio de las estadísticas experimentales de las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298764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inar otros parámetros 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ogram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gramas de indicador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58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studio de las fluctuaciones ergód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403848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fluctuaciones observadas deben ser compatibles con aquellas esperadas en el modelo. En el caso del modelo multigaussiano, para un dominio simulado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251000" y="5037120"/>
                <a:ext cx="65977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[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γ</m:t>
                            </m:r>
                          </m:e>
                        </m:acc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380880" y="5851440"/>
            <a:ext cx="85345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.) es el covariograma geométrico de la intersección d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ominio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asladado por el vector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asos a seguir para la simu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76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Transformación de los datos a valores Gaussi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27016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Verificación del carácter bigaussiano; análisis variográfico de la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8796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Simulación de la función aleatoria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3489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ción de un algoritmo de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4038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ción de varias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463248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cionamiento a los datos Gaussianos disponibles (si el algoritmo no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lo hace directam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55627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Transformación Gaussiana inversa, para volver a la variable ori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neración de números aleator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troduc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82880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r números que puedan ser considerados como realizaciones de una variable aleatoria con una distribución de probabilidad dad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295596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punto de vista computacional, todos los métodos de simulación de números “al azar” generan secuencias periódicas. Por lo tanto, se contenta con generar una sucesión de números “seudo-aleatorios”, cuyo período es suficientemente largo para que presenten, para el usuario, todas las características de números al azar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números uniformes en [0,1]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29718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étodo de las congruencias o método multiplic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021120" y="2057400"/>
                <a:ext cx="27972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si  0</m:t>
                            </m:r>
                            <m:r>
                              <m:t xml:space="preserve">&lt;</m:t>
                            </m:r>
                            <m:r>
                              <m:t xml:space="preserve">u</m:t>
                            </m:r>
                            <m:r>
                              <m:t xml:space="preserve">&lt;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ensidad de probabilidad de una variable U uniforme en [0,1]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3444840"/>
            <a:ext cx="86868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método se basa en dos naturales: el “multiplicador”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el “modulo”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al qu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2,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]. Se genera una sucesión {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entre 0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 al plantear: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514600" y="4435560"/>
                <a:ext cx="16002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]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4114800" y="4359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úmero de “semilla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542592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ego se define como valores simulados de 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6035760"/>
            <a:ext cx="838224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u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números uniformes en [0,1]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965240"/>
            <a:ext cx="83818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7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 :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,..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2422440"/>
            <a:ext cx="83818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1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 :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…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2879640"/>
            <a:ext cx="83818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 :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7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…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35654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que la sucesión de números simulados tenga el periodo máximo 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, se requieren las siguientes cond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4403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 número prim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48610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 / 2 es un número prim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33520" y="5362560"/>
                <a:ext cx="16002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≡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304920" y="53341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59436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ejemplo,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0 000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0 041 463 verifican estas tres condicion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étodo de la inversión o de la anamorfosis unifor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19652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simular una variable aleatoria X con función de 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31240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 U una variable uniforme en [0,1], ento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4403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decir, F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) tiene la misma distribución que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733920" y="2590920"/>
                <a:ext cx="21333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367000" y="3825720"/>
                <a:ext cx="494352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&lt;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304920" y="51656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método sólo requiere que la función F sea invertible y permite simular una variable cualquiera a partir de una variable unifor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: distribución expon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2117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 = 1 – exp(– x) para x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2743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tiene F(X) = U, o sea X = – ln(1 – 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exponentielle2 espagnol" descr=""/>
          <p:cNvPicPr/>
          <p:nvPr/>
        </p:nvPicPr>
        <p:blipFill>
          <a:blip r:embed="rId1"/>
          <a:stretch/>
        </p:blipFill>
        <p:spPr>
          <a:xfrm>
            <a:off x="2438280" y="3352680"/>
            <a:ext cx="434340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ímites del krig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057400"/>
            <a:ext cx="792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kriging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uaviz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l mapa de los valores estimados es más regular que el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mapa de los valores verdad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3434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tensidad del suavizamiento depende de la densidad del muest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5013360"/>
            <a:ext cx="792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arianza de kriging no mide todas las fuentes de incertidumbre (no tom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en cuenta el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fecto propor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29113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puede predecir la ocurrencia de valores extre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41316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puede trabajar sobre el mapa de valores estimados como si se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trataran de los valores verdad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étodo de aceptación y rech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19652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simular una variable aleatoria X de densidad de probabilidad f(x). Se supone que se conoce una densidad g(x) y una constante C tal qu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33368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étodo de aceptación y rechazo consiste en generar puntos (X,Y) uniformes en el área bajo la curva C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(x), planteand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41752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variable aleatoria de densidad de probabilidad g(x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733920" y="2879640"/>
                <a:ext cx="17524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04920" y="47084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U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(X) con U variable aleatoria uniforme en [0,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531828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ego, se eliminan los puntos (X,Y) que no están en el área bajo f. Se muestra que la abscisa X de los puntos no rechazados sigue la distribución que se busca simular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limitar el número de intentos, hay que tomar la menor constante C posibl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: distribu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gauss002 espagnol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5325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imulación por iteraciones markovi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1965240"/>
            <a:ext cx="838188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incipio consiste en construir una sucesión de estados aleatorios {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cuya distribución converge hacia la distribución de probabilidad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se desea simular. En lo siguiente, se denota como I el conjunto de los valores posibles de estos estados y se supone que este conjunto es finito o numerable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341316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ótesi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3886200"/>
            <a:ext cx="83818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estado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ólo depende del estado anterior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-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ena de Marko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441972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dena es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ogéne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, la matriz de probabilidades de transi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entre un estado y el estado siguiente es estacionari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 depende del orden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52578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atriz de transi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p+1)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 un estado y un estado separado por p+1 se calcula por recurrenci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657600" y="6095880"/>
                <a:ext cx="2057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6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dena es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eductibl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 sea, todos los estados pueden comunicar entre sí:</a:t>
            </a:r>
            <a:r>
              <a:rPr b="0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2666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dena es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eriódic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32608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 1 como mayor denominador comú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3870360"/>
            <a:ext cx="83818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istribució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se busca simular es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riant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la matriz de transición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cadena, es decir, si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gue la distribució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tonces lo mismo pas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con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+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sto se traduce por: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5791320"/>
            <a:ext cx="81532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jo estas condiciones, se establece qu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la distribución asintótica de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dependientemente del estado inicial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ice también qu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límite ergódico de la matriz de transi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081240" y="2057400"/>
                <a:ext cx="30560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∈</m:t>
                    </m:r>
                    <m:r>
                      <m:t xml:space="preserve">N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 tal  que  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62120" y="3216240"/>
                <a:ext cx="32414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  tal  que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505320" y="5029200"/>
                <a:ext cx="2133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7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ción de la matriz de transición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204156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sidera una matriz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reductible, tal qu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35053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n varias maneras de definir la matriz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43434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 de Metropolis-Hasting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905120" y="2666880"/>
                <a:ext cx="24350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304920" y="54259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 de Barker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172040" y="4038480"/>
                <a:ext cx="45352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∀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≠</m:t>
                            </m:r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ín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819520" y="5181480"/>
                <a:ext cx="350496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257800" y="2717640"/>
                <a:ext cx="2209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∈</m:t>
                    </m:r>
                    <m:r>
                      <m:t xml:space="preserve">I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tal  que  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1447920" y="2666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27273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8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: distribución de Poisson de parámetro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9652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sidera la siguiente matriz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3886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inicialización: i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chaine de Markov2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629400" cy="12765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04920" y="4343400"/>
            <a:ext cx="830556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simular una variable aleatori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gual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–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con la prob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 con la prob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con la probabilidad complementaria P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623268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plantear i = i +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volver en 2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200400" y="4811760"/>
                <a:ext cx="19810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í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,</m:t>
                    </m:r>
                    <m:r>
                      <m:t xml:space="preserve">i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211560" y="5275440"/>
                <a:ext cx="2795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ín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θ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447920" y="236232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Distintos algoritmos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de simulación de funciones aleatorias multigaussian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1828800"/>
            <a:ext cx="84582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ngamos que se busca simular los valores de una función aleatoria Gaussiana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de variogram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n los sitios {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del espacio. La simulación secuencial se realiza de la siguiente man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2971800"/>
            <a:ext cx="815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simular un valor Gaussiano 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edia 0, varianza 1) y plantear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35654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para cada i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2,... n}, plante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5029200"/>
            <a:ext cx="815364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Y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K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el kriging simple de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 partir de los valores previamente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simulados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...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-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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K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la desviación estándar de kri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 valor Gaussiano independiente de 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200400" y="4267080"/>
                <a:ext cx="29718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8288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ada etapa, se simula el valor en un sitio y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grega el valor simulado a los datos condicionantes para simular los sitios siguient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3489480"/>
            <a:ext cx="82296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muestra que el conjunto de valores simulados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...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 tiene una distribución multigaussiana, con media 0 y variogram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4327560"/>
            <a:ext cx="82296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obtiene una simulación de la función aleatoria en los sitios {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26668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“secuenci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49370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teoría, se puede aplicar a la simulación de cualquier modelo variog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554688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quiere usar u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ging simpl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e media conocida = 0). De lo contrario,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no se logra reproducir correctamente el variogra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18288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23623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sencillo y fácil de ejecu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295596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e refinar una simulación existente (aumentar la resolu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34894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e realizar directamente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ones condicional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un conjunto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e datos: se considera estos datos como si fueran valores ya simul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rincipios de la simulación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73664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ir mapas de valores que reproducen la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ariabilidad re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variable en estudio (histograma, variograma, distribución espacial..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2590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a mapa representa un escenario posi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32004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 de las simul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373392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nálisis de riesg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scenario más optimista / pesim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42670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stima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romediar los e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48610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edición de la incertidumbr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qué tan distintos son los e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5470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ambio de soport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bloquear los valores en cada mapa simu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1600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t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718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lent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l sistema de kriging se vuelve cada vez más grande a medid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que se desarrolla la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21178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eces, problemas numéricos cuando se trata de simular un variograma muy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regular en el origen (matrices de kriging casi-singula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379404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práctica, se restringe los valores condicionantes (datos iniciales +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valores previamente simulados) a los más cercanos del sitio a estimar, e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decir, se usa una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indad móvi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493704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nte de imprecisión, que requiere ciertos “trucos” para minimizar su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efec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569916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atorización del orden de los sitios a simular, para evitar artefa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623268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illas múltiples: simular en una malla amplia, luego refi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1600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21178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de una función aleatoria Gaussiana de variograma esférico + pepa en un dominio de 400 × 400: variogramas de 100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SERRA219%20-%20FIGURE2" descr=""/>
          <p:cNvPicPr/>
          <p:nvPr/>
        </p:nvPicPr>
        <p:blipFill>
          <a:blip r:embed="rId1"/>
          <a:stretch/>
        </p:blipFill>
        <p:spPr>
          <a:xfrm>
            <a:off x="228600" y="3287880"/>
            <a:ext cx="4218120" cy="3417840"/>
          </a:xfrm>
          <a:prstGeom prst="rect">
            <a:avLst/>
          </a:prstGeom>
          <a:ln w="0">
            <a:noFill/>
          </a:ln>
        </p:spPr>
      </p:pic>
      <p:pic>
        <p:nvPicPr>
          <p:cNvPr id="237" name="SERRA219%20-%20FIGURE6" descr=""/>
          <p:cNvPicPr/>
          <p:nvPr/>
        </p:nvPicPr>
        <p:blipFill>
          <a:blip r:embed="rId2"/>
          <a:stretch/>
        </p:blipFill>
        <p:spPr>
          <a:xfrm>
            <a:off x="4697280" y="3289320"/>
            <a:ext cx="4218120" cy="34164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143000" y="28954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valores condicion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86400" y="28954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valores condicion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descomposición matricial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1676520"/>
            <a:ext cx="838224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simular los valores de una variable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de variogram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y covarianza C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1 –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n los sitios {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del espacio. Se introduce la matriz de varianza-covarianza de los valores en estos siti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29000" y="3032280"/>
            <a:ext cx="23623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[C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,j = 1...m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37940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usa la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escomposición de Cholewsk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Lower-Upper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6477120" y="3807000"/>
                <a:ext cx="9903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457200" y="43434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mente, se plante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114800" y="4916520"/>
                <a:ext cx="946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457200" y="5546880"/>
            <a:ext cx="8458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= 1... 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 vector de variables Gaussianas independientes N(0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6080040"/>
            <a:ext cx="8458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= 1... 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 los valores simulados en los sitios {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descomposición matricial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228600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teóricamente correcto, se aplica a cualquier variograma y no comete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impreci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31082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adaptar a la simulación condicional a un conjunto de da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4632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16564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escomposición de Cholewski es muy lenta cuando el número de sitios 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imular es importante (&gt; 1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64176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vez que se tiene la descomposición de Cholewski, se puede calcular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numerosas realizaciones muy rápid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descomposición matricial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228600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de una función aleatoria Gaussiana de variograma esférico + pepa en un dominio de 400 × 100 (malla cada 4m): variogramas de 100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lusim" descr=""/>
          <p:cNvPicPr/>
          <p:nvPr/>
        </p:nvPicPr>
        <p:blipFill>
          <a:blip r:embed="rId1"/>
          <a:stretch/>
        </p:blipFill>
        <p:spPr>
          <a:xfrm>
            <a:off x="2362320" y="3352680"/>
            <a:ext cx="422100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espectral continuo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Teorema de Boch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22096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 función de covarianza C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continua en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la transformada de Fourier de una medid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sitiva integrab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4435560"/>
            <a:ext cx="845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ecuencia aleatoria en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distribució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ase aleatoria de distribución uniforme en [0,2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276720" y="3181320"/>
                <a:ext cx="2514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&lt;</m:t>
                            </m:r>
                            <m:r>
                              <m:t xml:space="preserve">h</m:t>
                            </m:r>
                            <m:r>
                              <m:t xml:space="preserve"> </m:t>
                            </m:r>
                            <m:r>
                              <m:t xml:space="preserve">|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&gt;</m:t>
                            </m:r>
                            <m:r>
                              <m:t xml:space="preserve"> </m:t>
                            </m:r>
                            <m:r>
                              <m:t xml:space="preserve">χ</m:t>
                            </m:r>
                            <m:r>
                              <m:t xml:space="preserve">(</m:t>
                            </m:r>
                            <m:r>
                              <m:t xml:space="preserve">dt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380880" y="3962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inci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2952720" y="5959440"/>
                <a:ext cx="34480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&gt;+</m:t>
                    </m:r>
                    <m:r>
                      <m:t xml:space="preserve">Φ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57200" y="550224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lant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espectral continuo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8892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obtener una simulación a la vez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ódic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gaussian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ay que sumar numerosas simulaciones independientes</a:t>
            </a:r>
            <a:r>
              <a:rPr b="0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51152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extremadamente ráp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3962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os y cont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0292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eces, dificultad de explicitar la medida espectral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637000" y="2935440"/>
                <a:ext cx="39160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&gt;+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457200" y="56228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entras más rápido decrece C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n la vecindad del origen, más componente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elementales se debe sumar (a veces, varios cientos de mi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inci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220968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ficar el problema de la simulación en espacios multidimensionales, usando simulaciones unidimensionales y “esparciéndolas” al espacio 2D o 3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40384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34290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&lt;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120" y="45720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a función aleatoria uni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50292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 vector del espacio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54864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x | u &gt;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la proyección del siti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la recta orientada por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épandage espagnol" descr=""/>
          <p:cNvPicPr/>
          <p:nvPr/>
        </p:nvPicPr>
        <p:blipFill>
          <a:blip r:embed="rId1"/>
          <a:stretch/>
        </p:blipFill>
        <p:spPr>
          <a:xfrm>
            <a:off x="228600" y="2705040"/>
            <a:ext cx="8686800" cy="32385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52280" y="19810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aleatoria en 1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495680" y="198108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arcimiento a 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elación entre las covarianzas en 1 y d dimen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281952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&lt;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356544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 covarianza se vuelve isótropa si se sortea la dirección de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 azar, o sea, se reemplaza el vector determinístic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un vector aleatori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2209680"/>
            <a:ext cx="784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n 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covarianza de 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covarianza de Y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Se tie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455616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{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&lt;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)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5257800"/>
            <a:ext cx="8305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aplicación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biyectiva, de modo que se puede simular un proceso multidimensional de covarianz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ayuda de un proceso unidimensional de covarianz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una dirección aleatoria, gracias a la fórmula de esparcimien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rincipios de la simulación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73664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mulación se basa en la interpretación de la variable regionalizada como una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a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una función ale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2590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 construir otras realizaciones de esta misma función ale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320040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ello, es preciso conocer la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istribución espaci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función aleatoria,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es decir, el conjunto de las distribuciones de probabilidad de múltiples pun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396252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 marginal (histogra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447984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ones bi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01336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ones trivariables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56386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ocer el valor de la media y el variograma es insu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aso de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a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0880" y="220968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lación entre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muy sencill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581280" y="2857680"/>
                <a:ext cx="1990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r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380880" y="38098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aso de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a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434340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lación entre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comple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895480" y="5051520"/>
                <a:ext cx="32004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380880" y="6095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nudo, se prefiere “sumergir”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imular una planta en 3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 1: covarianza esférica en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C1 C3 sph bis espagnol" descr=""/>
          <p:cNvPicPr/>
          <p:nvPr/>
        </p:nvPicPr>
        <p:blipFill>
          <a:blip r:embed="rId1"/>
          <a:stretch/>
        </p:blipFill>
        <p:spPr>
          <a:xfrm>
            <a:off x="380880" y="2878200"/>
            <a:ext cx="8180640" cy="35989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04920" y="2438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arianzas en 1D y 3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67080" y="2438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aleatoria en 1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6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 2: covarianza exponencial en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C1 C3 exp bis espagnol" descr=""/>
          <p:cNvPicPr/>
          <p:nvPr/>
        </p:nvPicPr>
        <p:blipFill>
          <a:blip r:embed="rId1"/>
          <a:stretch/>
        </p:blipFill>
        <p:spPr>
          <a:xfrm>
            <a:off x="457200" y="2878200"/>
            <a:ext cx="8194680" cy="35989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04920" y="2438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arianzas en 1D y 3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2438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aleatoria en 1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7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16765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 como en la simulación espectral, para obtener una simula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ódic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gaussian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ay que sumar numerosas simulaciones independientes</a:t>
            </a:r>
            <a:r>
              <a:rPr b="0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318456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r la covarianz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ociada 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272736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lgoritmo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417528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r 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unción aleatoria unidimensional de covarianz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480" y="4708440"/>
            <a:ext cx="784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r una dirección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iforme o “regular” en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3200400" y="5819760"/>
                <a:ext cx="29066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&lt;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&gt;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380880" y="36576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i = 1... 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52419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e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8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21337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 puede tomar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ciones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lección de las dire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2666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varias alternativas exi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3520" y="318456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ciones “al azar” (uniformes en la esfe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371808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ciones regulares (máximo = 1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42512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ciones equi-distribuidas (casi regula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880" y="502920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úmero de dire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880" y="56228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conseja tomar varios centenares de direcciones, o incluso varios m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unif" descr=""/>
          <p:cNvPicPr/>
          <p:nvPr/>
        </p:nvPicPr>
        <p:blipFill>
          <a:blip r:embed="rId1"/>
          <a:srcRect l="18472" t="7557" r="16093" b="11134"/>
          <a:stretch/>
        </p:blipFill>
        <p:spPr>
          <a:xfrm>
            <a:off x="609480" y="2743200"/>
            <a:ext cx="3409920" cy="3238560"/>
          </a:xfrm>
          <a:prstGeom prst="rect">
            <a:avLst/>
          </a:prstGeom>
          <a:ln w="0">
            <a:noFill/>
          </a:ln>
        </p:spPr>
      </p:pic>
      <p:pic>
        <p:nvPicPr>
          <p:cNvPr id="332" name="vdc" descr=""/>
          <p:cNvPicPr/>
          <p:nvPr/>
        </p:nvPicPr>
        <p:blipFill>
          <a:blip r:embed="rId2"/>
          <a:srcRect l="18269" t="7827" r="15486" b="11404"/>
          <a:stretch/>
        </p:blipFill>
        <p:spPr>
          <a:xfrm>
            <a:off x="4876920" y="2743200"/>
            <a:ext cx="3467160" cy="32479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33520" y="21178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direcciones unifor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724280" y="2117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direcciones equi-distribu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0880" y="167652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 1: simulación de una función aleatoria de covarianza esférica en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bandes tournantes 1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25804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1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8600" y="16765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 2: simulación de una función aleatoria de covarianza esférica en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bandes tournantes 2" descr=""/>
          <p:cNvPicPr/>
          <p:nvPr/>
        </p:nvPicPr>
        <p:blipFill>
          <a:blip r:embed="rId1"/>
          <a:srcRect l="0" t="0" r="0" b="4180"/>
          <a:stretch/>
        </p:blipFill>
        <p:spPr>
          <a:xfrm>
            <a:off x="419040" y="2085840"/>
            <a:ext cx="826776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1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pl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" y="22860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de una función aleatoria Gaussiana de variograma esférico + pepa en un dominio de 400 × 400: variogramas de 100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tb" descr=""/>
          <p:cNvPicPr/>
          <p:nvPr/>
        </p:nvPicPr>
        <p:blipFill>
          <a:blip r:embed="rId1"/>
          <a:stretch/>
        </p:blipFill>
        <p:spPr>
          <a:xfrm>
            <a:off x="2286000" y="3362400"/>
            <a:ext cx="4164120" cy="341928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457200" y="31240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rectas equi-distribu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447920" y="265104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dicionamiento a un conjunto de da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rincipios de la simulación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5238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ción de “fluctuaciones ergódica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204156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función aleatoria es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ódic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 las estadísticas experimentales (histograma, variograma, etc.) calculadas sobre una realización particular, convergen hacia las estadísticas del modelo cuando el dominio se vuelve muy gra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32608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l dominio simulado siempre está aco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87036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lo tanto, se espera observar discrepancias (“fluctuaciones ergódicas”) entre las estadísticas experimentales y aquellas del modelo teórico. Para el variograma, las fluctuaciones son pequeñas cerca del origen y se vuelven considerables para distancias mayores que la mitad del diámetro del campo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dicionamiento directo o por krig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0880" y="32446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secu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0880" y="265104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métodos permiten obtener directamente simulaciones condicion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37782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de descomposición matr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0880" y="45561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todos los otros métodos, se generan simulaciones no condicionales, luego se aplica un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kriging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 condicionarlas a un conjunto de da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0880" y="16765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mulación se dice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ando restituye los valores de los datos en los sitios de muestr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dicionamiento por kriging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625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el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ging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mpl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partir de los datos condicion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0880" y="30481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0880" y="4159080"/>
            <a:ext cx="784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una simulación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ondiciona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el siti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57754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método es válido cuando se simula una función aleatori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obtiene al plante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2781360" y="2438280"/>
                <a:ext cx="36702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380880" y="4708440"/>
            <a:ext cx="80773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el kriging simple de la simulación no condicional a partir de sus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valores en los sitios de muest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dicionamiento por kriging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" y="21938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 una distribución multi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0880" y="46324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práctica, basta con realizar un solo kriging, al escrib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0880" y="1676520"/>
            <a:ext cx="8382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emostra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stablecer que 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C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mple con las siguientes propieda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27273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 esperanza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3260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 la misma covarianza que Y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" y="37940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ituye los valores de los datos en los sitios de muest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2921040" y="5334120"/>
                <a:ext cx="34797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380880" y="60040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jos de los datos, el condicionamiento es inactivo: la simulación condicional coincide con la simulación no condi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ibliografí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0880" y="1676520"/>
            <a:ext cx="838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ès J.P.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finer P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94,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FFT techniques for simulating Gaussian random fields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edings of the conference in mining geostatistics, Berg-en-dal, South Africa, 19-22 September 1994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254304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vis M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7,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on of conditional simulations via the LU triangular decomposition of the covariance matrix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matical Geology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19,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2, p. 91-98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0880" y="3200400"/>
            <a:ext cx="838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ómez-Hernández J. J. and Cassiraga E. F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94, Theory and practice of sequential simulation, </a:t>
            </a:r>
            <a:br>
              <a:rPr sz="1600"/>
            </a:b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. Armstrong and P. A. Dowd (eds.), Geostatistical simulations, Kluwer Academic Publishers, Dordrecht, Holland, p. 111-124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4114800"/>
            <a:ext cx="838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tuéjoul C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94, Non conditional simulation of stationary isotropic multigaussian random functions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. Armstrong and P. A. Dowd (eds.), Geostatistical simulations, Kluwer Academic Publishers, Dordrecht, Holland, p. 147-177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0880" y="504180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ron G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73, The intrinsic random functions and their applications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ces in Applied Probability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5, p. 439-468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0880" y="579132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nozuka M. J. and Jan C. M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72, Digital simulation of random processes and its applications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urnal of sound and vibrations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25, nº1, p. 111-12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condicional vs. no condicio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73664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que sea realista, es deseable que cada mapa respete los valores conocidos en los sitios de muest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25750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“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318456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 reproducir l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 espacial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ste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.e. condicional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a los datos disponibles o “loc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40388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mulación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 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sca solamente construir mapas que tienen la misma variabilidad que la variable en estudio, pero sin tomar en cuenta los valores muestrea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56228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ca reproducir l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 espacial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i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stribución </a:t>
            </a:r>
            <a:r>
              <a:rPr b="1" i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 priori</a:t>
            </a: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/ </a:t>
            </a:r>
            <a:r>
              <a:rPr b="1" i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 posterior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82880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istribución </a:t>
            </a:r>
            <a:r>
              <a:rPr b="1" i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 p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rresponde a la distribu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os valore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e la variable regionalizada, sin tomar en cuenta la existencia de datos cerc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6668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grama, variograma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333684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istribución </a:t>
            </a:r>
            <a:r>
              <a:rPr b="1" i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 poste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scribe el conocimiento o,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equivalentemente, la incertidumbre que tenemos sobre la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42670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jos de los datos: distribució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ste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distribució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i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47847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un sitio con dato: no hay incertidu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531828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un sitio cercano a un dato: la distribució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ste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ene meno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dispersion que la distribució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i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lustración: perfiles de le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simu vs krigeage2 espagnol" descr=""/>
          <p:cNvPicPr/>
          <p:nvPr/>
        </p:nvPicPr>
        <p:blipFill>
          <a:blip r:embed="rId1"/>
          <a:stretch/>
        </p:blipFill>
        <p:spPr>
          <a:xfrm>
            <a:off x="1447920" y="1104840"/>
            <a:ext cx="6400800" cy="5700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905120" y="9907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e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242244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kri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37339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imulación con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os aspectos del problema de la simu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27273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Tener herramientas para inferir un modelo y validar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3368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Construir mapas correspondientes a un modelo de 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9466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Condicionar los mapas a los datos dispon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20574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Definir un modelo de distribución espa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4861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ste curso, el primer punto se restringe al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multigaussian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9:07:57Z</dcterms:created>
  <dc:creator>Xavier Emery</dc:creator>
  <dc:description/>
  <dc:language>en-US</dc:language>
  <cp:lastModifiedBy>Minas</cp:lastModifiedBy>
  <dcterms:modified xsi:type="dcterms:W3CDTF">2004-09-21T01:06:02Z</dcterms:modified>
  <cp:revision>144</cp:revision>
  <dc:subject/>
  <dc:title>Sin título de diapositiva</dc:title>
</cp:coreProperties>
</file>